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2165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6019920"/>
            <a:ext cx="9144000" cy="850680"/>
          </a:xfrm>
          <a:prstGeom prst="rect">
            <a:avLst/>
          </a:prstGeom>
          <a:solidFill>
            <a:srgbClr val="2165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6248520"/>
            <a:ext cx="1752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04920"/>
            <a:ext cx="9144000" cy="75960"/>
          </a:xfrm>
          <a:prstGeom prst="rect">
            <a:avLst/>
          </a:prstGeom>
          <a:solidFill>
            <a:srgbClr val="aaab7b">
              <a:alpha val="50000"/>
            </a:srgbClr>
          </a:solidFill>
          <a:ln w="12600">
            <a:solidFill>
              <a:srgbClr val="aaab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5943600"/>
            <a:ext cx="9144000" cy="76320"/>
          </a:xfrm>
          <a:prstGeom prst="rect">
            <a:avLst/>
          </a:prstGeom>
          <a:solidFill>
            <a:srgbClr val="aaab7b">
              <a:alpha val="50000"/>
            </a:srgbClr>
          </a:solidFill>
          <a:ln w="12600">
            <a:solidFill>
              <a:srgbClr val="aaab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839080" y="6048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0BC90-B0F7-4165-817C-CCF9CC9F394E}" type="slidenum">
              <a:rPr b="0" lang="en-US" sz="10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724280" y="6485040"/>
            <a:ext cx="4051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ffffcc"/>
                </a:solidFill>
                <a:latin typeface="ArialHU"/>
              </a:rPr>
              <a:t>ULOGA PU</a:t>
            </a:r>
            <a:r>
              <a:rPr b="1" lang="en-US" sz="1200" spc="-1" strike="noStrike">
                <a:solidFill>
                  <a:srgbClr val="ffffcc"/>
                </a:solidFill>
                <a:latin typeface="ArialHU"/>
              </a:rPr>
              <a:t>Ž</a:t>
            </a:r>
            <a:r>
              <a:rPr b="1" lang="sr-Latn-CS" sz="1200" spc="-1" strike="noStrike">
                <a:solidFill>
                  <a:srgbClr val="ffffcc"/>
                </a:solidFill>
                <a:latin typeface="ArialHU"/>
              </a:rPr>
              <a:t>S (EIA) I ODLUČIVANJ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50720" y="108000"/>
            <a:ext cx="5257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ffffcc"/>
                </a:solidFill>
                <a:latin typeface="ArialHU"/>
              </a:rPr>
              <a:t>PROJEKAT PODR</a:t>
            </a:r>
            <a:r>
              <a:rPr b="0" lang="en-US" sz="1000" spc="-1" strike="noStrike">
                <a:solidFill>
                  <a:srgbClr val="ffffcc"/>
                </a:solidFill>
                <a:latin typeface="ArialHU"/>
              </a:rPr>
              <a:t>Ž</a:t>
            </a:r>
            <a:r>
              <a:rPr b="0" lang="sr-Latn-CS" sz="1000" spc="-1" strike="noStrike">
                <a:solidFill>
                  <a:srgbClr val="ffffcc"/>
                </a:solidFill>
                <a:latin typeface="ArialHU"/>
              </a:rPr>
              <a:t>AN OD STRANE EVROPSKE UNIJE OBNOVA I PHARE PROGR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450720" y="6292800"/>
            <a:ext cx="2819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cc"/>
                </a:solidFill>
                <a:latin typeface="Arial"/>
              </a:rPr>
              <a:t>RESURSNI VODIČ ZA PU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  <a:ea typeface="Arial"/>
              </a:rPr>
              <a:t>Ž</a:t>
            </a:r>
            <a:r>
              <a:rPr b="0" lang="sr-Latn-CS" sz="1200" spc="-1" strike="noStrike">
                <a:solidFill>
                  <a:srgbClr val="ffffcc"/>
                </a:solidFill>
                <a:latin typeface="Arial"/>
                <a:ea typeface="Arial"/>
              </a:rPr>
              <a:t>S (</a:t>
            </a: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EIA</a:t>
            </a:r>
            <a:r>
              <a:rPr b="0" lang="sr-Latn-CS" sz="1200" spc="-1" strike="noStrike">
                <a:solidFill>
                  <a:srgbClr val="ffffcc"/>
                </a:solidFill>
                <a:latin typeface="Arial"/>
              </a:rPr>
              <a:t>) ZA JUGOISTOČNU EVROP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7848720" y="157320"/>
            <a:ext cx="907920" cy="9032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Optima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  <a:p>
            <a:pPr lvl="1" marL="190440" indent="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2" marL="576360" indent="-195480">
              <a:spcBef>
                <a:spcPts val="34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3" marL="947880" indent="-181080">
              <a:spcBef>
                <a:spcPts val="34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Optima"/>
              </a:rPr>
              <a:t>Fourth Outline Level</a:t>
            </a:r>
            <a:endParaRPr b="0" i="1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4" marL="1338120" indent="-199800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5" marL="1338120" indent="-199800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6" marL="1338120" indent="-199800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2165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04920"/>
            <a:ext cx="9144000" cy="75960"/>
          </a:xfrm>
          <a:prstGeom prst="rect">
            <a:avLst/>
          </a:prstGeom>
          <a:solidFill>
            <a:srgbClr val="aaab7b">
              <a:alpha val="50000"/>
            </a:srgbClr>
          </a:solidFill>
          <a:ln w="12600">
            <a:solidFill>
              <a:srgbClr val="aaab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6019920"/>
            <a:ext cx="9144000" cy="858600"/>
          </a:xfrm>
          <a:prstGeom prst="rect">
            <a:avLst/>
          </a:prstGeom>
          <a:solidFill>
            <a:srgbClr val="2165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5943600"/>
            <a:ext cx="9144000" cy="76320"/>
          </a:xfrm>
          <a:prstGeom prst="rect">
            <a:avLst/>
          </a:prstGeom>
          <a:solidFill>
            <a:srgbClr val="aaab7b">
              <a:alpha val="50000"/>
            </a:srgbClr>
          </a:solidFill>
          <a:ln w="12600">
            <a:solidFill>
              <a:srgbClr val="aaab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25520" y="6151680"/>
            <a:ext cx="3124080" cy="6872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55680" y="54000"/>
            <a:ext cx="57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ffffcc"/>
                </a:solidFill>
                <a:latin typeface="Arial"/>
              </a:rPr>
              <a:t>PROJEKAT PODR</a:t>
            </a:r>
            <a:r>
              <a:rPr b="0" lang="en-US" sz="1000" spc="-1" strike="noStrike">
                <a:solidFill>
                  <a:srgbClr val="ffffcc"/>
                </a:solidFill>
                <a:latin typeface="Arial"/>
                <a:ea typeface="Arial"/>
              </a:rPr>
              <a:t>Ž</a:t>
            </a:r>
            <a:r>
              <a:rPr b="0" lang="sr-Latn-CS" sz="1000" spc="-1" strike="noStrike">
                <a:solidFill>
                  <a:srgbClr val="ffffcc"/>
                </a:solidFill>
                <a:latin typeface="Arial"/>
                <a:ea typeface="Arial"/>
              </a:rPr>
              <a:t>AN OD STRANE EVROPSKE UNIJE OBNOVA I PHARE PROGR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7899480" y="6176880"/>
            <a:ext cx="871560" cy="576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203960" y="6175440"/>
            <a:ext cx="490680" cy="576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5308560" y="6167520"/>
            <a:ext cx="1676520" cy="57636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Optima"/>
              </a:rPr>
              <a:t>Click to edit the outline text format</a:t>
            </a:r>
            <a:endParaRPr b="0" i="1" lang="en-US" sz="2000" spc="-1" strike="noStrike">
              <a:solidFill>
                <a:srgbClr val="000000"/>
              </a:solidFill>
              <a:latin typeface="Optima"/>
            </a:endParaRPr>
          </a:p>
          <a:p>
            <a:pPr lvl="1" marL="190440" indent="0"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2" marL="380880" algn="ctr">
              <a:spcBef>
                <a:spcPts val="34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3" marL="766800" algn="ctr">
              <a:spcBef>
                <a:spcPts val="34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Optima"/>
              </a:rPr>
              <a:t>Fourth Outline Level</a:t>
            </a:r>
            <a:endParaRPr b="0" i="1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4" marL="1138320" algn="ctr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5" marL="1138320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6" marL="1138320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304920"/>
            <a:ext cx="9144000" cy="75960"/>
          </a:xfrm>
          <a:prstGeom prst="rect">
            <a:avLst/>
          </a:prstGeom>
          <a:solidFill>
            <a:srgbClr val="aaab7b">
              <a:alpha val="50000"/>
            </a:srgbClr>
          </a:solidFill>
          <a:ln w="12600">
            <a:solidFill>
              <a:srgbClr val="aaab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946760" y="1471680"/>
            <a:ext cx="375264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SURSNI VODI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Č ZA PU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Ž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  <a:ea typeface="Arial"/>
              </a:rPr>
              <a:t>S (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IA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) ZA JUGOISTOČNU EVROP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833720" y="4257720"/>
            <a:ext cx="3237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800000"/>
                </a:solidFill>
                <a:latin typeface="Arial"/>
                <a:ea typeface="Times New Roman"/>
              </a:rPr>
              <a:t>Uloga PU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Ž</a:t>
            </a:r>
            <a:r>
              <a:rPr b="1" lang="sr-Latn-CS" sz="2800" spc="-1" strike="noStrike">
                <a:solidFill>
                  <a:srgbClr val="800000"/>
                </a:solidFill>
                <a:latin typeface="Arial"/>
                <a:ea typeface="Arial"/>
              </a:rPr>
              <a:t>S (EIA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800000"/>
                </a:solidFill>
                <a:latin typeface="Arial"/>
                <a:ea typeface="Arial"/>
              </a:rPr>
              <a:t>i odlučivan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990720" y="1523880"/>
            <a:ext cx="3598920" cy="3598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990720" y="1054080"/>
            <a:ext cx="6325920" cy="47498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019400" y="1060560"/>
            <a:ext cx="924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"/>
              </a:rPr>
              <a:t>Identifikacija</a:t>
            </a:r>
            <a:br>
              <a:rPr sz="1000"/>
            </a:br>
            <a:r>
              <a:rPr b="0" lang="sr-Latn-CS" sz="1000" spc="-1" strike="noStrike">
                <a:solidFill>
                  <a:srgbClr val="000000"/>
                </a:solidFill>
                <a:latin typeface="Arial"/>
              </a:rPr>
              <a:t>predlog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041720" y="1589040"/>
            <a:ext cx="844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"/>
              </a:rPr>
              <a:t>Utvrđivanje</a:t>
            </a:r>
            <a:br>
              <a:rPr sz="1000"/>
            </a:br>
            <a:r>
              <a:rPr b="0" lang="sr-Latn-CS" sz="1000" spc="-1" strike="noStrike">
                <a:solidFill>
                  <a:srgbClr val="000000"/>
                </a:solidFill>
                <a:latin typeface="Arial"/>
              </a:rPr>
              <a:t>potreb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022280" y="2035080"/>
            <a:ext cx="9565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900" spc="-1" strike="noStrike">
                <a:solidFill>
                  <a:srgbClr val="000000"/>
                </a:solidFill>
                <a:latin typeface="Arial"/>
              </a:rPr>
              <a:t>Inicijalno</a:t>
            </a:r>
            <a:br>
              <a:rPr sz="900"/>
            </a:br>
            <a:r>
              <a:rPr b="0" lang="sr-Latn-CS" sz="900" spc="-1" strike="noStrike">
                <a:solidFill>
                  <a:srgbClr val="000000"/>
                </a:solidFill>
                <a:latin typeface="Arial"/>
              </a:rPr>
              <a:t>ispitivanje</a:t>
            </a:r>
            <a:br>
              <a:rPr sz="900"/>
            </a:br>
            <a:r>
              <a:rPr b="0" lang="sr-Latn-CS" sz="900" spc="-1" strike="noStrike">
                <a:solidFill>
                  <a:srgbClr val="000000"/>
                </a:solidFill>
                <a:latin typeface="Arial"/>
              </a:rPr>
              <a:t>zivotne sredi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532840" y="1557360"/>
            <a:ext cx="965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"/>
              </a:rPr>
              <a:t>Nije potrebna </a:t>
            </a:r>
            <a:br>
              <a:rPr sz="1000"/>
            </a:br>
            <a:r>
              <a:rPr b="0" lang="sr-Latn-CS" sz="1000" spc="-1" strike="noStrike">
                <a:solidFill>
                  <a:srgbClr val="000000"/>
                </a:solidFill>
                <a:latin typeface="Arial"/>
              </a:rPr>
              <a:t>E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563800" y="3413160"/>
            <a:ext cx="1067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"/>
                <a:ea typeface="Arial"/>
              </a:rPr>
              <a:t>Učešće javnost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622840" y="3745080"/>
            <a:ext cx="185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"/>
              </a:rPr>
              <a:t>Učešće javnosti se obično </a:t>
            </a:r>
            <a:br>
              <a:rPr sz="1000"/>
            </a:br>
            <a:r>
              <a:rPr b="0" lang="sr-Latn-CS" sz="1000" spc="-1" strike="noStrike">
                <a:solidFill>
                  <a:srgbClr val="000000"/>
                </a:solidFill>
                <a:latin typeface="Arial"/>
              </a:rPr>
              <a:t>javlja pri ovim koracima</a:t>
            </a:r>
            <a:br>
              <a:rPr sz="1000"/>
            </a:br>
            <a:r>
              <a:rPr b="0" lang="sr-Latn-CS" sz="1000" spc="-1" strike="noStrike">
                <a:solidFill>
                  <a:srgbClr val="000000"/>
                </a:solidFill>
                <a:latin typeface="Arial"/>
              </a:rPr>
              <a:t>moze se pojaviti i na bilo koje</a:t>
            </a:r>
            <a:br>
              <a:rPr sz="1000"/>
            </a:br>
            <a:r>
              <a:rPr b="0" lang="sr-Latn-CS" sz="1000" spc="-1" strike="noStrike">
                <a:solidFill>
                  <a:srgbClr val="000000"/>
                </a:solidFill>
                <a:latin typeface="Arial"/>
              </a:rPr>
              <a:t>drugom koraku u procesu E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457000" y="1587600"/>
            <a:ext cx="91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"/>
              </a:rPr>
              <a:t>EIA potreb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519280" y="204804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dre</a:t>
            </a:r>
            <a:r>
              <a:rPr b="0" lang="sr-Latn-CS" sz="1000" spc="-1" strike="noStrike">
                <a:solidFill>
                  <a:srgbClr val="000000"/>
                </a:solidFill>
                <a:latin typeface="Arial"/>
              </a:rPr>
              <a:t>đivanje</a:t>
            </a:r>
            <a:br>
              <a:rPr sz="1000"/>
            </a:br>
            <a:r>
              <a:rPr b="0" lang="sr-Latn-CS" sz="1000" spc="-1" strike="noStrike">
                <a:solidFill>
                  <a:srgbClr val="000000"/>
                </a:solidFill>
                <a:latin typeface="Arial"/>
              </a:rPr>
              <a:t>okvir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420640" y="2590920"/>
            <a:ext cx="9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"/>
              </a:rPr>
              <a:t>Analiza uticaj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403360" y="3013200"/>
            <a:ext cx="109512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Ublazavanje </a:t>
            </a:r>
            <a:br>
              <a:rPr sz="800"/>
            </a:b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uticaja i </a:t>
            </a:r>
            <a:br>
              <a:rPr sz="800"/>
            </a:b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menađzment uticaj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414880" y="5397480"/>
            <a:ext cx="1063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"/>
                <a:ea typeface="Arial"/>
              </a:rPr>
              <a:t>Implementacija </a:t>
            </a:r>
            <a:br>
              <a:rPr sz="1000"/>
            </a:br>
            <a:r>
              <a:rPr b="0" lang="sr-Latn-CS" sz="1000" spc="-1" strike="noStrike">
                <a:solidFill>
                  <a:srgbClr val="000000"/>
                </a:solidFill>
                <a:latin typeface="Arial"/>
                <a:ea typeface="Arial"/>
              </a:rPr>
              <a:t>i monitor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512600" y="5084640"/>
            <a:ext cx="208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"/>
                <a:ea typeface="Arial"/>
              </a:rPr>
              <a:t>Informacija iz ovog procesa </a:t>
            </a:r>
            <a:br>
              <a:rPr sz="1000"/>
            </a:br>
            <a:r>
              <a:rPr b="0" lang="sr-Latn-CS" sz="1000" spc="-1" strike="noStrike">
                <a:solidFill>
                  <a:srgbClr val="000000"/>
                </a:solidFill>
                <a:latin typeface="Arial"/>
                <a:ea typeface="Arial"/>
              </a:rPr>
              <a:t>doprinosi efektivnosti EIA proces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045080" y="4546440"/>
            <a:ext cx="96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sr-Latn-CS" sz="1000" spc="-1" strike="noStrike">
                <a:solidFill>
                  <a:srgbClr val="000000"/>
                </a:solidFill>
                <a:latin typeface="Arial"/>
                <a:ea typeface="Arial"/>
              </a:rPr>
              <a:t>ije odobre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063800" y="4064040"/>
            <a:ext cx="979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sr-Latn-CS" sz="1000" spc="-1" strike="noStrike">
                <a:solidFill>
                  <a:srgbClr val="000000"/>
                </a:solidFill>
                <a:latin typeface="Arial"/>
                <a:ea typeface="Arial"/>
              </a:rPr>
              <a:t>edizajniranj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39040" y="3492360"/>
            <a:ext cx="833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novno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dno</a:t>
            </a:r>
            <a:r>
              <a:rPr b="0" lang="sr-Latn-CS" sz="1000" spc="-1" strike="noStrike">
                <a:solidFill>
                  <a:srgbClr val="000000"/>
                </a:solidFill>
                <a:latin typeface="Arial"/>
              </a:rPr>
              <a:t>šenj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1000" y="3568680"/>
            <a:ext cx="84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"/>
              </a:rPr>
              <a:t>EIA Izveštaj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73400" y="4051440"/>
            <a:ext cx="131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"/>
                <a:ea typeface="Arial"/>
              </a:rPr>
              <a:t>Pregled izveštaj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443320" y="4444920"/>
            <a:ext cx="992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9933"/>
                </a:solidFill>
                <a:latin typeface="Arial"/>
                <a:ea typeface="Arial"/>
              </a:rPr>
              <a:t>D</a:t>
            </a:r>
            <a:r>
              <a:rPr b="1" lang="sr-Latn-CS" sz="1000" spc="-1" strike="noStrike">
                <a:solidFill>
                  <a:srgbClr val="339933"/>
                </a:solidFill>
                <a:latin typeface="Arial"/>
                <a:ea typeface="Arial"/>
              </a:rPr>
              <a:t>onošenje</a:t>
            </a:r>
            <a:br>
              <a:rPr sz="1000"/>
            </a:br>
            <a:r>
              <a:rPr b="1" lang="sr-Latn-CS" sz="1000" spc="-1" strike="noStrike">
                <a:solidFill>
                  <a:srgbClr val="339933"/>
                </a:solidFill>
                <a:latin typeface="Arial"/>
                <a:ea typeface="Arial"/>
              </a:rPr>
              <a:t>odluk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58160" y="5046840"/>
            <a:ext cx="743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"/>
                <a:ea typeface="Arial"/>
              </a:rPr>
              <a:t>Odobre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31280" y="736200"/>
            <a:ext cx="74170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800000"/>
                </a:solidFill>
                <a:latin typeface="Arial"/>
              </a:rPr>
              <a:t>Uloga PU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Ž</a:t>
            </a:r>
            <a:r>
              <a:rPr b="1" lang="sr-Latn-CS" sz="2800" spc="-1" strike="noStrike">
                <a:solidFill>
                  <a:srgbClr val="800000"/>
                </a:solidFill>
                <a:latin typeface="Arial"/>
              </a:rPr>
              <a:t>S i konačnog odlučivanja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0520" y="2450880"/>
            <a:ext cx="78742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82960" indent="-282960">
              <a:lnSpc>
                <a:spcPct val="11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pružanje informacija potrebnih u procesu odlučivanja;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82960" indent="-282960">
              <a:lnSpc>
                <a:spcPct val="11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obezbeđivanje svih informacija ('inputa') koje pomažu prilikom određivanja o tome da li je predlog prihvatljiv;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82960" indent="-282960">
              <a:lnSpc>
                <a:spcPct val="11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Pomoć pri uspostavljanju uslova i termina potrebnih za sprovođenje projekta u delo. 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36240" y="691920"/>
            <a:ext cx="735948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800000"/>
                </a:solidFill>
                <a:latin typeface="Arial"/>
              </a:rPr>
              <a:t>Uloga procene uticaja na životnu sredinu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80520" y="2451240"/>
            <a:ext cx="6946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Predlog je odobren;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Predlog je odobren uz određene uslove;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Predlog je zadržan dok se ne izvrše dalja proučavanja;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Predlog je vraćen na reviziju i ponovno podnošenje;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Predlog je odbačen.</a:t>
            </a:r>
            <a:r>
              <a:rPr b="1" lang="sl-SI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37760" y="738000"/>
            <a:ext cx="8325000" cy="147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800000"/>
                </a:solidFill>
                <a:latin typeface="Arial"/>
              </a:rPr>
              <a:t>Uzimanje u obzir procene uticaja na životnu sredinu prilikom odlučivanja u skladu sa Direktivom EC o proceni uticaja na životnu sredinu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80880" y="2634840"/>
            <a:ext cx="7391520" cy="26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U toku postupka davanja saglasnosti na projekat moraju se uzeti u obzir konsultacije javnosti kao i izveštaj o proceni uticaja na životnu sredinu (član 8).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Nadležni organ dužan je potom da informiše javnost o sledećem: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lvl="1" marL="876240" indent="-393480">
              <a:lnSpc>
                <a:spcPct val="110000"/>
              </a:lnSpc>
              <a:spcBef>
                <a:spcPts val="400"/>
              </a:spcBef>
              <a:buClr>
                <a:srgbClr val="800000"/>
              </a:buClr>
              <a:buFont typeface="Times"/>
              <a:buChar char="•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sadržina odluke i uslovi koji se nameću; 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Optima"/>
            </a:endParaRPr>
          </a:p>
          <a:p>
            <a:pPr lvl="1" marL="876240" indent="-393480">
              <a:lnSpc>
                <a:spcPct val="110000"/>
              </a:lnSpc>
              <a:spcBef>
                <a:spcPts val="400"/>
              </a:spcBef>
              <a:buClr>
                <a:srgbClr val="800000"/>
              </a:buClr>
              <a:buFont typeface="Times"/>
              <a:buChar char="•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glavni razlozi i elementi na kojima se zasniva odluka, uključujući i  informacije o postupku učestvovanja javnosti, kao i opis glavnih mera preduzetih kako bi se izbegla, smanjila i, ako je moguće, otklonila najvažnija nepovoljna dejstva (član 9.1).</a:t>
            </a:r>
            <a:endParaRPr b="0" lang="en-US" sz="16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25160" y="725040"/>
            <a:ext cx="7181640" cy="12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800000"/>
                </a:solidFill>
                <a:latin typeface="Arial"/>
              </a:rPr>
              <a:t>Uzimanje u obzir procene uticaja na životnu sredinu prilikom odlučivanja u skladu sa  procedurom koju primenjuje Svetska banka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880" y="2742840"/>
            <a:ext cx="69343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Postoje generalni uslovi kojima se obezbeđuje da se svakako uzmu u obzir rezultati konsultovanja javnosti u procesu odlučivanja kao i u primeni projekta.(Član 20 dokumenta OP 4.01).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31280" y="731880"/>
            <a:ext cx="741708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800000"/>
                </a:solidFill>
                <a:latin typeface="Arial"/>
              </a:rPr>
              <a:t>Uzimanje u obzir procene uticaja na životnu sredinu prilikom odlučivanja u skladu sa EBRD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-114480" y="2412720"/>
            <a:ext cx="84204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38080" indent="-35532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Sponzori projekta treba da informišu one koji su dali svoje komentare, kao i javnost koja može biti izložena uticajima, o tome kako su njihovi komentari bili uzeti u obzir. (Dokument o politici životne sredine, Aneks 2, Član 3.8). </a:t>
            </a:r>
            <a:endParaRPr b="0" lang="en-US" sz="1600" spc="-1" strike="noStrike">
              <a:solidFill>
                <a:srgbClr val="000000"/>
              </a:solidFill>
              <a:latin typeface="Optima"/>
            </a:endParaRPr>
          </a:p>
          <a:p>
            <a:pPr lvl="1" marL="838080" indent="-355320">
              <a:lnSpc>
                <a:spcPct val="7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U cilju obavljanja razmatranja u svojim okvirima, EBRD priprema kratak prikaz komentara javnosti kao i izveštaja koji se odnosi na konsultovanje javnosti. Pri tom posebno uzima u obzir sledeće: </a:t>
            </a:r>
            <a:endParaRPr b="0" lang="en-US" sz="1600" spc="-1" strike="noStrike">
              <a:solidFill>
                <a:srgbClr val="000000"/>
              </a:solidFill>
              <a:latin typeface="Optima"/>
            </a:endParaRPr>
          </a:p>
          <a:p>
            <a:pPr lvl="2" marL="1320840" indent="-26676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SzPct val="6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sve komentare, kao i izveštaj o tome kako su na njih reagovali sponzori projekta; i</a:t>
            </a:r>
            <a:endParaRPr b="0" lang="en-US" sz="1600" spc="-1" strike="noStrike">
              <a:solidFill>
                <a:srgbClr val="000000"/>
              </a:solidFill>
              <a:latin typeface="Optima"/>
            </a:endParaRPr>
          </a:p>
          <a:p>
            <a:pPr lvl="2" marL="1320840" indent="-26676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SzPct val="6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- način na koji su sponzori reagovali na uslove Svetske banke u vezi sa konsultovanjem javnosti.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Env. Policy, An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k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2, 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Član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3.8)</a:t>
            </a:r>
            <a:endParaRPr b="0" lang="en-US" sz="16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44600" y="729720"/>
            <a:ext cx="741672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800000"/>
                </a:solidFill>
                <a:latin typeface="Arial"/>
              </a:rPr>
              <a:t>Uzimanje u obzir procene uticaja na životnu sredinu prilikom odlučivanja u skladu sa Espoo Konvencijom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80880" y="2457000"/>
            <a:ext cx="7848720" cy="26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rvobitno zainteresovana strana (tj predla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u svojoj završnoj odluci na predl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ž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nu aktivnost, treba uzeti u obzir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1600"/>
            </a:b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lvl="1" marL="893880" indent="-322200">
              <a:lnSpc>
                <a:spcPct val="90000"/>
              </a:lnSpc>
              <a:spcBef>
                <a:spcPts val="400"/>
              </a:spcBef>
              <a:buClr>
                <a:srgbClr val="8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dokumentaciju PU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; 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Optima"/>
            </a:endParaRPr>
          </a:p>
          <a:p>
            <a:pPr lvl="1" marL="893880" indent="-322200">
              <a:lnSpc>
                <a:spcPct val="90000"/>
              </a:lnSpc>
              <a:spcBef>
                <a:spcPts val="400"/>
              </a:spcBef>
              <a:buClr>
                <a:srgbClr val="8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komentare koji su pristigli tokom prekograničnih konsultacija za vreme utvrđivanja okvira kao i pregleda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U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Izveštaja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(član.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6.1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3808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380880" indent="-38088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Prvobitno zainteresovana strana (tj. predlagač) dužna je da dostavi strani koja je izložena uticajima konačnu odluku o predloženoj aktivnosti, kao i da je obavesti o razlozima na kojima je ta odluka zasnovana (član 6.2). 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31640" y="725040"/>
            <a:ext cx="746784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800000"/>
                </a:solidFill>
                <a:latin typeface="Arial"/>
              </a:rPr>
              <a:t>Uzimanje u obzir procene uticaja na životnu sredinu prilikom odlučivanja u skladu sa Arhuskom konvencijom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520" y="2450880"/>
            <a:ext cx="75438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1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Svaka strana dužna je da  svakako uzme u obzir ishod postupka učešća javnosti u donošenju odluke (član 6.8).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1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Svaka strana dužna je da obzbedi da  javni organi odmah informišu javnost o tome kada je odluka doneta. Tekst odluke, kao i razlozi i elementi na osnovu kojih je ona doneta, treba da budu dostupni javnosti (član 6.9).</a:t>
            </a:r>
            <a:r>
              <a:rPr b="1" lang="sl-SI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Miroslav Chodak</dc:creator>
  <dc:description/>
  <dc:language>en-US</dc:language>
  <cp:lastModifiedBy>Agata Miazga</cp:lastModifiedBy>
  <cp:lastPrinted>2002-04-02T12:21:41Z</cp:lastPrinted>
  <dcterms:modified xsi:type="dcterms:W3CDTF">2004-03-31T11:36:19Z</dcterms:modified>
  <cp:revision>369</cp:revision>
  <dc:subject/>
  <dc:title>No Slide Title</dc:title>
</cp:coreProperties>
</file>