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-648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E773-DC55-466E-8B2E-971EA7F49F58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128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REVIZI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27920"/>
            <a:ext cx="3657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31160" y="152280"/>
            <a:ext cx="895320" cy="90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31680"/>
            <a:ext cx="571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5012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9748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54400"/>
            <a:ext cx="3829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47120" y="4727520"/>
            <a:ext cx="154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Reviz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15920" y="1519200"/>
            <a:ext cx="35737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85880" y="5486400"/>
            <a:ext cx="653040" cy="366480"/>
            <a:chOff x="25858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966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25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4560" y="1631880"/>
            <a:ext cx="23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428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84360" y="3035160"/>
            <a:ext cx="847080" cy="477720"/>
            <a:chOff x="2484360" y="303516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93080" y="3035160"/>
              <a:ext cx="738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31366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3238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94520" y="4089240"/>
            <a:ext cx="62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Re</a:t>
            </a: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vizija</a:t>
            </a:r>
            <a:r>
              <a:rPr b="1" lang="en-GB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722160"/>
            <a:ext cx="558828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Celi na revizijata na OV@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7086600" cy="16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analizira kvalitetot na izve{tajot za OV@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zemat predvid komentarite na javnos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vidi dali informaciite se dovol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identifikuvaat eventualni nedostatoci {to treba da se koregiraa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5160" y="718920"/>
            <a:ext cx="6737400" cy="7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Na {to treba da se obrne vnimanie za vreme na revizijata na OV@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8280" y="2442960"/>
            <a:ext cx="73915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Revizijata treba da e vo soglasnost so listata na zada~i za izve{tajot za OV@S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nformaciite treba da se to~ni i tehni~ki izdr`a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Komentarite na javnosta treba da se zemeni predvi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otrebno e da ima celosen i zadovoluva~ki iskaz so klu~nite naod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nformaciite treba da se jasni i razbirliv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nformaciite treba da se dovolni za da mo`e da se donesat odluk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70164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Koj e zadol`en da napravi revizija na OV@S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68280" y="2460240"/>
            <a:ext cx="8013600" cy="29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MAC C Swiss"/>
              </a:rPr>
              <a:t>Agencijata za `ivotna sredina - Kanada (opse`ni studii)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MAC C Swiss"/>
              </a:rPr>
              <a:t>Nezavisna panel grupa (ili medijator) - Kanada (javni istra`uvawa)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MAC C Swiss"/>
              </a:rPr>
              <a:t>Postojana komisija - Holandija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MAC C Swiss"/>
              </a:rPr>
              <a:t>Me|u-agenciski komitet - SAD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MAC C Swiss"/>
              </a:rPr>
              <a:t>Organ {to e zadole`n za planirawe - Obedinetoto Kralstvo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25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MAC C Swiss"/>
              </a:rPr>
              <a:t>Komentarite i pridonesot na javnosta isto taka mora da bidat zemeni predvid (direktiva na EU)</a:t>
            </a:r>
            <a:endParaRPr b="1" lang="en-US" sz="1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44600" y="677880"/>
            <a:ext cx="6959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Metodi za revizija na OV@S</a:t>
            </a:r>
            <a:endParaRPr b="1" lang="en-US" sz="32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442960"/>
            <a:ext cx="7239240" cy="238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o`e da se koristat slednive metodi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Op{ti spisoci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Spisoci {to se odnesuvaat na konkretni proekt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Reviziski paket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Eksperti i akreditirani revizori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Javni raspravi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ogrami za analiza na efektivnost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714240"/>
            <a:ext cx="7416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Formal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na revizija na izve{taite za OV@S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: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 primeri za zemji ~lenki na 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EU - 1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8280" y="2400480"/>
            <a:ext cx="847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Portugal</a:t>
            </a:r>
            <a:r>
              <a:rPr b="1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ija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inisterstvoto za `ivotna sredina im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20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abotni denovi za da obznani dali izve{tajot za OV@S gi ispolnuva barawata utvrdeni vo zakonite ili se potrebni dopolnitelni informaci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Ir</a:t>
            </a:r>
            <a:r>
              <a:rPr b="1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rska ima izgotveno vodilk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 pridru`ni sove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ija cel e da im pomognat na organite zadol`eni da nosat odluki vo ocenuvaweto na adekvatnosta na izve{taite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[p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zve{tajot za OV@S se proveruva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vizavi uslovite utvrdeni za vreme na odreduvaweto na obemot (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p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 me|u uslovite e i u~estvoto na javnos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8680" y="720720"/>
            <a:ext cx="7188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Formal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na revizija na izve{taite za OV@S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: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 primeri za zemji ~lenki na </a:t>
            </a:r>
            <a:br>
              <a:rPr sz="2800"/>
            </a:b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EU - 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[ved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elegacijata za ispituvawe na sostojbata so `ivotn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o ramkite na oblasnite administrativni odbori i ekolo{ki sudov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~uva dali edna OV@S gi ispolnuva barawata na zakonodavstvoto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Holandija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Edna nezavisna komisija za OV@S izdava preporaki {to se odnesuvaat na konkretni proekti za vreme na odreduvaweto na obemo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scop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)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ja analizira adekvatnosta na izve{tajot za OV@S i go dostavuva nejzinoto mislewe do organot zadol`en za donesuvawe odluk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2:50Z</dcterms:modified>
  <cp:revision>360</cp:revision>
  <dc:subject/>
  <dc:title>No Slide Title</dc:title>
</cp:coreProperties>
</file>