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C349-2198-4D08-873B-6B8453B85249}" type="slidenum"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4240" y="656100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MAC C Swiss"/>
              </a:rPr>
              <a:t>ANALIZA NA VLIJANI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4600" y="76320"/>
            <a:ext cx="52578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178680"/>
            <a:ext cx="34354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24680" y="163440"/>
            <a:ext cx="903240" cy="90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76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1640" y="615168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5680" y="5400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754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86760" y="6172200"/>
            <a:ext cx="4903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23040" y="6205680"/>
            <a:ext cx="1676160" cy="57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3800" y="1479960"/>
            <a:ext cx="3802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97240" y="4726080"/>
            <a:ext cx="37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Analiza na vlijani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7760" y="1066680"/>
            <a:ext cx="632628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573280" y="5486400"/>
            <a:ext cx="653040" cy="366480"/>
            <a:chOff x="2573280" y="5486400"/>
            <a:chExt cx="653040" cy="366480"/>
          </a:xfrm>
        </p:grpSpPr>
        <p:sp>
          <p:nvSpPr>
            <p:cNvPr id="101" name=""/>
            <p:cNvSpPr/>
            <p:nvPr/>
          </p:nvSpPr>
          <p:spPr>
            <a:xfrm>
              <a:off x="2584080" y="5486400"/>
              <a:ext cx="64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Realizacija i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monito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73280" y="5577840"/>
              <a:ext cx="1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49960" y="5672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346720" y="3753000"/>
            <a:ext cx="1856880" cy="883440"/>
            <a:chOff x="5346720" y="3753000"/>
            <a:chExt cx="1856880" cy="883440"/>
          </a:xfrm>
        </p:grpSpPr>
        <p:sp>
          <p:nvSpPr>
            <p:cNvPr id="105" name=""/>
            <p:cNvSpPr/>
            <p:nvPr/>
          </p:nvSpPr>
          <p:spPr>
            <a:xfrm>
              <a:off x="5375520" y="3753000"/>
              <a:ext cx="1828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klu~uvaweto na javnosta obi~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e slu~uva vo ovie momenti.</a:t>
              </a:r>
              <a:r>
                <a:rPr b="0" lang="en-GB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46720" y="39564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93880" y="4159440"/>
              <a:ext cx="179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oa mo`e da se slu~i i vo neko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ruga faza od procesot na OV@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46720" y="43632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55320" y="4363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32320" y="5118120"/>
            <a:ext cx="2419920" cy="388800"/>
            <a:chOff x="4432320" y="5118120"/>
            <a:chExt cx="2419920" cy="388800"/>
          </a:xfrm>
        </p:grpSpPr>
        <p:sp>
          <p:nvSpPr>
            <p:cNvPr id="111" name=""/>
            <p:cNvSpPr/>
            <p:nvPr/>
          </p:nvSpPr>
          <p:spPr>
            <a:xfrm>
              <a:off x="4548960" y="5118120"/>
              <a:ext cx="2303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formaciite od ovoj proc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pridonesuvaat za efikasna OV@S vo idnina</a:t>
              </a: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32320" y="52322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07680" y="5232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505480" y="1707840"/>
            <a:ext cx="98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treba OV@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94200" y="2082960"/>
            <a:ext cx="879120" cy="422280"/>
            <a:chOff x="3994200" y="2082960"/>
            <a:chExt cx="879120" cy="422280"/>
          </a:xfrm>
        </p:grpSpPr>
        <p:sp>
          <p:nvSpPr>
            <p:cNvPr id="116" name=""/>
            <p:cNvSpPr/>
            <p:nvPr/>
          </p:nvSpPr>
          <p:spPr>
            <a:xfrm>
              <a:off x="4107600" y="2082960"/>
              <a:ext cx="765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icijal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spituvawe n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`iv. sred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94200" y="2184840"/>
              <a:ext cx="7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41000" y="2286360"/>
              <a:ext cx="1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30440" y="1636560"/>
            <a:ext cx="736920" cy="152640"/>
            <a:chOff x="2530440" y="1636560"/>
            <a:chExt cx="736920" cy="152640"/>
          </a:xfrm>
        </p:grpSpPr>
        <p:sp>
          <p:nvSpPr>
            <p:cNvPr id="120" name=""/>
            <p:cNvSpPr/>
            <p:nvPr/>
          </p:nvSpPr>
          <p:spPr>
            <a:xfrm>
              <a:off x="2530440" y="163656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reba 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05400" y="1636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572200" y="5029200"/>
            <a:ext cx="64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oglasn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89000" y="4495680"/>
            <a:ext cx="84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e 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oektot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00240" y="401940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dizajn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95480" y="3533760"/>
            <a:ext cx="85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novo 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odn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095360" y="1012680"/>
            <a:ext cx="724680" cy="376200"/>
            <a:chOff x="4095360" y="1012680"/>
            <a:chExt cx="724680" cy="376200"/>
          </a:xfrm>
        </p:grpSpPr>
        <p:sp>
          <p:nvSpPr>
            <p:cNvPr id="127" name=""/>
            <p:cNvSpPr/>
            <p:nvPr/>
          </p:nvSpPr>
          <p:spPr>
            <a:xfrm>
              <a:off x="4108320" y="101268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95360" y="111420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dentifikaci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a predlog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549760" y="3429000"/>
            <a:ext cx="1511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klu~uvawe na javnost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3120" y="1631880"/>
            <a:ext cx="771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      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51320" y="2114640"/>
            <a:ext cx="68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reduvaw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 obem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1360" y="2558880"/>
            <a:ext cx="829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Analiza 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vlijani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71760" y="3073320"/>
            <a:ext cx="847080" cy="477720"/>
            <a:chOff x="2471760" y="3073320"/>
            <a:chExt cx="847080" cy="477720"/>
          </a:xfrm>
        </p:grpSpPr>
        <p:sp>
          <p:nvSpPr>
            <p:cNvPr id="134" name=""/>
            <p:cNvSpPr/>
            <p:nvPr/>
          </p:nvSpPr>
          <p:spPr>
            <a:xfrm>
              <a:off x="2580480" y="3073320"/>
              <a:ext cx="7383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Ubla`uvawe i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pravuvawe s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lijani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37640" y="31748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71760" y="32763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83000" y="3552840"/>
            <a:ext cx="634680" cy="304920"/>
            <a:chOff x="2583000" y="3552840"/>
            <a:chExt cx="634680" cy="304920"/>
          </a:xfrm>
        </p:grpSpPr>
        <p:sp>
          <p:nvSpPr>
            <p:cNvPr id="138" name=""/>
            <p:cNvSpPr/>
            <p:nvPr/>
          </p:nvSpPr>
          <p:spPr>
            <a:xfrm>
              <a:off x="2583000" y="3552840"/>
              <a:ext cx="63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zve{taj z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25560" y="3552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655000" y="4089240"/>
            <a:ext cx="47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izij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560" y="4505400"/>
            <a:ext cx="79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nesuvaw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luk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1676520"/>
            <a:ext cx="82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lektiraw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1000" y="6998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MAC C Swiss"/>
              </a:rPr>
              <a:t>Metodi za identifikuvawe na vlijanijata vrz `ivotnata sredin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462040"/>
            <a:ext cx="601992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spisoci („~ek listi”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matric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mre`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sloevi i geografski informativni sistemi (GI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stru~ni sistem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profesionalno mislew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6600" y="717120"/>
            <a:ext cx="72388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800000"/>
                </a:solidFill>
                <a:latin typeface="MAC C Swiss"/>
              </a:rPr>
              <a:t>Kriteriumi za odbirawe na metod za OV@S</a:t>
            </a:r>
            <a:endParaRPr b="1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7239240" cy="27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Vid i golemina na predlogot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Vidovi alternativi {to se razgleduvaa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Karakter i golemina na verojatnite vlijani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Dostapnost na metodi za identifikuvawe vlijani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Iskustvo na timot za OV@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Raspolo`ivi resursi (sredstva, informacii, vreme, personal</a:t>
            </a: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50:40Z</dcterms:modified>
  <cp:revision>338</cp:revision>
  <dc:subject/>
  <dc:title>No Slide Title</dc:title>
</cp:coreProperties>
</file>