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63D6-F7AE-45EA-A283-288D9762AAB5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IMPACT MIT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24852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IA TRAINING RESOURCE MANUAL FOR SOUTH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33200"/>
            <a:ext cx="934920" cy="93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617076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07732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81800" y="618012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486400" y="617364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40280" y="1483920"/>
            <a:ext cx="383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TRAINING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ANUAL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SOUTH EASTER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35880" y="4708440"/>
            <a:ext cx="310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Impact Mi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8824" t="24245" r="4905" b="25000"/>
          <a:stretch/>
        </p:blipFill>
        <p:spPr>
          <a:xfrm>
            <a:off x="838080" y="838080"/>
            <a:ext cx="67057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92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0000"/>
                </a:solidFill>
                <a:latin typeface="ArialHUBold"/>
              </a:rPr>
              <a:t>Purpose of mitigation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1" name=""/>
          <p:cNvSpPr/>
          <p:nvPr/>
        </p:nvSpPr>
        <p:spPr>
          <a:xfrm>
            <a:off x="520560" y="2413080"/>
            <a:ext cx="6019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2" marL="652680" indent="-283320">
              <a:lnSpc>
                <a:spcPct val="115000"/>
              </a:lnSpc>
              <a:spcBef>
                <a:spcPts val="1400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o avoid, minimise or remedy adverse impac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52680" indent="-283320">
              <a:lnSpc>
                <a:spcPct val="115000"/>
              </a:lnSpc>
              <a:spcBef>
                <a:spcPts val="1400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o ensure that residual impacts are within acceptabl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52680" indent="-283320">
              <a:lnSpc>
                <a:spcPct val="115000"/>
              </a:lnSpc>
              <a:spcBef>
                <a:spcPts val="1400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o enhance environmental and social benefi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0920" y="685800"/>
            <a:ext cx="7202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0000"/>
                </a:solidFill>
                <a:latin typeface="ArialHUBold"/>
              </a:rPr>
              <a:t>Framework for impact mitigation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5760" y="1143000"/>
            <a:ext cx="845964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zsbauer</cp:lastModifiedBy>
  <cp:lastPrinted>2002-04-02T12:21:41Z</cp:lastPrinted>
  <dcterms:modified xsi:type="dcterms:W3CDTF">2003-10-27T08:13:31Z</dcterms:modified>
  <cp:revision>325</cp:revision>
  <dc:subject/>
  <dc:title>No Slide Title</dc:title>
</cp:coreProperties>
</file>