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5AB7-2267-4891-8C3A-3358F30D1C4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2240" y="131760"/>
            <a:ext cx="97776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1720" y="1476000"/>
            <a:ext cx="372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840" y="47005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4800"/>
            <a:ext cx="376560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36240" y="69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Monitoring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</a:t>
            </a:r>
            <a:br>
              <a:rPr sz="2800"/>
            </a:b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EBRD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82360" y="24001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nvironmental monitoring ensures compliance with the applicable environmental standards and environmental components of projects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onitoring keeps track of ongoing environmental impacts, and verifies the effectiveness of mitigation measures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EBRD specifies monitoring tools for each project that are applied until the loan has been repaid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Art.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27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366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Monitoring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</a:t>
            </a:r>
            <a:br>
              <a:rPr sz="2800"/>
            </a:b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the Espoo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82360" y="240624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concerned parties determine the need and extent of any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ost-project analysis. This may include surveillance of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activity and the determination of any adverse transboundary impacts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Art. 7.1) 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f post-project analysis finds a significant, adverse transboundary impac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concerned parties need to consult on necessa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easures to reduce or eliminate the impac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. 7.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6240" y="691920"/>
            <a:ext cx="7512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Monitoring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he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Aarhus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6240" y="2400120"/>
            <a:ext cx="739152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Conventio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oes not stipulate any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onitoring requirements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owever, if data are obtained by public authorities during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onitoring, they must be made publicly accessible in accordanc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with the provisions of Articles 4 and 5 of the Convention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7842" t="23486" r="5882" b="25000"/>
          <a:stretch/>
        </p:blipFill>
        <p:spPr>
          <a:xfrm>
            <a:off x="762120" y="762120"/>
            <a:ext cx="67053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080" y="736560"/>
            <a:ext cx="711036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Why is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monitoring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 needed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14080" y="240660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650520" indent="-28512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Monitoring is an essential but neglected component of EIA implementation and follow up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650520" indent="-28512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Other components include supervision, auditing and ex-post evaluation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55680" y="6937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Aims of monitor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2720" y="2413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nsure the implementation of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ondition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ttached to a decisi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Verify that impacts are as predicted or permitt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onfirm that mitigation measures are working as expect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ake action to manage any unforeseen change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6872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When is monitoring needed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76240" y="241272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Monitoring and auditing should be undertaken when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otential impacts are significan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or uncertain; and/or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mitigation measures are untrie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and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outcomes uncertain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36600" y="69372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Key components of monitor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2720" y="2406600"/>
            <a:ext cx="734688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stablish baseline condition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Measure impacts of a project as constructed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Verify conformity with established with conditions and acceptable limit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stablish links to environmental management plan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arry out periodic checks and third-party audit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3640" y="686880"/>
            <a:ext cx="7296120" cy="4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Design considerations </a:t>
            </a: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of EIA monitor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4960" y="2413080"/>
            <a:ext cx="413388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What is required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dentify the scope and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omponents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Who will carry out the activities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Specify roles and responsibilities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How will these be implemented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Allocate resources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Define procedures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and arrangements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"/>
          <p:cNvSpPr/>
          <p:nvPr/>
        </p:nvSpPr>
        <p:spPr>
          <a:xfrm>
            <a:off x="4927680" y="2413080"/>
            <a:ext cx="36068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W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ho can access outcomes of monitoring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HU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Only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d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e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sion-maker and the wider public may access monitoring outco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2362320"/>
            <a:ext cx="0" cy="3352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66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Monitoring in 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he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EC EIA Directiv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95320" y="240048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EC EIA Directive does not stipulate any requirements for monitoring or post-EIA follow-up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1640" y="7365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Monitoring in accordance with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World Bank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8840" y="24066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e borrower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s require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o report during project implementation on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c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ompliance with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nditions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greed upon with the Bank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e status of mitigatory measures; and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e findings of monitoring programmes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HU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. 20 of the OP 4.0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40:12Z</dcterms:modified>
  <cp:revision>358</cp:revision>
  <dc:subject/>
  <dc:title>No Slide Title</dc:title>
</cp:coreProperties>
</file>