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86200" y="11430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86200" y="11430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A400-90EC-4284-B44E-431F37BF8A2C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581280" y="64468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HUBold"/>
              </a:rPr>
              <a:t>PUBLIC INVOL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01520"/>
            <a:ext cx="541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SUPPORTED BY THE EUROPEAN UNION’S OBNOVA AND PHARE 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24852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IA TRAINING RESOURCE MANUAL FOR SOUTH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845480" y="131760"/>
            <a:ext cx="993600" cy="93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525780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617076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0880" y="7272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SUPPORTED BY THE EUROPEAN UNION’S OBNOVA AND PHARE 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07732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381800" y="618012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486400" y="616752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838760" y="471708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Public Invol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44880" y="1419120"/>
            <a:ext cx="384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 TRAIN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U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SOUTH EASTER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1506600"/>
            <a:ext cx="382248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3080" y="67284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00000"/>
                </a:solidFill>
                <a:latin typeface="Arial"/>
              </a:rPr>
              <a:t>Common excuses given for avoiding public involvemen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2412720"/>
            <a:ext cx="3657600" cy="170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It’s too early in the process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It will take too long and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cost too much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It will stir up opposition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"/>
          <p:cNvSpPr/>
          <p:nvPr/>
        </p:nvSpPr>
        <p:spPr>
          <a:xfrm>
            <a:off x="4964760" y="2411280"/>
            <a:ext cx="375840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The debate will be one-sid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We will raise too many expecta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People won’t understa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48320" y="2362320"/>
            <a:ext cx="0" cy="16002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6240" y="666720"/>
            <a:ext cx="7512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"/>
              </a:rPr>
              <a:t>Public involvement in EIA: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"/>
              </a:rPr>
              <a:t>key provisions of the Aarhus Convention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88840" y="2412720"/>
            <a:ext cx="693432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Provisions of the Aarhus Convention are now fully reflected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in the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EC EIA Directive (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following amendments introduced by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Directive 2003/35/EC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6240" y="685800"/>
            <a:ext cx="7512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"/>
              </a:rPr>
              <a:t>Aarhus Convention: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"/>
              </a:rPr>
              <a:t>defining the public and public concerned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84240" y="24062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280080" indent="-2800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HUBold"/>
                <a:ea typeface="Times New Roman"/>
              </a:rPr>
              <a:t>“</a:t>
            </a:r>
            <a:r>
              <a:rPr b="0" lang="en-GB" sz="1600" spc="-1" strike="noStrike">
                <a:solidFill>
                  <a:srgbClr val="800000"/>
                </a:solidFill>
                <a:latin typeface="ArialHUBold"/>
                <a:ea typeface="Times New Roman"/>
              </a:rPr>
              <a:t>The public” </a:t>
            </a:r>
            <a:r>
              <a:rPr b="0" lang="cs-CZ" sz="1600" spc="-1" strike="noStrike">
                <a:solidFill>
                  <a:srgbClr val="800000"/>
                </a:solidFill>
                <a:latin typeface="ArialHUBold"/>
              </a:rPr>
              <a:t>(Art 2.4) </a:t>
            </a:r>
            <a:r>
              <a:rPr b="0" lang="en-GB" sz="1600" spc="-1" strike="noStrike">
                <a:solidFill>
                  <a:srgbClr val="800000"/>
                </a:solidFill>
                <a:latin typeface="ArialHUBold"/>
                <a:ea typeface="Times New Roman"/>
              </a:rPr>
              <a:t>means</a:t>
            </a:r>
            <a:r>
              <a:rPr b="0" lang="cs-CZ" sz="1600" spc="-1" strike="noStrike">
                <a:solidFill>
                  <a:srgbClr val="800000"/>
                </a:solidFill>
                <a:latin typeface="ArialHUBold"/>
              </a:rPr>
              <a:t>:</a:t>
            </a:r>
            <a:br>
              <a:rPr sz="1600"/>
            </a:br>
            <a:r>
              <a:rPr b="0" lang="cs-CZ" sz="1600" spc="-1" strike="noStrike">
                <a:solidFill>
                  <a:srgbClr val="800000"/>
                </a:solidFill>
                <a:latin typeface="ArialHUBol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31520" indent="-26784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one or more natural or legal persons; and,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31520" indent="-26784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in accordance with national legislation or practice, their associations, organisations or group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0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marL="280080" indent="-2800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HUBold"/>
                <a:ea typeface="Times New Roman"/>
              </a:rPr>
              <a:t>“</a:t>
            </a:r>
            <a:r>
              <a:rPr b="0" lang="en-GB" sz="1600" spc="-1" strike="noStrike">
                <a:solidFill>
                  <a:srgbClr val="800000"/>
                </a:solidFill>
                <a:latin typeface="ArialHUBold"/>
                <a:ea typeface="Times New Roman"/>
              </a:rPr>
              <a:t>The public concerned” (Art. 2.5</a:t>
            </a:r>
            <a:r>
              <a:rPr b="0" lang="cs-CZ" sz="1600" spc="-1" strike="noStrike">
                <a:solidFill>
                  <a:srgbClr val="800000"/>
                </a:solidFill>
                <a:latin typeface="ArialHUBold"/>
              </a:rPr>
              <a:t>) </a:t>
            </a:r>
            <a:r>
              <a:rPr b="0" lang="en-GB" sz="1600" spc="-1" strike="noStrike">
                <a:solidFill>
                  <a:srgbClr val="800000"/>
                </a:solidFill>
                <a:latin typeface="ArialHUBold"/>
                <a:ea typeface="Times New Roman"/>
              </a:rPr>
              <a:t>means: </a:t>
            </a:r>
            <a:br>
              <a:rPr sz="1600"/>
            </a:br>
            <a:r>
              <a:rPr b="0" lang="en-GB" sz="1600" spc="-1" strike="noStrike">
                <a:solidFill>
                  <a:srgbClr val="800000"/>
                </a:solidFill>
                <a:latin typeface="ArialHUBold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31520" indent="-26784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ose affected or likely to be affected by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environmental decision-making;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31520" indent="-26784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those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having an interest in environmental decision-making; and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31520" indent="-26784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Those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non-governmental organisations promoting environmental protection and meeting any requirements under national law, which shall be deemed to have an interest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6240" y="685440"/>
            <a:ext cx="735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"/>
              </a:rPr>
              <a:t>Aarhus Convention: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"/>
              </a:rPr>
              <a:t>key requirements for public participation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5320" y="241272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early notification in a timely and effective manner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, plus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elements of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the notification document (Art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6.2.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r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easonable timeframes for effective participation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(Art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6.3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early public participation, when all options are open and effective participation can take place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(Art. 6.4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f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ree access to information as soon as it becomes available (Art. 6.6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public participation procedures allowing the public to submit comments in writing, or at public hearing or inquiry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(Art. 6.8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7842" t="25000" r="5882" b="25000"/>
          <a:stretch/>
        </p:blipFill>
        <p:spPr>
          <a:xfrm>
            <a:off x="762120" y="9144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640" y="729720"/>
            <a:ext cx="69343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  <a:ea typeface="Arial"/>
              </a:rPr>
              <a:t>Key objectives of public involvemen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4960" y="2403360"/>
            <a:ext cx="3809880" cy="23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Take account of views and concerns of key stakeholders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Ensure that important impacts are not overlooked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Reduce conflict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through the early identification of contentious issues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5" name=""/>
          <p:cNvSpPr/>
          <p:nvPr/>
        </p:nvSpPr>
        <p:spPr>
          <a:xfrm>
            <a:off x="4933800" y="2413080"/>
            <a:ext cx="381024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Improve transparency and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increase public confidence in the EIA proce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Obtain local input into the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design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of alternatives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and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mitigation measur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2514600"/>
            <a:ext cx="0" cy="18288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3000" y="6342120"/>
            <a:ext cx="183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816120"/>
            <a:ext cx="6858000" cy="54324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640" y="73620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  <a:ea typeface="Arial"/>
              </a:rPr>
              <a:t>Levels of public involvement 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4816440"/>
            <a:ext cx="350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One way communication with those affected by a propos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37339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A two-way exchange of information designed to canvass the views of stakeholders on a proposal and its impac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2638440"/>
            <a:ext cx="4343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A more interactive process of engaging the public in addressing the issues, establishing areas of agreement and disagreement, and trying to reach common position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146400" y="2125800"/>
            <a:ext cx="416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327320"/>
            <a:ext cx="495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An alternative dispute-resolution mechanism based on joint fact-finding, consensus building and mutual accommodation of different interest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75840" y="469116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HU"/>
                <a:ea typeface="Times New Roman"/>
              </a:rPr>
              <a:t>Infor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81760" y="370044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HU"/>
                <a:ea typeface="Times New Roman"/>
              </a:rPr>
              <a:t>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99560" y="283356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HU"/>
                <a:ea typeface="Times New Roman"/>
              </a:rPr>
              <a:t>Particip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49560" y="118584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HU"/>
                <a:ea typeface="Times New Roman"/>
              </a:rPr>
              <a:t>Negoti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12560" y="7300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HUBold"/>
                <a:ea typeface="Arial"/>
              </a:rPr>
              <a:t>Who are the participants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2409840"/>
            <a:ext cx="381024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proponents and project benefici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government agencies with responsibilities or policy interests relating to the propo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88840" y="2409840"/>
            <a:ext cx="368316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those directly or indirectly affected by the propos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those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e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rested in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the proposal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(e.g. NGOs,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the private sector, academics, etc.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2362320"/>
            <a:ext cx="0" cy="167616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1640" y="729720"/>
            <a:ext cx="7391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00000"/>
                </a:solidFill>
                <a:latin typeface="ArialHUBold"/>
              </a:rPr>
              <a:t>Principles of public involvemen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2006280"/>
            <a:ext cx="37339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HU"/>
              </a:rPr>
              <a:t>The process should be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5" name=""/>
          <p:cNvSpPr/>
          <p:nvPr/>
        </p:nvSpPr>
        <p:spPr>
          <a:xfrm>
            <a:off x="4870440" y="2406600"/>
            <a:ext cx="3809880" cy="23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H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fair – (conducted impartially and without bias towards any stakehold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H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responsive to stakeholder requirements and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H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credible – (capable of inspiring confidence and tru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88840" y="2419200"/>
            <a:ext cx="381024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9880" indent="-2779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H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inclusive – (covers all stakehold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9880" indent="-2779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H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open and transparent – (steps and activities are understoo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9880" indent="-2779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H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relevant – (focused on the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issues that matt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2362320"/>
            <a:ext cx="0" cy="22860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819520" y="1828800"/>
            <a:ext cx="4952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HU"/>
                <a:ea typeface="Times New Roman"/>
              </a:rPr>
              <a:t>To ensure that significant issues are identified; project related information is gathered, alternatives are consider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2362320"/>
            <a:ext cx="579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To avoid biases/inaccuracies in analysis; identify local values/preferences; assist in consideration of mitigation measures; select best alternativ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4273560"/>
            <a:ext cx="5829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HU"/>
                <a:ea typeface="Times New Roman"/>
              </a:rPr>
              <a:t>To consider and comment on EIA Repor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9520" y="5389560"/>
            <a:ext cx="5029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To monitor the implementation of EIA Report’s recommendations and decision’s condition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19520" y="12952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To consult people likely to be affected by propos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3080" y="733320"/>
            <a:ext cx="65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HUBold"/>
                <a:ea typeface="Times New Roman"/>
              </a:rPr>
              <a:t>Public Involvement in the main EIA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34261" t="29862" r="56483" b="23612"/>
          <a:stretch/>
        </p:blipFill>
        <p:spPr>
          <a:xfrm>
            <a:off x="1104840" y="1219320"/>
            <a:ext cx="14097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1640" y="729720"/>
            <a:ext cx="640080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  <a:ea typeface="Arial"/>
              </a:rPr>
              <a:t>Developing a public involvement programm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4960" y="2414160"/>
            <a:ext cx="360036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Determine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the key issues to be discussed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Identify the affected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and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interested public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Select appropriate techniques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(take into a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c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count 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budgets and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timelines into account)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"/>
          <p:cNvSpPr/>
          <p:nvPr/>
        </p:nvSpPr>
        <p:spPr>
          <a:xfrm>
            <a:off x="4937040" y="2406600"/>
            <a:ext cx="352116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Analyse 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input.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Provide 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 feedback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to 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build confidence and trust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2362320"/>
            <a:ext cx="0" cy="22860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3080" y="666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00000"/>
                </a:solidFill>
                <a:latin typeface="Arial"/>
              </a:rPr>
              <a:t>Principles for successful application of public involvement techniques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8840" y="2413080"/>
            <a:ext cx="3835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ovide the right information at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he right tim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low sufficient time for review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nd respons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1" name=""/>
          <p:cNvSpPr/>
          <p:nvPr/>
        </p:nvSpPr>
        <p:spPr>
          <a:xfrm>
            <a:off x="4937040" y="2409840"/>
            <a:ext cx="374976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ovide appropriate opportunities and means for stakeholder involv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elect appropriate venues, and schedule events to suit stakehold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362320"/>
            <a:ext cx="0" cy="22096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zsbauer</cp:lastModifiedBy>
  <cp:lastPrinted>2002-04-02T12:21:41Z</cp:lastPrinted>
  <dcterms:modified xsi:type="dcterms:W3CDTF">2003-10-27T08:42:57Z</dcterms:modified>
  <cp:revision>390</cp:revision>
  <dc:subject/>
  <dc:title>No Slide Title</dc:title>
</cp:coreProperties>
</file>