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6315-E607-423D-8F0B-A962EA213E9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SC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10560" y="131760"/>
            <a:ext cx="95256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86600"/>
            <a:ext cx="49068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90040"/>
            <a:ext cx="3746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3000" y="4708440"/>
            <a:ext cx="157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co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6637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240" y="69228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oping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in 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accordance with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World Bank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"/>
          <p:cNvSpPr/>
          <p:nvPr/>
        </p:nvSpPr>
        <p:spPr>
          <a:xfrm>
            <a:off x="895320" y="2414520"/>
            <a:ext cx="693432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ublic scoping is required for Category A projec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OP 4.01, Art. 15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Borrower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must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nsult the affected public “shortly afte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nvironmental screening and before the terms of reference for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the environmental assessment are finalised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For this initial consultation, the borrower nee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to provide 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summary of the proposed project's objectives, description and potential impac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36600" y="692280"/>
            <a:ext cx="7238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oping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in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 accordance with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BRD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"/>
          <p:cNvSpPr/>
          <p:nvPr/>
        </p:nvSpPr>
        <p:spPr>
          <a:xfrm>
            <a:off x="895320" y="2414520"/>
            <a:ext cx="693432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nvironmental Policy (Annex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, Art. 3.3) require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ublic scoping fo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ategory A project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Key issue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are identifie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by consulting with the affected public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d taking their comments into account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process involve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contac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with representatives of the affected public, government agencies, local authorities and other organis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Results of ToR for EIA and thr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ublic Consultation and Disclosur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lan (draft PCDP)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specifies any proposed public participation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roughout the EIA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3640" y="69336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Scoping in accordance with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the Aarhus 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5320" y="2406240"/>
            <a:ext cx="6934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Each Party needs to provide early public participation (I.e. when all options are open and effective public participation can take place). (Art.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Public scoping helps to meet this obliga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3640" y="69228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Scoping in accordance with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the E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poo 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88840" y="2413080"/>
            <a:ext cx="3200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Convention requires scoping for transboundary projects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Arts. 3.5, 3.6 and 3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party of origin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nforms th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ffected party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about:  a) th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roposed activity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; b) it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ossible transboundary impac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, and c) applicabl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IA procedure.  (Art. 3.5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413080"/>
            <a:ext cx="3809880" cy="23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affected party provide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party of origin with information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bout th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otentially affected environment.  (Art. 3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B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oth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arties ensure that th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oncerned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ublic in the affected party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an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ake comments or objections on the proposed activity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Art. 3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362320"/>
            <a:ext cx="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36240" y="693720"/>
            <a:ext cx="751212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Recommended elements for effective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scoping in SAP countrie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76240" y="241272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-3618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SAP countries may wish to establish a mandatory scoping procedure that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1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04680" indent="-36180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nable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competent authorities to render an opinion on the content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of the EIA Report (EC Directive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04680" indent="-36180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ake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place when all options are open and when effectiv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ublic participation can take place (Aarhus Convention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04680" indent="-36180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occur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immediately after screening and before ToR for EIA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e finalised (World Bank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04680" indent="-36180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nsure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that the views of all competent authorities and th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ncerned affected public are taken into account when identifying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key issues (EBRD); and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04680" indent="-36180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facilitates transboundary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coping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for trans-boundary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I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spoo Convention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18680" y="729720"/>
            <a:ext cx="7201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What is scoping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412720"/>
            <a:ext cx="746748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 early stage of the EIA proces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begins once screening is complet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dentifies key issues and impacts to be consider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stablishes the content an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cope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of an EIA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repor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most important step in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lays the foundation of an effective process, saves time and money, and reduces conflic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9600" y="699840"/>
            <a:ext cx="708660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Types of scop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5320" y="241308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HU"/>
              </a:rPr>
              <a:t>Closed scoping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: wherein the content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nd scop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f an EIA Report is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re-determined by law and modified through close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onsultations between a developer and the competent authority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HU"/>
              </a:rPr>
              <a:t>Open or P</a:t>
            </a:r>
            <a:r>
              <a:rPr b="1" lang="cs-CZ" sz="1600" spc="-1" strike="noStrike">
                <a:solidFill>
                  <a:srgbClr val="000000"/>
                </a:solidFill>
                <a:latin typeface="ArialHU"/>
              </a:rPr>
              <a:t>ublic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</a:rPr>
              <a:t> scoping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: a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ransparent proces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based o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ublic consultation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3080" y="685800"/>
            <a:ext cx="7200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Elements of scop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5320" y="2412720"/>
            <a:ext cx="358128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define the parameters of the EIA study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dentify and inform stakeholder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dentify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stakeholder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concern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gree on the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mean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of public involvement and methods of analysi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362320"/>
            <a:ext cx="0" cy="1981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2413080"/>
            <a:ext cx="35816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dentify the main issues and impacts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o be stud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onsider feasible and practical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stablish ‘Terms of Reference’ for the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3640" y="685800"/>
            <a:ext cx="7219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Steps in the scoping proces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4960" y="2412720"/>
            <a:ext cx="335268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repare a scope outlin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develop the outline through informal consultation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with environmental and health authoritie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make the outline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vailable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ompile an extensive list of concern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valuate relevant concerns to establish key issue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9" name=""/>
          <p:cNvSpPr/>
          <p:nvPr/>
        </p:nvSpPr>
        <p:spPr>
          <a:xfrm>
            <a:off x="4863960" y="2419200"/>
            <a:ext cx="335304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rganise key issues into impact categories (study li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mend the outline according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develop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‘Term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of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reference’ (ToR)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monitor progress against the ToR, revising as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2362320"/>
            <a:ext cx="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69192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Who should be involved in scoping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4960" y="2410920"/>
            <a:ext cx="3352680" cy="14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roponen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IA consultan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upervisory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uthority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for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ther responsible agencie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3" name=""/>
          <p:cNvSpPr/>
          <p:nvPr/>
        </p:nvSpPr>
        <p:spPr>
          <a:xfrm>
            <a:off x="4807080" y="2413080"/>
            <a:ext cx="3352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ffected publ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nterested public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2362320"/>
            <a:ext cx="0" cy="13716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9760" y="691920"/>
            <a:ext cx="7162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Guiding principles for scop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4960" y="2411280"/>
            <a:ext cx="3352680" cy="24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coping is a process, not an activity or even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Design a scoping process for each proposal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tart early, or as soon as available information allow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repare an information package on what is expect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7" name=""/>
          <p:cNvSpPr/>
          <p:nvPr/>
        </p:nvSpPr>
        <p:spPr>
          <a:xfrm>
            <a:off x="4775040" y="2413080"/>
            <a:ext cx="335304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pecify the role of the public in th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IA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Document the results to guide EIA prepa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spond to new information and issues as necessa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2362320"/>
            <a:ext cx="0" cy="25146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0680" y="691920"/>
            <a:ext cx="72392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IA ‘Terms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 of Reference’ to be included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in outlin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82720" y="2406600"/>
            <a:ext cx="3657600" cy="17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tudy area and boundarie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lternatives to be examin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mpacts and issues to be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tudi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pproach to be take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quirements for mitigation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nd monitoring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"/>
          <p:cNvSpPr/>
          <p:nvPr/>
        </p:nvSpPr>
        <p:spPr>
          <a:xfrm>
            <a:off x="4788000" y="240048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nformation and data to be included in the EIA re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imetable and requirements for completion of the EIA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pportunities for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wider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ublic involv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36240" y="692280"/>
            <a:ext cx="751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Sc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oping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in accordance with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the 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C EIA Directiv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5320" y="2413080"/>
            <a:ext cx="69343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he scoping process must be internal and voluntary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rt. 5.2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he competent authority renders an opinion on the contents of the EIA Report if the developer so requests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Member state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may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require the competent authority to giv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such an opinion, irrespective of the developer´s reques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29:19Z</dcterms:modified>
  <cp:revision>360</cp:revision>
  <dc:subject/>
  <dc:title>No Slide Title</dc:title>
</cp:coreProperties>
</file>