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82D5-CCE2-4C6E-BEB5-64AFF4581BE7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952880" y="6478560"/>
            <a:ext cx="3816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cc"/>
                </a:solidFill>
                <a:latin typeface="ArialHU"/>
              </a:rPr>
              <a:t>IZVEŠTAVANJE U PU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1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EIA) PROCE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4600" y="1015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HU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29280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RESURSNI VODIČ ZA PU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) ZA JUGOISTOČNU EVROPU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90440"/>
            <a:ext cx="907920" cy="870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1640" y="6151680"/>
            <a:ext cx="3124440" cy="6872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89300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7197840" y="618156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5"/>
          <a:stretch/>
        </p:blipFill>
        <p:spPr>
          <a:xfrm>
            <a:off x="530208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4600" y="1015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HU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1484280"/>
            <a:ext cx="3746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RSNI VOD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 ZA P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 ZA JUGOISTOČ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1360" y="4267080"/>
            <a:ext cx="376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Izveštavanje u okvi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U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S (EIA) proce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90720" y="1054080"/>
            <a:ext cx="6486120" cy="4749840"/>
            <a:chOff x="990720" y="1054080"/>
            <a:chExt cx="6486120" cy="4749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90720" y="1054080"/>
              <a:ext cx="632592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019400" y="1060560"/>
              <a:ext cx="924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dentifikacija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r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1720" y="1589040"/>
              <a:ext cx="844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Utvrđiva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otre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22280" y="2035080"/>
              <a:ext cx="9565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Inicijalno</a:t>
              </a:r>
              <a:br>
                <a:rPr sz="900"/>
              </a:b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ispitivanje</a:t>
              </a:r>
              <a:br>
                <a:rPr sz="900"/>
              </a:b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zivotne sred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32840" y="1557360"/>
              <a:ext cx="965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Nije potrebn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63800" y="3413160"/>
              <a:ext cx="106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češće javnos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22840" y="3745080"/>
              <a:ext cx="185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Učešće javnosti se obično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javlja pri ovim koracima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moze se pojaviti i na bilo ko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drugom koraku u procesu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57000" y="1587600"/>
              <a:ext cx="91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 potreb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9280" y="2048040"/>
              <a:ext cx="861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dre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điva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okvi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20640" y="259092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Analiza utic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03360" y="3013200"/>
              <a:ext cx="10951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Ublazavanje </a:t>
              </a:r>
              <a:br>
                <a:rPr sz="800"/>
              </a:b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uticaja i </a:t>
              </a:r>
              <a:br>
                <a:rPr sz="800"/>
              </a:b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menađzment uticaj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4880" y="5397480"/>
              <a:ext cx="1063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acij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monit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12600" y="5084640"/>
              <a:ext cx="208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a iz ovog proces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prinosi efektivnosti EIA proce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45080" y="4546440"/>
              <a:ext cx="96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je odobr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3800" y="406404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zajnir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39040" y="3492360"/>
              <a:ext cx="83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novno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dno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še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495160" y="356868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339933"/>
                  </a:solidFill>
                  <a:latin typeface="Arial"/>
                </a:rPr>
                <a:t>EIA Izvešta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73400" y="4051440"/>
              <a:ext cx="131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gled izvešt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43320" y="4444920"/>
              <a:ext cx="992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oše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lu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8160" y="5046840"/>
              <a:ext cx="74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obr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55320" y="6858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Različiti nazivi za isti dokumen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eštaj o proceni uticaja na životnu sredinu (izveštaj o PDŽ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java o uticajima na životnu sredinu (IDŽ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java o životnoj sredini (IŽ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veštaj o proceni sa aspekta životne sredine (IPAŽ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java o uticajima na životnu sredinu (IDŽS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685800"/>
            <a:ext cx="7505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Elementi uspešno sastavljenog izveštaja o proceni uticaja na životnu sredinu (izveštaj o PDŽS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7340760" cy="21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isuju značajne uticaje koje izaziva predlog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dentifikuju mere za ublažavanje značajnih uticaja, uključujući praktične akcije koje predlagač namerava da preduzme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užaju nadležnom organu vlasti informacije koje su relevantne za donošenje odluk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lažu se na takav način da ih mogu razumeti i javnost i oni koji odlučuju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14400" y="245088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is projekt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ikaz glavnih alternativa koje je proučio graditelj i naznačenje glavnih razloga za izbor koji je učinio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is aspekata u sferi životne sredine za koje postoji mogućnost da budu značajno pogođeni predloženim projektom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is mogućih značajnih dejstava u sferi životne sredine koje može imati predloženi projekat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ikaz mera predviđenih za sprečavanje, smanjenje i eventualno otklanjanje nepovoljnih dejstava po životnu sredinu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ažeti netehnički prikaz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kazivanje na eventualne teškoće (tehnički nedostaci ili nepostojanje stručnog znanja – </a:t>
            </a:r>
            <a:r>
              <a:rPr b="0" i="1" lang="sl-SI" sz="1600" spc="-1" strike="noStrike">
                <a:solidFill>
                  <a:srgbClr val="000000"/>
                </a:solidFill>
                <a:latin typeface="Arial"/>
              </a:rPr>
              <a:t>know-how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) na koje se naišlo prilkom objedinjavanja traženih informacija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49200" y="685440"/>
            <a:ext cx="7804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Izveštavanje o proceni uticaja na životnu sredinu u skladu sa Direktivom EC o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proceni uticaja na životnu sredinu predstavlja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6" name=""/>
          <p:cNvSpPr/>
          <p:nvPr/>
        </p:nvSpPr>
        <p:spPr>
          <a:xfrm>
            <a:off x="387360" y="2082960"/>
            <a:ext cx="501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edan P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S Izveštaj mora sad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avati sledeć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9200" y="680760"/>
            <a:ext cx="723888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Elementi za pripremanje sažetog egzekutivng prikaz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5680" y="2451240"/>
            <a:ext cx="7315200" cy="18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Usmerenje na slušaoce (ciljnu grupu)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Jezgrovitost izlaganja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Jasnoća i doslednost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Izbegavanje upotrebe žargona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ažeto prikazivanje ključnih nalaza (zaključaka)</a:t>
            </a:r>
            <a:r>
              <a:rPr b="1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5680" y="693720"/>
            <a:ext cx="7340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U egzekutivnom prikazu treba naznačiti …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68280" y="2451240"/>
            <a:ext cx="6718320" cy="24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dlog i njegovo okruženje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zadatke procene dejstava na životnu sredinu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ezultate do kojih se došlo konsultovanjem javnosti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alternative koje su uzete u obzir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glavna dejstva i njihov značaj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ere ublažavanja dejstava i mere upravljanja dejstvima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moguće ostale relevantne elemente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9200" y="67896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Neki nedostaci u izveštajima o proceni </a:t>
            </a:r>
            <a:br>
              <a:rPr sz="2800"/>
            </a:b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uticaja na životnu sredinu (kad je reč o sadržini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463480"/>
            <a:ext cx="419112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cilj predloga opisan isuviše usko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pisom nije obuhvaćena celokupna aktivnost (tj. sve ono što je projektom predviđeno da se uradi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opušteno je pominjanje osetljivih elemenata  značajnih za životnu sredinu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korišćenje zastarelih ili nedelotvornih modela predviđan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ticicaji na životnu sredinu nisu upoređivana sa standardima ili ciljevima (nisu opisani relevantni standardi i relevantno zakonodavstvo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"/>
          <p:cNvSpPr/>
          <p:nvPr/>
        </p:nvSpPr>
        <p:spPr>
          <a:xfrm>
            <a:off x="4883040" y="2448000"/>
            <a:ext cx="407052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umilativni, indirektni kao i sinergistični uticaji nisu spomenuti u izveštaju ili su nepravilno opis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lternativne nedovoljno opisane neomogućuju komparacij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gladne mere za ubl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vanje uticaja nisu razmatra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onešeni netočni zaključ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0600" y="2362320"/>
            <a:ext cx="1440" cy="2743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55320" y="681120"/>
            <a:ext cx="75056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Neki nedostaci u izveštajima o proceni uticaja na životnu sredinu (kad je reč o formi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2444760"/>
            <a:ext cx="3016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jasna struktur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39080" indent="-27072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uviše dug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39080" indent="-27072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ema potrebne preciznost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"/>
          <p:cNvSpPr/>
          <p:nvPr/>
        </p:nvSpPr>
        <p:spPr>
          <a:xfrm>
            <a:off x="4822200" y="2465280"/>
            <a:ext cx="362916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siromašan stil i jezik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suviše tehnički (izveštaj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o i  ne-tehnički sad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ji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ejasne preporuke i zaključ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edostaju preporu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2362320"/>
            <a:ext cx="1800" cy="23619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35:08Z</dcterms:modified>
  <cp:revision>363</cp:revision>
  <dc:subject/>
  <dc:title>No Slide Title</dc:title>
</cp:coreProperties>
</file>