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001C6-C051-4A1E-B364-FCE154A8B80E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952880" y="6485040"/>
            <a:ext cx="38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UBLA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AVANJE </a:t>
            </a:r>
            <a:r>
              <a:rPr b="1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POSL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8668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ESURSNI VODI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909360" cy="9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54000"/>
            <a:ext cx="54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0396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856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0280" y="1484280"/>
            <a:ext cx="38354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 (EIA) U JUGOISTOČNOJ EVRO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9640" y="4708440"/>
            <a:ext cx="397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bl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avanje posl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0720" y="1054080"/>
            <a:ext cx="6486120" cy="4749840"/>
            <a:chOff x="990720" y="1054080"/>
            <a:chExt cx="6486120" cy="4749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90720" y="1054080"/>
              <a:ext cx="632592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19400" y="1060560"/>
              <a:ext cx="92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dentifikacij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1720" y="1589040"/>
              <a:ext cx="844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tvr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22280" y="2035080"/>
              <a:ext cx="956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nicijalno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spitivanje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zivotne sred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32840" y="1557360"/>
              <a:ext cx="96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Nije potrebn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3800" y="3413160"/>
              <a:ext cx="106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češće javnos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2840" y="3745080"/>
              <a:ext cx="185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češće javnosti se obično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javlja pri ovim koracim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moze se pojaviti i na bilo ko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drugom koraku u procesu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57000" y="1587600"/>
              <a:ext cx="91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potreb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9280" y="2048040"/>
              <a:ext cx="86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d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okvi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20640" y="2590920"/>
              <a:ext cx="99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2040" y="3013200"/>
              <a:ext cx="11577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800" spc="-1" strike="noStrike">
                  <a:solidFill>
                    <a:srgbClr val="339933"/>
                  </a:solidFill>
                  <a:latin typeface="Arial"/>
                </a:rPr>
                <a:t>Ublazavanje </a:t>
              </a:r>
              <a:br>
                <a:rPr sz="800"/>
              </a:br>
              <a:r>
                <a:rPr b="1" lang="sr-Latn-CS" sz="800" spc="-1" strike="noStrike">
                  <a:solidFill>
                    <a:srgbClr val="339933"/>
                  </a:solidFill>
                  <a:latin typeface="Arial"/>
                </a:rPr>
                <a:t>uticaja i </a:t>
              </a:r>
              <a:br>
                <a:rPr sz="800"/>
              </a:br>
              <a:r>
                <a:rPr b="1" lang="sr-Latn-CS" sz="800" spc="-1" strike="noStrike">
                  <a:solidFill>
                    <a:srgbClr val="339933"/>
                  </a:solidFill>
                  <a:latin typeface="Arial"/>
                </a:rPr>
                <a:t>menađzment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4880" y="5397480"/>
              <a:ext cx="106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acij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12600" y="5084640"/>
              <a:ext cx="208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a iz ovog proces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prinosi efektivnosti EIA proce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5080" y="4546440"/>
              <a:ext cx="96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je 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3800" y="406404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zajnir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9040" y="349236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novno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dno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še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1000" y="35686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Izvešta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73400" y="4051440"/>
              <a:ext cx="131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gled izvešt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3320" y="4444920"/>
              <a:ext cx="99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oše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8160" y="504684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9200" y="685440"/>
            <a:ext cx="6889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Svrha ubl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avanja posledic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45124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673200" indent="-292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zbeći, smanjiti ili popraviti negativan uticaj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292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sigurati da su rezidualni uticaji u prihvatljivom nivo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292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ovećati socijalne dobiti kao i one ekološk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59080" y="2031840"/>
            <a:ext cx="177480" cy="2857680"/>
          </a:xfrm>
          <a:custGeom>
            <a:avLst/>
            <a:gdLst/>
            <a:ahLst/>
            <a:rect l="l" t="t" r="r" b="b"/>
            <a:pathLst>
              <a:path w="112" h="1800">
                <a:moveTo>
                  <a:pt x="0" y="1576"/>
                </a:moveTo>
                <a:lnTo>
                  <a:pt x="0" y="1576"/>
                </a:lnTo>
                <a:lnTo>
                  <a:pt x="32" y="1576"/>
                </a:lnTo>
                <a:lnTo>
                  <a:pt x="32" y="880"/>
                </a:lnTo>
                <a:lnTo>
                  <a:pt x="32" y="216"/>
                </a:lnTo>
                <a:lnTo>
                  <a:pt x="0" y="216"/>
                </a:lnTo>
                <a:lnTo>
                  <a:pt x="56" y="0"/>
                </a:lnTo>
                <a:lnTo>
                  <a:pt x="112" y="216"/>
                </a:lnTo>
                <a:lnTo>
                  <a:pt x="80" y="216"/>
                </a:lnTo>
                <a:lnTo>
                  <a:pt x="80" y="920"/>
                </a:lnTo>
                <a:lnTo>
                  <a:pt x="80" y="1576"/>
                </a:lnTo>
                <a:lnTo>
                  <a:pt x="112" y="1576"/>
                </a:lnTo>
                <a:lnTo>
                  <a:pt x="56" y="1800"/>
                </a:lnTo>
                <a:lnTo>
                  <a:pt x="0" y="1576"/>
                </a:lnTo>
                <a:close/>
              </a:path>
            </a:pathLst>
          </a:custGeom>
          <a:solidFill>
            <a:srgbClr val="005e3e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38360" y="1523880"/>
            <a:ext cx="3824280" cy="1295640"/>
          </a:xfrm>
          <a:custGeom>
            <a:avLst/>
            <a:gdLst/>
            <a:ahLst/>
            <a:rect l="l" t="t" r="r" b="b"/>
            <a:pathLst>
              <a:path w="2409" h="816">
                <a:moveTo>
                  <a:pt x="408" y="816"/>
                </a:moveTo>
                <a:lnTo>
                  <a:pt x="408" y="816"/>
                </a:lnTo>
                <a:lnTo>
                  <a:pt x="0" y="0"/>
                </a:lnTo>
                <a:lnTo>
                  <a:pt x="2409" y="0"/>
                </a:lnTo>
                <a:lnTo>
                  <a:pt x="2001" y="816"/>
                </a:lnTo>
                <a:lnTo>
                  <a:pt x="408" y="816"/>
                </a:lnTo>
                <a:close/>
              </a:path>
            </a:pathLst>
          </a:custGeom>
          <a:solidFill>
            <a:srgbClr val="4c8e7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21040" y="4127400"/>
            <a:ext cx="1258920" cy="1270080"/>
          </a:xfrm>
          <a:custGeom>
            <a:avLst/>
            <a:gdLst/>
            <a:ahLst/>
            <a:rect l="l" t="t" r="r" b="b"/>
            <a:pathLst>
              <a:path w="793" h="800">
                <a:moveTo>
                  <a:pt x="400" y="800"/>
                </a:moveTo>
                <a:lnTo>
                  <a:pt x="400" y="800"/>
                </a:lnTo>
                <a:lnTo>
                  <a:pt x="0" y="0"/>
                </a:lnTo>
                <a:lnTo>
                  <a:pt x="793" y="0"/>
                </a:lnTo>
                <a:lnTo>
                  <a:pt x="400" y="800"/>
                </a:lnTo>
                <a:close/>
              </a:path>
            </a:pathLst>
          </a:custGeom>
          <a:solidFill>
            <a:srgbClr val="79b2a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86000" y="2819520"/>
            <a:ext cx="2529000" cy="1307880"/>
          </a:xfrm>
          <a:custGeom>
            <a:avLst/>
            <a:gdLst/>
            <a:ahLst/>
            <a:rect l="l" t="t" r="r" b="b"/>
            <a:pathLst>
              <a:path w="1593" h="824">
                <a:moveTo>
                  <a:pt x="400" y="824"/>
                </a:moveTo>
                <a:lnTo>
                  <a:pt x="400" y="824"/>
                </a:lnTo>
                <a:lnTo>
                  <a:pt x="0" y="0"/>
                </a:lnTo>
                <a:lnTo>
                  <a:pt x="1593" y="0"/>
                </a:lnTo>
                <a:lnTo>
                  <a:pt x="1193" y="824"/>
                </a:lnTo>
                <a:lnTo>
                  <a:pt x="400" y="824"/>
                </a:lnTo>
                <a:close/>
              </a:path>
            </a:pathLst>
          </a:custGeom>
          <a:solidFill>
            <a:srgbClr val="47937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0" y="153684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00800" y="281952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00800" y="410220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5410080"/>
            <a:ext cx="2133720" cy="180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200" y="1650960"/>
            <a:ext cx="1441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Čest (p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eljan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920" y="4952880"/>
            <a:ext cx="184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edak (nep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eljan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3040" y="1752480"/>
            <a:ext cx="24177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Alternativne lokacije  ili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ehnologije  da se izbegne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gubitak staništa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3040" y="2857680"/>
            <a:ext cx="265716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Aktivnosti poduzete za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vreme dizajniranja,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konstrukcije i delovanja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kako bi se minimalizovao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Arial"/>
              </a:rPr>
              <a:t>ili izbegao gubitak staništa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322680" y="4343400"/>
            <a:ext cx="220428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oristi se kao poslednja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pcija da se nadoknadi </a:t>
            </a:r>
            <a:br>
              <a:rPr sz="1600"/>
            </a:b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gubitak staniš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718800" y="3352680"/>
            <a:ext cx="1472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b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  <a:ea typeface="Arial"/>
              </a:rPr>
              <a:t>a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79480" y="4572000"/>
            <a:ext cx="1712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mpenzaci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792240" y="1905120"/>
            <a:ext cx="129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zbegavan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6807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kvir za ubl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avanje negativnog utica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4:37Z</dcterms:modified>
  <cp:revision>341</cp:revision>
  <dc:subject/>
  <dc:title>No Slide Title</dc:title>
</cp:coreProperties>
</file>