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i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i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2165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6019920"/>
            <a:ext cx="9144000" cy="850680"/>
          </a:xfrm>
          <a:prstGeom prst="rect">
            <a:avLst/>
          </a:prstGeom>
          <a:solidFill>
            <a:srgbClr val="2165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6248520"/>
            <a:ext cx="17528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304920"/>
            <a:ext cx="9144000" cy="75960"/>
          </a:xfrm>
          <a:prstGeom prst="rect">
            <a:avLst/>
          </a:prstGeom>
          <a:solidFill>
            <a:srgbClr val="aaab7b">
              <a:alpha val="50000"/>
            </a:srgbClr>
          </a:solidFill>
          <a:ln w="12600">
            <a:solidFill>
              <a:srgbClr val="aaab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5943600"/>
            <a:ext cx="9144000" cy="76320"/>
          </a:xfrm>
          <a:prstGeom prst="rect">
            <a:avLst/>
          </a:prstGeom>
          <a:solidFill>
            <a:srgbClr val="aaab7b">
              <a:alpha val="50000"/>
            </a:srgbClr>
          </a:solidFill>
          <a:ln w="12600">
            <a:solidFill>
              <a:srgbClr val="aaab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839080" y="60480"/>
            <a:ext cx="381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54D3F-4CCB-4E09-90A2-03C3EDAB3D10}" type="slidenum">
              <a:rPr b="0" lang="en-US" sz="10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505320" y="6561000"/>
            <a:ext cx="5257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cc"/>
                </a:solidFill>
                <a:latin typeface="ArialHU"/>
              </a:rPr>
              <a:t>HYRJE NE VN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57200" y="76320"/>
            <a:ext cx="5257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cc"/>
                </a:solidFill>
                <a:latin typeface="ArialHU"/>
              </a:rPr>
              <a:t>MBESHTETUR NGA PROGRAMET OBNOVA DHE PHARE TE BASHKIMIT EVROPI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442800" y="6362640"/>
            <a:ext cx="36576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Arial"/>
              </a:rPr>
              <a:t>MANUAL BURIMOR PER TRAJNIM MBI VNMPER EVROPEN JUGLIND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" name="" descr=""/>
          <p:cNvPicPr/>
          <p:nvPr/>
        </p:nvPicPr>
        <p:blipFill>
          <a:blip r:embed="rId2"/>
          <a:stretch/>
        </p:blipFill>
        <p:spPr>
          <a:xfrm>
            <a:off x="7848720" y="152280"/>
            <a:ext cx="900000" cy="900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Optima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Optima"/>
            </a:endParaRPr>
          </a:p>
          <a:p>
            <a:pPr lvl="1" marL="190440" indent="0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Optima"/>
            </a:endParaRPr>
          </a:p>
          <a:p>
            <a:pPr lvl="2" marL="576360" indent="-195480">
              <a:spcBef>
                <a:spcPts val="34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Optima"/>
            </a:endParaRPr>
          </a:p>
          <a:p>
            <a:pPr lvl="3" marL="947880" indent="-181080">
              <a:spcBef>
                <a:spcPts val="34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Optima"/>
              </a:rPr>
              <a:t>Fourth Outline Level</a:t>
            </a:r>
            <a:endParaRPr b="0" i="1" lang="en-US" sz="1400" spc="-1" strike="noStrike">
              <a:solidFill>
                <a:srgbClr val="000000"/>
              </a:solidFill>
              <a:latin typeface="Optima"/>
            </a:endParaRPr>
          </a:p>
          <a:p>
            <a:pPr lvl="4" marL="1338120" indent="-199800">
              <a:spcBef>
                <a:spcPts val="349"/>
              </a:spcBef>
              <a:buClr>
                <a:srgbClr val="000000"/>
              </a:buClr>
              <a:buFont typeface="Opti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Optima"/>
            </a:endParaRPr>
          </a:p>
          <a:p>
            <a:pPr lvl="5" marL="1338120" indent="-199800">
              <a:spcBef>
                <a:spcPts val="349"/>
              </a:spcBef>
              <a:buClr>
                <a:srgbClr val="000000"/>
              </a:buClr>
              <a:buFont typeface="Opti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Optima"/>
            </a:endParaRPr>
          </a:p>
          <a:p>
            <a:pPr lvl="6" marL="1338120" indent="-199800">
              <a:spcBef>
                <a:spcPts val="349"/>
              </a:spcBef>
              <a:buClr>
                <a:srgbClr val="000000"/>
              </a:buClr>
              <a:buFont typeface="Opti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2165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04920"/>
            <a:ext cx="9144000" cy="75960"/>
          </a:xfrm>
          <a:prstGeom prst="rect">
            <a:avLst/>
          </a:prstGeom>
          <a:solidFill>
            <a:srgbClr val="aaab7b">
              <a:alpha val="50000"/>
            </a:srgbClr>
          </a:solidFill>
          <a:ln w="12600">
            <a:solidFill>
              <a:srgbClr val="aaab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6019920"/>
            <a:ext cx="9144000" cy="858600"/>
          </a:xfrm>
          <a:prstGeom prst="rect">
            <a:avLst/>
          </a:prstGeom>
          <a:solidFill>
            <a:srgbClr val="2165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5943600"/>
            <a:ext cx="9144000" cy="76320"/>
          </a:xfrm>
          <a:prstGeom prst="rect">
            <a:avLst/>
          </a:prstGeom>
          <a:solidFill>
            <a:srgbClr val="aaab7b">
              <a:alpha val="50000"/>
            </a:srgbClr>
          </a:solidFill>
          <a:ln w="12600">
            <a:solidFill>
              <a:srgbClr val="aaab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31640" y="6157800"/>
            <a:ext cx="3124440" cy="6876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49200" y="54000"/>
            <a:ext cx="57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cc"/>
                </a:solidFill>
                <a:latin typeface="Arial"/>
              </a:rPr>
              <a:t>MBESHTETUR NGA PROGRAMET OBNOVA DHE PHARE TE BASHKIMIT EVROPI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7899480" y="6173640"/>
            <a:ext cx="871560" cy="576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169040" y="6175440"/>
            <a:ext cx="490680" cy="5763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5308560" y="6161040"/>
            <a:ext cx="1676520" cy="57636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Optima"/>
              </a:rPr>
              <a:t>Click to edit the outline text format</a:t>
            </a:r>
            <a:endParaRPr b="0" i="1" lang="en-US" sz="2000" spc="-1" strike="noStrike">
              <a:solidFill>
                <a:srgbClr val="000000"/>
              </a:solidFill>
              <a:latin typeface="Optima"/>
            </a:endParaRPr>
          </a:p>
          <a:p>
            <a:pPr lvl="1" marL="190440" indent="0" algn="ctr"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Optima"/>
            </a:endParaRPr>
          </a:p>
          <a:p>
            <a:pPr lvl="2" marL="380880" algn="ctr">
              <a:spcBef>
                <a:spcPts val="34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Optima"/>
            </a:endParaRPr>
          </a:p>
          <a:p>
            <a:pPr lvl="3" marL="766800" algn="ctr">
              <a:spcBef>
                <a:spcPts val="349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Optima"/>
              </a:rPr>
              <a:t>Fourth Outline Level</a:t>
            </a:r>
            <a:endParaRPr b="0" i="1" lang="en-US" sz="1400" spc="-1" strike="noStrike">
              <a:solidFill>
                <a:srgbClr val="000000"/>
              </a:solidFill>
              <a:latin typeface="Optima"/>
            </a:endParaRPr>
          </a:p>
          <a:p>
            <a:pPr lvl="4" marL="1138320" algn="ctr">
              <a:spcBef>
                <a:spcPts val="349"/>
              </a:spcBef>
              <a:buClr>
                <a:srgbClr val="000000"/>
              </a:buClr>
              <a:buFont typeface="Opti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Optima"/>
            </a:endParaRPr>
          </a:p>
          <a:p>
            <a:pPr lvl="5" marL="1138320">
              <a:spcBef>
                <a:spcPts val="349"/>
              </a:spcBef>
              <a:buClr>
                <a:srgbClr val="000000"/>
              </a:buClr>
              <a:buFont typeface="Opti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Optima"/>
            </a:endParaRPr>
          </a:p>
          <a:p>
            <a:pPr lvl="6" marL="1138320">
              <a:spcBef>
                <a:spcPts val="349"/>
              </a:spcBef>
              <a:buClr>
                <a:srgbClr val="000000"/>
              </a:buClr>
              <a:buFont typeface="Opti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Optim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4832280" y="4710960"/>
            <a:ext cx="3886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800000"/>
                </a:solidFill>
                <a:latin typeface="Arial"/>
                <a:ea typeface="Times New Roman"/>
              </a:rPr>
              <a:t>Hyrje në VN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304920"/>
            <a:ext cx="9144000" cy="75960"/>
          </a:xfrm>
          <a:prstGeom prst="rect">
            <a:avLst/>
          </a:prstGeom>
          <a:solidFill>
            <a:srgbClr val="aaab7b">
              <a:alpha val="50000"/>
            </a:srgbClr>
          </a:solidFill>
          <a:ln w="12600">
            <a:solidFill>
              <a:srgbClr val="aaab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935600" y="1457640"/>
            <a:ext cx="382752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ANUAL BURIMOR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ER TRAINIM MBI VNM 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ER EVROPEN JUGLINDO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990720" y="1523880"/>
            <a:ext cx="3598920" cy="35989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380880" y="2450880"/>
            <a:ext cx="83822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85840" indent="-285840">
              <a:lnSpc>
                <a:spcPct val="120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ërcaktimi i efekteve të mundshme të rëndësishme në mjedis të projekteve të mëdha të zhvillimi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85840" indent="-285840">
              <a:lnSpc>
                <a:spcPct val="120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gjerimi i masave parandaluese të nevojshme për të zvogëluar ose rehabilituar këto efekte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342720" y="679320"/>
            <a:ext cx="65912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800000"/>
                </a:solidFill>
                <a:latin typeface="Arial"/>
              </a:rPr>
              <a:t>Qëllimi i VNMsë </a:t>
            </a: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43080" y="659880"/>
            <a:ext cx="727704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VNMja është një mjet për t’u zbatuar…</a:t>
            </a:r>
            <a:endParaRPr b="1" lang="en-US" sz="2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2437920"/>
            <a:ext cx="838224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lnSpc>
                <a:spcPct val="120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ë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para marrjes së vendimeve të rëndësishme dhe kur të gjitha alternativat janë ende të hapura;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85840" indent="-285840">
              <a:lnSpc>
                <a:spcPct val="120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ër të informuar të gjitha nivelet e vendimmarrjes, duke përfshirë edhe miratimin përfundimtar dhe vënien e kushteve për zbatimin e projektit;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85840" indent="-285840">
              <a:lnSpc>
                <a:spcPct val="120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 pjesëmarrjen dhe konsultimin e publikut; dhe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  <a:p>
            <a:pPr marL="285840" indent="-285840">
              <a:lnSpc>
                <a:spcPct val="120000"/>
              </a:lnSpc>
              <a:spcBef>
                <a:spcPts val="4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ër të përfshirë aspektet mjedisore dhe të sigurisë në të gjitha fazat e hartimit të projektit, ndërtimit dhe funksionimit të aktivitetit</a:t>
            </a:r>
            <a:endParaRPr b="1" lang="en-US" sz="1600" spc="-1" strike="noStrike">
              <a:solidFill>
                <a:srgbClr val="000000"/>
              </a:solidFill>
              <a:latin typeface="Opti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Miroslav Chodak</dc:creator>
  <dc:description/>
  <dc:language>en-US</dc:language>
  <cp:lastModifiedBy>Agata Miazga</cp:lastModifiedBy>
  <cp:lastPrinted>2002-04-02T12:21:41Z</cp:lastPrinted>
  <dcterms:modified xsi:type="dcterms:W3CDTF">2004-04-02T10:16:45Z</dcterms:modified>
  <cp:revision>247</cp:revision>
  <dc:subject/>
  <dc:title>No Slide Title</dc:title>
</cp:coreProperties>
</file>