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19920"/>
            <a:ext cx="9144000" cy="85068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24852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39080" y="604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3B33-863A-4EDC-84B8-1969AF193D23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952880" y="6485040"/>
            <a:ext cx="3892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fffcc"/>
                </a:solidFill>
                <a:latin typeface="ArialHU"/>
              </a:rPr>
              <a:t>PREGLED ANALIZE UTICA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0720" y="101520"/>
            <a:ext cx="525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cc"/>
                </a:solidFill>
                <a:latin typeface="ArialHU"/>
              </a:rPr>
              <a:t>PROJEKAT PODR</a:t>
            </a:r>
            <a:r>
              <a:rPr b="0" lang="en-US" sz="1000" spc="-1" strike="noStrike">
                <a:solidFill>
                  <a:srgbClr val="ffffcc"/>
                </a:solidFill>
                <a:latin typeface="Arial"/>
                <a:ea typeface="Arial"/>
              </a:rPr>
              <a:t>Ž</a:t>
            </a:r>
            <a:r>
              <a:rPr b="0" lang="sr-Latn-CS" sz="1000" spc="-1" strike="noStrike">
                <a:solidFill>
                  <a:srgbClr val="ffffcc"/>
                </a:solidFill>
                <a:latin typeface="Arial"/>
                <a:ea typeface="Arial"/>
              </a:rPr>
              <a:t>AN OD STRANE EVROPSKE UNIJE OBNOVA I PHAR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0720" y="6292800"/>
            <a:ext cx="2819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cc"/>
                </a:solidFill>
                <a:latin typeface="Arial"/>
              </a:rPr>
              <a:t>RESURSNI VODIČ ZA PU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  <a:ea typeface="Arial"/>
              </a:rPr>
              <a:t>Ž</a:t>
            </a:r>
            <a:r>
              <a:rPr b="0" lang="sr-Latn-CS" sz="1200" spc="-1" strike="noStrike">
                <a:solidFill>
                  <a:srgbClr val="ffffcc"/>
                </a:solidFill>
                <a:latin typeface="Arial"/>
                <a:ea typeface="Arial"/>
              </a:rPr>
              <a:t>S (EIA) ZA JUGOISTOČNU EVRO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931160" y="152280"/>
            <a:ext cx="901800" cy="908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576360" indent="-195480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947880" indent="-1810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19920"/>
            <a:ext cx="9144000" cy="85860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25520" y="6145200"/>
            <a:ext cx="3124080" cy="687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55680" y="54000"/>
            <a:ext cx="57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cc"/>
                </a:solidFill>
                <a:latin typeface="Arial"/>
              </a:rPr>
              <a:t>PROJEKAT PODR</a:t>
            </a:r>
            <a:r>
              <a:rPr b="0" lang="en-US" sz="1000" spc="-1" strike="noStrike">
                <a:solidFill>
                  <a:srgbClr val="ffffcc"/>
                </a:solidFill>
                <a:latin typeface="Arial"/>
                <a:ea typeface="Arial"/>
              </a:rPr>
              <a:t>Ž</a:t>
            </a:r>
            <a:r>
              <a:rPr b="0" lang="sr-Latn-CS" sz="1000" spc="-1" strike="noStrike">
                <a:solidFill>
                  <a:srgbClr val="ffffcc"/>
                </a:solidFill>
                <a:latin typeface="Arial"/>
                <a:ea typeface="Arial"/>
              </a:rPr>
              <a:t>AN OD STRANE EVROPSKE UNIJE OBNOVA I PHAR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969320" y="6176880"/>
            <a:ext cx="87156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273800" y="6175440"/>
            <a:ext cx="490680" cy="576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365800" y="6167520"/>
            <a:ext cx="1676520" cy="576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380880" algn="ctr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766800" algn="ctr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138320" algn="ctr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46760" y="1471680"/>
            <a:ext cx="3828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URSNI VODI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Č ZA P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Ž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S (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A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) ZA JUGOISTOČNU EVRO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34800" y="4734000"/>
            <a:ext cx="148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Preg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0720" y="1506600"/>
            <a:ext cx="3573360" cy="359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990720" y="1047600"/>
            <a:ext cx="6486120" cy="4749840"/>
            <a:chOff x="990720" y="1047600"/>
            <a:chExt cx="6486120" cy="474984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990720" y="1047600"/>
              <a:ext cx="6325920" cy="474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019400" y="1054080"/>
              <a:ext cx="924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Identifikacija</a:t>
              </a:r>
              <a:br>
                <a:rPr sz="1000"/>
              </a:b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predlog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41720" y="1582560"/>
              <a:ext cx="844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Utvrđivanje</a:t>
              </a:r>
              <a:br>
                <a:rPr sz="1000"/>
              </a:b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potreb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022280" y="2028960"/>
              <a:ext cx="95652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000000"/>
                  </a:solidFill>
                  <a:latin typeface="Arial"/>
                </a:rPr>
                <a:t>Inicijalno</a:t>
              </a:r>
              <a:br>
                <a:rPr sz="900"/>
              </a:br>
              <a:r>
                <a:rPr b="0" lang="sr-Latn-CS" sz="900" spc="-1" strike="noStrike">
                  <a:solidFill>
                    <a:srgbClr val="000000"/>
                  </a:solidFill>
                  <a:latin typeface="Arial"/>
                </a:rPr>
                <a:t>ispitivanje</a:t>
              </a:r>
              <a:br>
                <a:rPr sz="900"/>
              </a:br>
              <a:r>
                <a:rPr b="0" lang="sr-Latn-CS" sz="900" spc="-1" strike="noStrike">
                  <a:solidFill>
                    <a:srgbClr val="000000"/>
                  </a:solidFill>
                  <a:latin typeface="Arial"/>
                </a:rPr>
                <a:t>zivotne sred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32840" y="1550880"/>
              <a:ext cx="965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Nije potrebna </a:t>
              </a:r>
              <a:br>
                <a:rPr sz="1000"/>
              </a:b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E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63800" y="3406680"/>
              <a:ext cx="1067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Učešće javnost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22840" y="3738600"/>
              <a:ext cx="185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Učešće javnosti se obično </a:t>
              </a:r>
              <a:br>
                <a:rPr sz="1000"/>
              </a:b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javlja pri ovim koracima</a:t>
              </a:r>
              <a:br>
                <a:rPr sz="1000"/>
              </a:b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moze se pojaviti i na bilo koje</a:t>
              </a:r>
              <a:br>
                <a:rPr sz="1000"/>
              </a:b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drugom koraku u procesu E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57000" y="1581120"/>
              <a:ext cx="91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EIA potreb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19280" y="2041560"/>
              <a:ext cx="861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dre</a:t>
              </a: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đivanje</a:t>
              </a:r>
              <a:br>
                <a:rPr sz="1000"/>
              </a:b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okvi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420640" y="258444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Analiza utic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03360" y="3006720"/>
              <a:ext cx="10951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800" spc="-1" strike="noStrike">
                  <a:solidFill>
                    <a:srgbClr val="000000"/>
                  </a:solidFill>
                  <a:latin typeface="Arial"/>
                </a:rPr>
                <a:t>Ublazavanje </a:t>
              </a:r>
              <a:br>
                <a:rPr sz="800"/>
              </a:br>
              <a:r>
                <a:rPr b="0" lang="sr-Latn-CS" sz="800" spc="-1" strike="noStrike">
                  <a:solidFill>
                    <a:srgbClr val="000000"/>
                  </a:solidFill>
                  <a:latin typeface="Arial"/>
                </a:rPr>
                <a:t>uticaja i </a:t>
              </a:r>
              <a:br>
                <a:rPr sz="800"/>
              </a:br>
              <a:r>
                <a:rPr b="0" lang="sr-Latn-CS" sz="800" spc="-1" strike="noStrike">
                  <a:solidFill>
                    <a:srgbClr val="000000"/>
                  </a:solidFill>
                  <a:latin typeface="Arial"/>
                </a:rPr>
                <a:t>menađzment uticaj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14880" y="5391000"/>
              <a:ext cx="1063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lementacija </a:t>
              </a:r>
              <a:br>
                <a:rPr sz="1000"/>
              </a:b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 monitor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12600" y="5078520"/>
              <a:ext cx="208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cija iz ovog procesa </a:t>
              </a:r>
              <a:br>
                <a:rPr sz="1000"/>
              </a:b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prinosi efektivnosti EIA proces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45080" y="4540320"/>
              <a:ext cx="965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je odobre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63800" y="4057560"/>
              <a:ext cx="979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zajniranj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39040" y="3486240"/>
              <a:ext cx="833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novno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dno</a:t>
              </a: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šenj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511000" y="3562200"/>
              <a:ext cx="84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EIA Izveštaj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73400" y="3975120"/>
              <a:ext cx="1314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339933"/>
                  </a:solidFill>
                  <a:latin typeface="Arial"/>
                  <a:ea typeface="Arial"/>
                </a:rPr>
                <a:t>Pregled</a:t>
              </a:r>
              <a:br>
                <a:rPr sz="1000"/>
              </a:br>
              <a:r>
                <a:rPr b="1" lang="sr-Latn-CS" sz="1000" spc="-1" strike="noStrike">
                  <a:solidFill>
                    <a:srgbClr val="339933"/>
                  </a:solidFill>
                  <a:latin typeface="Arial"/>
                  <a:ea typeface="Arial"/>
                </a:rPr>
                <a:t>izvešt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43320" y="4438800"/>
              <a:ext cx="992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ošenje</a:t>
              </a:r>
              <a:br>
                <a:rPr sz="1000"/>
              </a:b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dluk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58160" y="5040360"/>
              <a:ext cx="74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dobre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31640" y="736200"/>
            <a:ext cx="703584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800000"/>
                </a:solidFill>
                <a:latin typeface="Arial"/>
              </a:rPr>
              <a:t>Ciljevi pregleda procene uticaja na životnu sredinu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55320" y="2452680"/>
            <a:ext cx="6629400" cy="12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regled kvaliteta izveštaja o proceni uticaja na životnu sredinu;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Uzimanje u obzir javnih komentara;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Određivanje da li su postojeće informacije dovoljne;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Identifikovanje eventualnih nedostataka koje treba otkloniti.</a:t>
            </a: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8120" y="736200"/>
            <a:ext cx="74232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800000"/>
                </a:solidFill>
                <a:latin typeface="Arial"/>
              </a:rPr>
              <a:t>Elementi koji se uzimaju u obzir tokom pregleda procene uticaja na životnu sredinu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2449080"/>
            <a:ext cx="6946920" cy="20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regled je usklađen sa ciljevima koje treba da ispuni izveštaj o proceni uticaja na životnu sredinu;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Tačnost i tehnička ispravnost informacija;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Komentari javnosti uzimaju se u obzir;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at je potpun i zadovoljavajući izveštaj o ključnim nalazima;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Informacije su jasne i razumljive;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Informacije su dovoljne za proces odlučivanja.</a:t>
            </a: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4600" y="7300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800000"/>
                </a:solidFill>
                <a:latin typeface="Arial"/>
              </a:rPr>
              <a:t>Ko je odgovoran za obavljanje pregleda procene uticaja na životnu sredinu?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2450880"/>
            <a:ext cx="6858000" cy="25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Ustanova nadležna za životnu sredinu – Kanada (sveobuhvatne studije);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Nezavisni panel (ili posrednik – medijator) – Kanada (javni pretresi, tj. ispitivanja);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Stalna komisija – Holandija;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Međuagencijski komitet - Sjedinjene Američke Države;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Organ nadležan za planiranje – Ujedinjeno Kraljevstvo;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Javni komentari i informacije dobijene od javnosti ('input') moraju se takođe uzeti  u obzir  (Direktiva EC).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4600" y="729720"/>
            <a:ext cx="6959520" cy="87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800000"/>
                </a:solidFill>
                <a:latin typeface="Arial"/>
              </a:rPr>
              <a:t>Metodi razmatranja procene uticaja na životnu sredinu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2452320"/>
            <a:ext cx="685800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Moguća je primena sledećih metod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49160" indent="-2664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generalne ček-liste  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49160" indent="-2664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ček-liste za specifični projekat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49160" indent="-2664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kompleti razmatranja   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49160" indent="-2664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eksperti i akreditovani subjekti razmatranja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49160" indent="-2664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javna saslušanja zainteresovanih  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49160" indent="-2664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okviri delotvornosti razmatranja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4240" y="730080"/>
            <a:ext cx="77086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800000"/>
                </a:solidFill>
                <a:latin typeface="Arial"/>
              </a:rPr>
              <a:t>Formalni pregledi izveštaja o proceni uticaja na životnu sredinu:</a:t>
            </a:r>
            <a:br>
              <a:rPr sz="2800"/>
            </a:br>
            <a:r>
              <a:rPr b="1" lang="sl-SI" sz="2800" spc="-1" strike="noStrike">
                <a:solidFill>
                  <a:srgbClr val="800000"/>
                </a:solidFill>
                <a:latin typeface="Arial"/>
              </a:rPr>
              <a:t>Primeri iz zemalja-članica Evropske unije – 1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2451240"/>
            <a:ext cx="8553600" cy="24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800000"/>
                </a:solidFill>
                <a:latin typeface="Arial"/>
              </a:rPr>
              <a:t>Portugalij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Ministarstvo za životnu sredinu ima na raspolaganju dvadeset radnih dana da se izjasni o tome da li izveštaj o P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S ispunjava uslove predviđene relevantnim zakonima ili da li su potrebne dodatne informacije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800000"/>
                </a:solidFill>
                <a:latin typeface="Arial"/>
              </a:rPr>
              <a:t>Irsk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Uputstva (i dodatne savetodavne  napomene) sastavljene su tako da pomažu organima koji odlučuju o tome da li su izveštaji o proceni uticaja na životnu sredinu odgovarajući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800000"/>
                </a:solidFill>
                <a:latin typeface="Arial"/>
              </a:rPr>
              <a:t>Španij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Izveštaj o proceni uticaja na životnu sredinu kontroliše se u odnosu na uslove koji su utvrđeni u procesu određivanja obima, što obuhvata i učešće javnosti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4240" y="736560"/>
            <a:ext cx="77850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800000"/>
                </a:solidFill>
                <a:latin typeface="Arial"/>
              </a:rPr>
              <a:t>Formalni pregledi izveštaja o proceni uticaja </a:t>
            </a:r>
            <a:br>
              <a:rPr sz="2800"/>
            </a:br>
            <a:r>
              <a:rPr b="1" lang="sl-SI" sz="2800" spc="-1" strike="noStrike">
                <a:solidFill>
                  <a:srgbClr val="800000"/>
                </a:solidFill>
                <a:latin typeface="Arial"/>
              </a:rPr>
              <a:t>na životnu sredinu:</a:t>
            </a:r>
            <a:br>
              <a:rPr sz="2800"/>
            </a:br>
            <a:r>
              <a:rPr b="1" lang="sl-SI" sz="2800" spc="-1" strike="noStrike">
                <a:solidFill>
                  <a:srgbClr val="800000"/>
                </a:solidFill>
                <a:latin typeface="Arial"/>
              </a:rPr>
              <a:t>Primeri iz zemalja-članica Evropske unije – 2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2451240"/>
            <a:ext cx="7721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800000"/>
                </a:solidFill>
                <a:latin typeface="Arial"/>
              </a:rPr>
              <a:t>Švedsk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elegacija nadležna za ispitivanje koje se odnosi na životnu sredinu (u sklopu oblasnih upravnih odbora i sudova sa jurisdikcijom za sporove u vezi sa životnom sredinom) odlučuje o tome da li konkretne procene uticaja na životnu sredinu odgovaraju uslovima predviđenim zakonodavstvom kojim se reguliše materija životne sredine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800000"/>
                </a:solidFill>
                <a:latin typeface="Arial"/>
              </a:rPr>
              <a:t>Holandij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Nezavisna komisija nadležna za materiju životne sredine propisuje uputstva koja se odnose na postupanje sa projektima u postupku određivanja obima; takođe vrši ispitivanje podobnosti izveštaja o PUŽS; ova komisija daje svoje mišljenje organu koji donosi odluke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roslav Chodak</dc:creator>
  <dc:description/>
  <dc:language>en-US</dc:language>
  <cp:lastModifiedBy>Agata Miazga</cp:lastModifiedBy>
  <cp:lastPrinted>2002-04-02T12:21:41Z</cp:lastPrinted>
  <dcterms:modified xsi:type="dcterms:W3CDTF">2004-03-31T11:35:52Z</dcterms:modified>
  <cp:revision>356</cp:revision>
  <dc:subject/>
  <dc:title>No Slide Title</dc:title>
</cp:coreProperties>
</file>