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1E419-3463-4848-A6BF-64EE2906F5DD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4852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 TRAINING RESOURCE MANUAL FOR SOUTH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10640" y="131760"/>
            <a:ext cx="92844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07732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8180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73800" y="6167520"/>
            <a:ext cx="167616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109160"/>
            <a:ext cx="38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TRAIN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ANU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SOUTH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4800" y="4400640"/>
            <a:ext cx="140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201680"/>
            <a:ext cx="357336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8824" t="25000" r="6864" b="25000"/>
          <a:stretch/>
        </p:blipFill>
        <p:spPr>
          <a:xfrm>
            <a:off x="838080" y="914400"/>
            <a:ext cx="65534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640" y="736200"/>
            <a:ext cx="7035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Goals of an EIA review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01440" y="2413080"/>
            <a:ext cx="66294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Review the quality of the EIA repor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Take public comments into accoun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Determine if the information is sufficien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dentify any deficiencies to be corrected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5520" y="736560"/>
            <a:ext cx="7423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Considerations during an EIA review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1440" y="2411280"/>
            <a:ext cx="6946920" cy="21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The review complies with terms of reference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for the EIA Repor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nformation is correct and technically sound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ublic comments are taken into accoun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There is a complete and satisfactory statement of key finding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nformation is clear and understandabl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nformation is sufficient for decision-making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640" y="7300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Who is responsible for performing </a:t>
            </a:r>
            <a:br>
              <a:rPr sz="2800"/>
            </a:b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an EIA review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82720" y="2412720"/>
            <a:ext cx="68580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environmental agency — Canada (comprehensive studie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ndependent panel (or mediator) — Canada (public inquirie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standing commission — Netherland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nter-agency committee — US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lanning authority — UK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HU"/>
              </a:rPr>
              <a:t>Public comment and input must also be taken into account </a:t>
            </a:r>
            <a:br>
              <a:rPr sz="1600"/>
            </a:br>
            <a:r>
              <a:rPr b="0" i="1" lang="en-AU" sz="1600" spc="-1" strike="noStrike">
                <a:solidFill>
                  <a:srgbClr val="000000"/>
                </a:solidFill>
                <a:latin typeface="ArialHU"/>
              </a:rPr>
              <a:t>(EC Directive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1280" y="730080"/>
            <a:ext cx="6959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EIA review method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8840" y="2406600"/>
            <a:ext cx="6858000" cy="238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The following may be used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general checklists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roject-specific checklists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review packages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experts and accredited reviewers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ublic hearings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effectiveness-review frameworks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1280" y="730080"/>
            <a:ext cx="7417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Formal Review of EIA Reports: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examples from EU member states - 1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88840" y="2413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HU"/>
                <a:ea typeface="Times New Roman"/>
              </a:rPr>
              <a:t>Portugal</a:t>
            </a:r>
            <a:r>
              <a:rPr b="1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Ministry of Environment has 20 working days to declare if the EIA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Report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meets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requirements of the laws or whether it needs additional informati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HU"/>
                <a:ea typeface="Times New Roman"/>
              </a:rPr>
              <a:t>Ireland</a:t>
            </a:r>
            <a:r>
              <a:rPr b="1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Guidelines (and accompanying Advice Notes) are designed to assist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decision-making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uthorities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n considering the adequacy of EI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 report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HU"/>
                <a:ea typeface="Times New Roman"/>
              </a:rPr>
              <a:t>Spai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IA Report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s checked against the terms established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during 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oping, which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ncludes public participati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1640" y="736560"/>
            <a:ext cx="7188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Formal Review of EIA Reports: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examples from EU member states - 2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8480" y="2413080"/>
            <a:ext cx="7721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HU"/>
                <a:ea typeface="Times New Roman"/>
              </a:rPr>
              <a:t>Sweden</a:t>
            </a:r>
            <a:r>
              <a:rPr b="1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Environmental Examination Delegation (within the County administrative boards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nd environmental courts) decides whether an EIA fulfils th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requirements of EIA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legislati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HU"/>
                <a:ea typeface="Times New Roman"/>
              </a:rPr>
              <a:t>Netherlands</a:t>
            </a:r>
            <a:r>
              <a:rPr b="1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n independen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EIA commission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issues projec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-specific guidelines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during scoping, reviews the adequacy of an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I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 report, and submits its opinion to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he decision-making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uthority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zsbauer</cp:lastModifiedBy>
  <cp:lastPrinted>2002-04-02T12:21:41Z</cp:lastPrinted>
  <dcterms:modified xsi:type="dcterms:W3CDTF">2003-10-27T08:47:03Z</dcterms:modified>
  <cp:revision>334</cp:revision>
  <dc:subject/>
  <dc:title>No Slide Title</dc:title>
</cp:coreProperties>
</file>