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DBC5-78EC-46AC-94AD-6C7CB0E4A1DB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05320" y="6305400"/>
            <a:ext cx="525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HU"/>
              </a:rPr>
              <a:t>ZBUTJA DHE MENAXHIMI </a:t>
            </a:r>
            <a:br>
              <a:rPr sz="1200"/>
            </a:br>
            <a:r>
              <a:rPr b="1" lang="en-GB" sz="1200" spc="-1" strike="noStrike">
                <a:solidFill>
                  <a:srgbClr val="ffffcc"/>
                </a:solidFill>
                <a:latin typeface="ArialHU"/>
              </a:rPr>
              <a:t>I NDIKIMEVE 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76320"/>
            <a:ext cx="525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HU"/>
              </a:rPr>
              <a:t>MBESHTETUR NGA PROGRAMET OBNOVA DHE PHARE TE BASHKIMIT EVROP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0720" y="6292800"/>
            <a:ext cx="35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MANUAL BURIMOR PER TRAJNIM MBI VNM-n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  <a:ea typeface="Times New Roman"/>
              </a:rPr>
              <a:t>PER EVROPEN JUGLIND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23160" y="133200"/>
            <a:ext cx="934920" cy="935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31640" y="6157800"/>
            <a:ext cx="3124440" cy="687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5680" y="5400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MBESHTETUR NGA PROGRAMET OBNOVA DHE PHARE TE BASHKIMIT EVROP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89948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203960" y="618012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308560" y="617364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40280" y="1483920"/>
            <a:ext cx="383544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UAL BURIMO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 TRAINIM MBI VNM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 EVROPEN JUGLIND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37680" y="4276800"/>
            <a:ext cx="3931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Zbutja dhe menaxhi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i ndikimeve neg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0660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77760" y="1054080"/>
            <a:ext cx="6326280" cy="4749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409000" y="3733920"/>
            <a:ext cx="28598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Përfshirja e publikut duh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eçanërisht në këto faz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egjithatë publiku mund të përfshihet ed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ë secilën prej fazave të tjera tëprocesit të VNM-s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494240" y="5118120"/>
            <a:ext cx="3265200" cy="266760"/>
            <a:chOff x="4494240" y="5118120"/>
            <a:chExt cx="3265200" cy="266760"/>
          </a:xfrm>
        </p:grpSpPr>
        <p:sp>
          <p:nvSpPr>
            <p:cNvPr id="102" name=""/>
            <p:cNvSpPr/>
            <p:nvPr/>
          </p:nvSpPr>
          <p:spPr>
            <a:xfrm>
              <a:off x="4494600" y="5118120"/>
              <a:ext cx="151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formacioni nga ky pro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94240" y="5232240"/>
              <a:ext cx="3265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dihmon në procese më efektive të VNMsë në të ardhm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5562720" y="16765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uk duhet VN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43440" y="20700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lerësimi paraprak mjedis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5067360"/>
            <a:ext cx="52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iratoh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55960" y="4559400"/>
            <a:ext cx="78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uk miratoh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70440" y="4051440"/>
            <a:ext cx="64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ipërgatit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70440" y="3581280"/>
            <a:ext cx="61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iparaqit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53880" y="1108080"/>
            <a:ext cx="101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ërcaktimi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jekt-propozim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88640" y="3429000"/>
            <a:ext cx="1157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Përfshirja e publik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43240" y="1612800"/>
            <a:ext cx="66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ërzgjedh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ër V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62040" y="2095560"/>
            <a:ext cx="97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ërcaktim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 përmbajtj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14880" y="2666880"/>
            <a:ext cx="102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Analiza e ndikimev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80400" y="3054240"/>
            <a:ext cx="9226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9933"/>
                </a:solidFill>
                <a:latin typeface="Arial"/>
                <a:ea typeface="Times New Roman"/>
              </a:rPr>
              <a:t>Zbut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9933"/>
                </a:solidFill>
                <a:latin typeface="Arial"/>
                <a:ea typeface="Times New Roman"/>
              </a:rPr>
              <a:t>dhe menaxhi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9933"/>
                </a:solidFill>
                <a:latin typeface="Arial"/>
                <a:ea typeface="Times New Roman"/>
              </a:rPr>
              <a:t>i ndikime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58440" y="3613320"/>
            <a:ext cx="91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aporti i VNMs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67600" y="40575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ishiki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35480" y="457200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endimmarr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05680" y="5473800"/>
            <a:ext cx="65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Zbatimi d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25360" y="5511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90840" y="16891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ërkohet V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49200" y="672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Qëllimi i zbutjes së ndikimeve negativ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2463840"/>
            <a:ext cx="8763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lvl="2" marL="652680" indent="-283320">
              <a:lnSpc>
                <a:spcPct val="115000"/>
              </a:lnSpc>
              <a:spcBef>
                <a:spcPts val="1400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ër të parandalua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minimizuar ose rikthyer në gjendjen e mëparshme ndikimet negative të rikthyesh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52680" indent="-283320">
              <a:lnSpc>
                <a:spcPct val="115000"/>
              </a:lnSpc>
              <a:spcBef>
                <a:spcPts val="1400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ër të siguruar se ndikimet që do të ndodhin janë brenda niveleve të pranuesh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652680" indent="-283320">
              <a:lnSpc>
                <a:spcPct val="115000"/>
              </a:lnSpc>
              <a:spcBef>
                <a:spcPts val="1400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ër të rritur përfitimet mjedisore dhe soc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0920" y="672840"/>
            <a:ext cx="7202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Kuadri i zbutjes së ndikimeve negative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5" name=""/>
          <p:cNvSpPr/>
          <p:nvPr/>
        </p:nvSpPr>
        <p:spPr>
          <a:xfrm>
            <a:off x="1459080" y="2031840"/>
            <a:ext cx="177480" cy="2857680"/>
          </a:xfrm>
          <a:custGeom>
            <a:avLst/>
            <a:gdLst/>
            <a:ahLst/>
            <a:rect l="l" t="t" r="r" b="b"/>
            <a:pathLst>
              <a:path w="112" h="1800">
                <a:moveTo>
                  <a:pt x="0" y="1576"/>
                </a:moveTo>
                <a:lnTo>
                  <a:pt x="0" y="1576"/>
                </a:lnTo>
                <a:lnTo>
                  <a:pt x="32" y="1576"/>
                </a:lnTo>
                <a:lnTo>
                  <a:pt x="32" y="880"/>
                </a:lnTo>
                <a:lnTo>
                  <a:pt x="32" y="216"/>
                </a:lnTo>
                <a:lnTo>
                  <a:pt x="0" y="216"/>
                </a:lnTo>
                <a:lnTo>
                  <a:pt x="56" y="0"/>
                </a:lnTo>
                <a:lnTo>
                  <a:pt x="112" y="216"/>
                </a:lnTo>
                <a:lnTo>
                  <a:pt x="80" y="216"/>
                </a:lnTo>
                <a:lnTo>
                  <a:pt x="80" y="920"/>
                </a:lnTo>
                <a:lnTo>
                  <a:pt x="80" y="1576"/>
                </a:lnTo>
                <a:lnTo>
                  <a:pt x="112" y="1576"/>
                </a:lnTo>
                <a:lnTo>
                  <a:pt x="56" y="1800"/>
                </a:lnTo>
                <a:lnTo>
                  <a:pt x="0" y="1576"/>
                </a:lnTo>
                <a:close/>
              </a:path>
            </a:pathLst>
          </a:custGeom>
          <a:solidFill>
            <a:srgbClr val="005e3e"/>
          </a:solidFill>
          <a:ln w="12600">
            <a:solidFill>
              <a:srgbClr val="005e3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38360" y="1523880"/>
            <a:ext cx="3824280" cy="1295640"/>
          </a:xfrm>
          <a:custGeom>
            <a:avLst/>
            <a:gdLst/>
            <a:ahLst/>
            <a:rect l="l" t="t" r="r" b="b"/>
            <a:pathLst>
              <a:path w="2409" h="816">
                <a:moveTo>
                  <a:pt x="408" y="816"/>
                </a:moveTo>
                <a:lnTo>
                  <a:pt x="408" y="816"/>
                </a:lnTo>
                <a:lnTo>
                  <a:pt x="0" y="0"/>
                </a:lnTo>
                <a:lnTo>
                  <a:pt x="2409" y="0"/>
                </a:lnTo>
                <a:lnTo>
                  <a:pt x="2001" y="816"/>
                </a:lnTo>
                <a:lnTo>
                  <a:pt x="408" y="816"/>
                </a:lnTo>
                <a:close/>
              </a:path>
            </a:pathLst>
          </a:custGeom>
          <a:solidFill>
            <a:srgbClr val="4c8e78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21040" y="4127400"/>
            <a:ext cx="1258920" cy="1270080"/>
          </a:xfrm>
          <a:custGeom>
            <a:avLst/>
            <a:gdLst/>
            <a:ahLst/>
            <a:rect l="l" t="t" r="r" b="b"/>
            <a:pathLst>
              <a:path w="793" h="800">
                <a:moveTo>
                  <a:pt x="400" y="800"/>
                </a:moveTo>
                <a:lnTo>
                  <a:pt x="400" y="800"/>
                </a:lnTo>
                <a:lnTo>
                  <a:pt x="0" y="0"/>
                </a:lnTo>
                <a:lnTo>
                  <a:pt x="793" y="0"/>
                </a:lnTo>
                <a:lnTo>
                  <a:pt x="400" y="800"/>
                </a:lnTo>
                <a:close/>
              </a:path>
            </a:pathLst>
          </a:custGeom>
          <a:solidFill>
            <a:srgbClr val="79b2a1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86000" y="2819520"/>
            <a:ext cx="2529000" cy="1307880"/>
          </a:xfrm>
          <a:custGeom>
            <a:avLst/>
            <a:gdLst/>
            <a:ahLst/>
            <a:rect l="l" t="t" r="r" b="b"/>
            <a:pathLst>
              <a:path w="1593" h="824">
                <a:moveTo>
                  <a:pt x="400" y="824"/>
                </a:moveTo>
                <a:lnTo>
                  <a:pt x="400" y="824"/>
                </a:lnTo>
                <a:lnTo>
                  <a:pt x="0" y="0"/>
                </a:lnTo>
                <a:lnTo>
                  <a:pt x="1593" y="0"/>
                </a:lnTo>
                <a:lnTo>
                  <a:pt x="1193" y="824"/>
                </a:lnTo>
                <a:lnTo>
                  <a:pt x="400" y="824"/>
                </a:lnTo>
                <a:close/>
              </a:path>
            </a:pathLst>
          </a:custGeom>
          <a:solidFill>
            <a:srgbClr val="47937b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00800" y="1536840"/>
            <a:ext cx="2133720" cy="1440"/>
          </a:xfrm>
          <a:prstGeom prst="line">
            <a:avLst/>
          </a:prstGeom>
          <a:ln w="255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2819520"/>
            <a:ext cx="2133720" cy="1440"/>
          </a:xfrm>
          <a:prstGeom prst="line">
            <a:avLst/>
          </a:prstGeom>
          <a:ln w="255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400800" y="4102200"/>
            <a:ext cx="2133720" cy="1440"/>
          </a:xfrm>
          <a:prstGeom prst="line">
            <a:avLst/>
          </a:prstGeom>
          <a:ln w="255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00800" y="5410080"/>
            <a:ext cx="2133720" cy="1800"/>
          </a:xfrm>
          <a:prstGeom prst="line">
            <a:avLst/>
          </a:prstGeom>
          <a:ln w="25560">
            <a:solidFill>
              <a:srgbClr val="005e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960" y="1650960"/>
            <a:ext cx="2280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 zakonshëm (i dëshiru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1360" y="4952880"/>
            <a:ext cx="191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 rrallë (i padëshiru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326280" y="1752480"/>
            <a:ext cx="247104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end ose teknologji tjetë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ternative për të shmang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umbjen e habitat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2857680"/>
            <a:ext cx="2643480" cy="12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Masa zbutëse gjatë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ktimit, ndërtimit dh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funksionimit për të zvogëlua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ose mënjanuar humbje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 habitat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25920" y="4343400"/>
            <a:ext cx="252756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ërdorimi si burim i fundi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ër të kompensuar humbj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 habitat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90040" y="3352680"/>
            <a:ext cx="68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Zbut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886200" y="4572000"/>
            <a:ext cx="130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ompens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962160" y="1905120"/>
            <a:ext cx="109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hmang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4-02T10:28:25Z</dcterms:modified>
  <cp:revision>337</cp:revision>
  <dc:subject/>
  <dc:title>No Slide Title</dc:title>
</cp:coreProperties>
</file>