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025B-F908-45AD-982C-CAEE6C969763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ODREDUVAWE NA OBEMOT (</a:t>
            </a:r>
            <a:r>
              <a:rPr b="1" lang="en-GB" sz="1200" spc="-1" strike="noStrike">
                <a:solidFill>
                  <a:srgbClr val="ffffcc"/>
                </a:solidFill>
                <a:latin typeface="MAC C Swiss"/>
              </a:rPr>
              <a:t>SKOPING</a:t>
            </a: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46640"/>
            <a:ext cx="3581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69920"/>
            <a:ext cx="914400" cy="896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29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0" y="2232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4364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54400"/>
            <a:ext cx="3746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1360" y="4280040"/>
            <a:ext cx="3733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Odreduva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na obemot (skop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36600" y="692280"/>
            <a:ext cx="7283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oping vo soglasnost so Direktivata za OV@S na Evropskata Komisi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3533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ocesot na skoping mora da bide vnatre{en i na dobrovolna osnov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(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5.2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adle`niot organ dava mislewe za sodr`inata na izve{tajot za OV@S dokolku toa go bara izgotvuva~ot na izve{tajot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emjite ~lenki mo`e da pobaraat od nadle`niot organ da dade takvo mislewe, nezavisno od baraweto na izgotvuva~o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36240" y="69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oping vo soglasnost so pravilata na Svetskata bank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2441520"/>
            <a:ext cx="736596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Javen skoping se bara samo za proekti od kategorijata 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Pravila za rabota 4.01, ~len 15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emoprima~ite mora da ja konsultiraat zasegnatata javnost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ratko vreme po skriningot od aspekt na `ivotnata sredina i pred da se finalizira listata so zada~i za procenkata na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jata vrz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`ivotnata sredina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 ovaa inicijalna konsultacija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emoprima~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treba da obezbedi rezime koe }e gi sodr`i celite, opisot i potencijalnite vlijanija na predlo`eniot proek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36600" y="692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oping vo soglasnost so pravilata na Evropskata banka za obnova i razvoj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438280"/>
            <a:ext cx="815364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olitikata za `ivotna sredin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ne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s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3.3)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bara jav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skoping za proektite od kategorijata 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 identifikuvaat klu~nite pra{awa preku konsultacii so zasegnatata javnost i zemawe na nivnite zabele{ki, predlozi i mislewa predvid.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cesot vklu~uva kontakti so pretstavnici na zasegnatata javnost, vladini tela, lokalni vlasti i drugi organizaci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Listata so zada~i za OV@S i planot za konsultirawe na javnosta go preciziraat predlo`enoto u~estvo na javnosta niz celiot proces na OV@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8840" y="69336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oping vo soglasnost so Arhuskata konvenci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2457000"/>
            <a:ext cx="73598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ekoja stranka treba da obezbedi rano u~estvo na javnosta (t.e. koga site opcii se otvoreni i koga e mo`no da se realizira efikasno u~estvo na javnosta). (~len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Javniot skoping pomaga za ispolnuvawe na ovaa obvrsk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692280"/>
            <a:ext cx="7391520" cy="5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MAC C Swiss"/>
              </a:rPr>
              <a:t>S</a:t>
            </a:r>
            <a:r>
              <a:rPr b="1" lang="en-US" sz="2400" spc="-1" strike="noStrike">
                <a:solidFill>
                  <a:srgbClr val="800000"/>
                </a:solidFill>
                <a:latin typeface="MAC C Swiss"/>
              </a:rPr>
              <a:t>koping vo soglasnost so konvencijata E</a:t>
            </a:r>
            <a:r>
              <a:rPr b="1" lang="cs-CZ" sz="2400" spc="-1" strike="noStrike">
                <a:solidFill>
                  <a:srgbClr val="800000"/>
                </a:solidFill>
                <a:latin typeface="MAC C Swiss"/>
              </a:rPr>
              <a:t>spoo</a:t>
            </a:r>
            <a:endParaRPr b="1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68280" y="2437920"/>
            <a:ext cx="40896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nvencijata bara skoping za prekugrani~ni proekti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~lenovi 3.5, 3.6 i 3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trankata od kade poteknuva predlogot ja informira zasegnatata stranka z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: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a)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edlo`enata aktivnost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; b)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ejzinite mo`ni prekugrani~ni vlijanij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ostapkata za OV@S koja e vo sil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 (~len 3.5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4" name=""/>
          <p:cNvSpPr/>
          <p:nvPr/>
        </p:nvSpPr>
        <p:spPr>
          <a:xfrm>
            <a:off x="4863960" y="2440080"/>
            <a:ext cx="3810240" cy="27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segnata stranka treba da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&amp;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dostavi na strankata od kade poteknuva predlog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nformacii za potencijalno zasegnatata `ivotna sredina.  (~len 3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 dvete stranki treba da obezbedat zasegnatata javnost vo zasegnatata stranka da mo`e da se proiznese so komentari ili prigovori za predlo`enata aktivnost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3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2362320"/>
            <a:ext cx="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36240" y="680760"/>
            <a:ext cx="7512120" cy="91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Preporaki za efektiven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 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oping 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vo zemjite na Jugoisto~na Evrop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emjite od JIE mo`e da razmislat za vospostavuvawe zadol`itelna postapka na skoping koj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vozmo`uva nadle`nite organi da dadat mislewe za sodr`inata na izve{tajot za OV@S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Direktivata za OV@S na EU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e sproveduva koga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ite opcii se otvoreni i koga e mo`no efikasno u~estvo na javnost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Arhuska konvencija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e odviva vedna{ po skriningot i pred da se finalizira listata so zada~i za procenkata na sostojbata so `ivotnata sredin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Svetska banka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bezbeduva mislewata na site nadle`ni organi i na zasegnatata javnost da se zemat predvid pri identifikuvaweto na klu~nite pra{aw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(EBRD); i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lesnuva prekugrani~en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op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 za prekugrani~ni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onvencij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spoo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96680" y="5486400"/>
            <a:ext cx="64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alizacija i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onitor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85880" y="557856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62560" y="56721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88120" y="3753000"/>
            <a:ext cx="182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to na javnosta obi~no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 slu~uva vo ovie momenti.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59320" y="39560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06480" y="4159080"/>
            <a:ext cx="179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Toa mo`e da se slu~i i vo neko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ruga faza od procesot na OV@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59320" y="43624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67920" y="43624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61560" y="5118120"/>
            <a:ext cx="23032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nformaciite od ovoj proc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idonesuvaat za efikasna OV@S vo idnin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44920" y="52322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020280" y="523224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006800" y="2184480"/>
            <a:ext cx="18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54320" y="2286000"/>
            <a:ext cx="18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43040" y="1636560"/>
            <a:ext cx="73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18000" y="163656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21280" y="101268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07960" y="1114560"/>
            <a:ext cx="72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dentifikacij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predlog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31000" y="1670040"/>
            <a:ext cx="174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2057400"/>
            <a:ext cx="1066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Odreduva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na obem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93800" y="3035160"/>
            <a:ext cx="73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Ubla`uvawe i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pravuvawe so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50960" y="3137040"/>
            <a:ext cx="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484360" y="323856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595600" y="3552840"/>
            <a:ext cx="634680" cy="304920"/>
            <a:chOff x="2595600" y="3552840"/>
            <a:chExt cx="634680" cy="304920"/>
          </a:xfrm>
        </p:grpSpPr>
        <p:sp>
          <p:nvSpPr>
            <p:cNvPr id="131" name=""/>
            <p:cNvSpPr/>
            <p:nvPr/>
          </p:nvSpPr>
          <p:spPr>
            <a:xfrm>
              <a:off x="25956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73888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6676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221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4200" y="2082960"/>
            <a:ext cx="879120" cy="422280"/>
            <a:chOff x="3994200" y="2082960"/>
            <a:chExt cx="879120" cy="422280"/>
          </a:xfrm>
        </p:grpSpPr>
        <p:sp>
          <p:nvSpPr>
            <p:cNvPr id="136" name=""/>
            <p:cNvSpPr/>
            <p:nvPr/>
          </p:nvSpPr>
          <p:spPr>
            <a:xfrm>
              <a:off x="410760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42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0410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03848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280" y="717480"/>
            <a:ext cx="72010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[to pretstavuva odreduvaweto na obemot (skoping)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3840" y="2460600"/>
            <a:ext cx="7899120" cy="26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ana faza od procesot na OV@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po~nuva vedna{ otkako }e zavr{i selektiraweto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Gi identifikuva klu~nite pra{awa i vlijanija {to treba da se razgledaa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Gi dava sodr`inata i opsegot na izve{tajot z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jva`niot ~ekor vo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Gi postavuva osnovite za eden efektiven proces, za{teduva vreme i pari i go namaluva konflikto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8120" y="687240"/>
            <a:ext cx="71820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Vidovi skoping-odreduvawe na obemo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7353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MAC C Swiss"/>
              </a:rPr>
              <a:t>Zatvoren skoping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: kaj ovoj vid sodr`inata i obemot na izve{tajot za OV@S se prethodno utvrdeni so zakon i modificirani niz konsultacii pome|u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gotvuva~ot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 nadle`niot orga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</a:rPr>
              <a:t>Otvoren ili javen</a:t>
            </a:r>
            <a:r>
              <a:rPr b="1" lang="en-GB" sz="1600" spc="-1" strike="noStrike">
                <a:solidFill>
                  <a:srgbClr val="000000"/>
                </a:solidFill>
                <a:latin typeface="MAC C Swiss"/>
              </a:rPr>
              <a:t> skoping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: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transparent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proces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 zasnovan na javni konsultaci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680" y="672840"/>
            <a:ext cx="72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Elementi na skop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432160"/>
            <a:ext cx="4000680" cy="222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efinirawe na parametrite na studijata z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dentifikuvawe i informirawe na zainteresiranite stran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dentifikuvawe na gri`ite na zainteresiranite stran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Postignuvawe dogovor za na~inite na vklu~uvawe na javnosta i za metodite na analiz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362320"/>
            <a:ext cx="0" cy="1981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63960" y="2448000"/>
            <a:ext cx="358164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dentifikuvawe na glavnite pra{awa i vlijanija {to treba da se ispita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Razgleduvawe na ostvarlivi i prakti~ni alterna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zgotvuvawe na listata so zada~i za OV@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3640" y="660240"/>
            <a:ext cx="721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^ekori vo procesot na skop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417760"/>
            <a:ext cx="3784680" cy="34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zgotvuvawe skica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, t.e. kontur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na obemo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zgotvuvawe na skicata preku neformalni konsultacii so ekolo{kite i zdravstvenite vlast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Ovozmo`uvawe dostapnost na skicat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ostavuvawe opse`na lista na gri`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Evaluacija na relevantnite gri`i zaradi utvrduvawe na klu~nite problem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0" name=""/>
          <p:cNvSpPr/>
          <p:nvPr/>
        </p:nvSpPr>
        <p:spPr>
          <a:xfrm>
            <a:off x="4851360" y="2462040"/>
            <a:ext cx="403848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Organizirawe na klu~nite problemi vo kategorii na vlijanija (lista na stud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oodvetno izmenuvawe na sk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zgotvuvawe na listata so zada~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ledewe na napredokot vizavi listata so zada~i, vr{ewe revizija dokolku e potreb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25146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9200" y="666720"/>
            <a:ext cx="722016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Koj treba da bide vklu~en vo odreduvawe na obemot (skoping)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2422080"/>
            <a:ext cx="3784680" cy="14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nvestitoro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onsultantot z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adzorniot organ z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rugi nadle`ni organizacii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4" name=""/>
          <p:cNvSpPr/>
          <p:nvPr/>
        </p:nvSpPr>
        <p:spPr>
          <a:xfrm>
            <a:off x="4851360" y="2422440"/>
            <a:ext cx="3352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segnatata javnost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interesiranata javnost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0" y="2362320"/>
            <a:ext cx="0" cy="7617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6285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Vode~ki na~ela za skoping</a:t>
            </a:r>
            <a:endParaRPr b="1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468160"/>
            <a:ext cx="3772080" cy="31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„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coping” e proces, a ne aktivnost ili nasta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Za sekoj predlog treba da se dizajnira proces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 n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koping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Treba da se zapo~ne rano ili vedna{ otkako toa }e go dozvolat dostapnite informaci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Treba da se podgotvi informativen paket za ona {to se o~ekuv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8" name=""/>
          <p:cNvSpPr/>
          <p:nvPr/>
        </p:nvSpPr>
        <p:spPr>
          <a:xfrm>
            <a:off x="4851360" y="2463840"/>
            <a:ext cx="3352680" cy="27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Treba da se precizira ulogata na javnosta vo procesot na OV@S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Treba da se dokumentiraat rezultatite so cel da se naso~uva podgotovkata na OV@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Treba da se reagira soodvetno na novite informacii i problem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438280"/>
            <a:ext cx="0" cy="304812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0680" y="692280"/>
            <a:ext cx="7239240" cy="83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Listata so zada~i za OV@S treba da bide vklu~ena vo skicat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68280" y="2435040"/>
            <a:ext cx="40896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Oblast i granici na studijat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Alternativi {to treba da se razgledaa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Vlijanija i problemi {to treba da se analiziraa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Pristat {to treba da se sled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Barawa za olesnitelni merki i monitoring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2" name=""/>
          <p:cNvSpPr/>
          <p:nvPr/>
        </p:nvSpPr>
        <p:spPr>
          <a:xfrm>
            <a:off x="4863960" y="2463840"/>
            <a:ext cx="37339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nformacii i podatoci {to treba da se vklu~at vo izve{tajot za OV@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Vremenski raspored i uslovi za zavr{uvawe na procesot na OV@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Mo`nosti za po{iroko vklu~uvawe na javno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362320"/>
            <a:ext cx="0" cy="23619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49:20Z</dcterms:modified>
  <cp:revision>415</cp:revision>
  <dc:subject/>
  <dc:title>No Slide Title</dc:title>
</cp:coreProperties>
</file>