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D527-D5C2-4BA1-A01E-B11163371DA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Izvje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š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tavanje u procesu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 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44600" y="1015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615960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R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5120"/>
            <a:ext cx="904680" cy="866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4520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3508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80400" y="61642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84880" y="616896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89480" y="615456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3856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7680" y="4272120"/>
            <a:ext cx="27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tavanje 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roces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468440"/>
            <a:ext cx="360180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44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5560920" y="3727440"/>
            <a:ext cx="2911680" cy="617400"/>
            <a:chOff x="5560920" y="3727440"/>
            <a:chExt cx="2911680" cy="617400"/>
          </a:xfrm>
        </p:grpSpPr>
        <p:sp>
          <p:nvSpPr>
            <p:cNvPr id="101" name=""/>
            <p:cNvSpPr/>
            <p:nvPr/>
          </p:nvSpPr>
          <p:spPr>
            <a:xfrm>
              <a:off x="5560920" y="3727440"/>
              <a:ext cx="2911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Do uklj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a javnosti uglavnom dolazi u ovoj fa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njega m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im m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 bilo kojoj drugoj fazi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62720" y="38419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30760" y="3956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62720" y="407052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81320" y="4070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490280" y="5118120"/>
            <a:ext cx="238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 dobijene u ovom proce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efikasnosti budu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ces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94000" y="5232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71880" y="167652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z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05360" y="2063880"/>
            <a:ext cx="89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t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spitivanje u odno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 okoli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1280" y="165096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a z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54480" y="504504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odob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86200" y="452124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n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62440" y="402588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s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8880" y="3517920"/>
            <a:ext cx="9903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novno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146480" y="1079640"/>
            <a:ext cx="633240" cy="376200"/>
            <a:chOff x="4146480" y="1079640"/>
            <a:chExt cx="633240" cy="376200"/>
          </a:xfrm>
        </p:grpSpPr>
        <p:sp>
          <p:nvSpPr>
            <p:cNvPr id="116" name=""/>
            <p:cNvSpPr/>
            <p:nvPr/>
          </p:nvSpPr>
          <p:spPr>
            <a:xfrm>
              <a:off x="4146480" y="107964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17840" y="1181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625360" y="3429000"/>
            <a:ext cx="97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U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 jav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21920" y="166068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16120" y="210816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04160" y="2603520"/>
            <a:ext cx="88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203560" y="3092400"/>
            <a:ext cx="1270080" cy="477720"/>
            <a:chOff x="2203560" y="3092400"/>
            <a:chExt cx="1270080" cy="477720"/>
          </a:xfrm>
        </p:grpSpPr>
        <p:sp>
          <p:nvSpPr>
            <p:cNvPr id="123" name=""/>
            <p:cNvSpPr/>
            <p:nvPr/>
          </p:nvSpPr>
          <p:spPr>
            <a:xfrm>
              <a:off x="2428920" y="3092400"/>
              <a:ext cx="1044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bla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ž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nje poslje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kontrola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66920" y="31939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203560" y="32954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563200" y="3619440"/>
            <a:ext cx="738360" cy="152640"/>
            <a:chOff x="2563200" y="3619440"/>
            <a:chExt cx="738360" cy="152640"/>
          </a:xfrm>
        </p:grpSpPr>
        <p:sp>
          <p:nvSpPr>
            <p:cNvPr id="127" name=""/>
            <p:cNvSpPr/>
            <p:nvPr/>
          </p:nvSpPr>
          <p:spPr>
            <a:xfrm>
              <a:off x="2563200" y="361944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Izvje</a:t>
              </a:r>
              <a:r>
                <a:rPr b="1" lang="hr-HR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š</a:t>
              </a: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t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787120" y="36194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2717640" y="407988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53400" y="457200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n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je 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500200" y="5467320"/>
            <a:ext cx="848160" cy="477360"/>
            <a:chOff x="2500200" y="5467320"/>
            <a:chExt cx="848160" cy="477360"/>
          </a:xfrm>
        </p:grpSpPr>
        <p:sp>
          <p:nvSpPr>
            <p:cNvPr id="132" name=""/>
            <p:cNvSpPr/>
            <p:nvPr/>
          </p:nvSpPr>
          <p:spPr>
            <a:xfrm>
              <a:off x="2500200" y="5467320"/>
              <a:ext cx="84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ementaci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9240" y="556884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638800" y="5670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2720" y="67284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azli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ti nazivi za isti doku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 o procjen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zvještaj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IA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java 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u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E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java o ok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 (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 procjene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(EA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java o efektima 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EE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2720" y="660240"/>
            <a:ext cx="75056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lementi usp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g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aj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34076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isuje z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jn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e datog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jedlog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je mjere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itnih posljedica uticaja,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prakt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 korake koje predla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treba 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uzeti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aje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m tijelu informacije relevantne 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je odlu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pisan je tako da ga javnost i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rga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e odluka mogu razumjet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14400" y="2451240"/>
            <a:ext cx="739152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 projekt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ratki pregled glavnih alternativa koje je pro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o planer i indikacije glavnih razloga za ovaj izbor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kolinski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kat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j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jerovatn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nosit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i projek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is vjerovatnih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bitnih uticaj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g projekt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jere za sp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nje, smanjivanje i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neutralizacij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tnih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-teh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 s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tak;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znak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lo kakvih pot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(teh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 manjkavosti ili nedostatak st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g znanja) koje se mogu pojavit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 toku p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plja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ih informacij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336240" y="660240"/>
            <a:ext cx="74674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IA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avanje u skladu sa Direktivom Evropske komisije o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"/>
          <p:cNvSpPr/>
          <p:nvPr/>
        </p:nvSpPr>
        <p:spPr>
          <a:xfrm>
            <a:off x="388440" y="2108160"/>
            <a:ext cx="434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zvje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j 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EI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ra sadr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ati sljede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36600" y="68076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iprema za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og s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tk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15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mjerite se na 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ite kratki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ite jasni i dosljed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bjegavajt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go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kratko prik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e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laz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3080" y="668160"/>
            <a:ext cx="751824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Zav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i s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tak bi trebao prikazati….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68280" y="244476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jedlog i njegov okvi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ktne zadatke EIA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zultate konsultacija sa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zmatrane alternativ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lavne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icaj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njihov z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j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ljedic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 mjere kontrol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va druga krit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 pit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36600" y="666720"/>
            <a:ext cx="72835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eki nedostaci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aj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EIA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sadr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j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40388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ljevi prijedlog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rto opisan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pis ne obuhvata kompletnu aktivnos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p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ni osjetljivi elementi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r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ni stari i neefikasni modeli 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su upo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i sa standardima ili ciljevima (relevantni standardi i zakoni nisu navedeni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8" name=""/>
          <p:cNvSpPr/>
          <p:nvPr/>
        </p:nvSpPr>
        <p:spPr>
          <a:xfrm>
            <a:off x="4857840" y="2448000"/>
            <a:ext cx="4070160" cy="24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umulativni, indirektni i sinergijski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icaj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je spomenut ili nije t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 opis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ernative nedovoljno opisane da bi s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pravilo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dgovar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mjere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nje nisu uzete u razmatran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t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za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2362320"/>
            <a:ext cx="1440" cy="25905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681120"/>
            <a:ext cx="75056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eki nedostaci izv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aj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EIA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(forma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36600" y="2444760"/>
            <a:ext cx="30160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jasna struktur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bimn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z fokus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"/>
          <p:cNvSpPr/>
          <p:nvPr/>
        </p:nvSpPr>
        <p:spPr>
          <a:xfrm>
            <a:off x="4858920" y="2441520"/>
            <a:ext cx="400788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stil i jezi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teh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h izraz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(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i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kao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-teh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i” s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jasne preporuke i za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dostaju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2362320"/>
            <a:ext cx="180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07:20Z</dcterms:modified>
  <cp:revision>365</cp:revision>
  <dc:subject/>
  <dc:title>No Slide Title</dc:title>
</cp:coreProperties>
</file>