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2FEEB-CDF8-498C-97B5-514A87D64A23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68680" y="64720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rovjera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 potre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08840"/>
            <a:ext cx="2819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IA OBUKA 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OM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Ć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 PRIRU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K 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ZA JUGOIST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24680" y="163440"/>
            <a:ext cx="905040" cy="9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440" y="617076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4160" y="5400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502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54720" y="61754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5932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933800" y="1470240"/>
            <a:ext cx="38228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OBUKA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 PRIR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K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A JUGOIST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2000" y="4721400"/>
            <a:ext cx="30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Provjera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potreb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61764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36600" y="681120"/>
            <a:ext cx="72835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vjera u skladu sa procedurom Svjetske bank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67920" y="2437920"/>
            <a:ext cx="77216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vi prijedlozi podneseni Svjetskoj banci moraju biti podvrgnuti provjeri u odnosu na okoli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ezultati provjere u odnosu na okoliš razvrstavaju se u jednu od tri kategorije E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jedlozi iz kategorije A podvrgavaju se punoj EI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jedlozi iz kategorije B podvrgavaju se djelimičnoj EI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jedlozi iz kategorije C ne podvrgavaju se EI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6600" y="668160"/>
            <a:ext cx="713088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vjera u skladu sa procedurom EBRD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80880" y="24512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vi prijedlozi moraju biti podvrgnuti provjeri u odnosu na okoliš kako bi se utvrdio potencijalni rizik po okoliš i odgovornos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ao i u slučaju Svjetske banke, svi prijedlozi razvrstavaju se u jednu od tri kategorij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, B ili 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vjerom se takođe utvrđuje da li je potrebna revizija u odnosu na okoli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koliko je odgovo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nda se prijedlog razvrstava u kategoriju 1, a ako je odgovor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‘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’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nda se razvrstava u kategoriju 0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6600" y="680760"/>
            <a:ext cx="7315200" cy="52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vjera u skladu sa Konvencijom Espoo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80880" y="2444400"/>
            <a:ext cx="8229600" cy="304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4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ve predložene aktivnosti navedene u Aneksu 1 Konvencije moraju se provjeriti radi mogućih znatnih, neželjenih prekograničnih efekat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4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pšte smjernice za utvrđivanje značaja neželjenih prekograničnih efekata date su u Dodatku III Konvencij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4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red toga, zainteresovane strane mogu razmotriti vjerovatnoću da druge aktivnosti koje nisu navedene u Dodatku I Konvencije izazovu znatne neželjene prekogranične efekte, što bi značilo da moraju biti podvrgnute prekograničnoj E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6240" y="662040"/>
            <a:ext cx="7512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Elementi koji se preporučuju za efikasno provjeravanje u zemljama jugoistočne Evrop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880" y="2451240"/>
            <a:ext cx="7328160" cy="292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bavezna primjena EIA treba se zasnivati na listi utvrđenoj u Aneksu I Direktive EC o E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mjena EIA po vlastitom nahođenju treba se zasnivati na listi utvrđenoj u Aneksu II Direktive 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 ove projekte je potrebno primjenjivati provjeru od slučaja do slučaja, na osnovu kriterija definisanih u Aneksu III Direktive E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vo će omogućiti ispunjavanje uslova provjere koje su postavili EBRD i Svjetska bank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vi projekti za koje je potrebna EIA trebaju se odmah provjeriti radi mogućih prekograničnih efekata, na osnovu kriterija utvrđenih u Dodatku III Konvencije Espo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55800" y="1035000"/>
            <a:ext cx="7481880" cy="4878000"/>
            <a:chOff x="955800" y="1035000"/>
            <a:chExt cx="7481880" cy="4878000"/>
          </a:xfrm>
        </p:grpSpPr>
        <p:sp>
          <p:nvSpPr>
            <p:cNvPr id="100" name=""/>
            <p:cNvSpPr/>
            <p:nvPr/>
          </p:nvSpPr>
          <p:spPr>
            <a:xfrm>
              <a:off x="4460760" y="52005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46440" y="161928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955800" y="1035000"/>
              <a:ext cx="6324480" cy="474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5526000" y="3695400"/>
              <a:ext cx="2911680" cy="617400"/>
              <a:chOff x="5526000" y="3695400"/>
              <a:chExt cx="2911680" cy="617400"/>
            </a:xfrm>
          </p:grpSpPr>
          <p:sp>
            <p:nvSpPr>
              <p:cNvPr id="104" name=""/>
              <p:cNvSpPr/>
              <p:nvPr/>
            </p:nvSpPr>
            <p:spPr>
              <a:xfrm>
                <a:off x="5526000" y="3695400"/>
                <a:ext cx="2911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*Do uklju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č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vanja javnosti uglavnom dolazi u ovoj faz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o njega me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đ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tim mo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ž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 do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ć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 bilo kojoj drugoj fazi procesa E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27800" y="3809880"/>
                <a:ext cx="14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495840" y="39240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27800" y="4038480"/>
                <a:ext cx="14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46400" y="403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455360" y="5086080"/>
              <a:ext cx="238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cije dobijene u ovom proces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prinose efikasnosti budu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h proces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59080" y="5200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36960" y="16444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z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70440" y="2057400"/>
              <a:ext cx="898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č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t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pitivanje u odnos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okoli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66360" y="1619280"/>
              <a:ext cx="84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treba z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19560" y="5013360"/>
              <a:ext cx="98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 odob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51280" y="4479840"/>
              <a:ext cx="720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 ni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obre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7520" y="4000320"/>
              <a:ext cx="76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definis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3600" y="3473280"/>
              <a:ext cx="990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novno 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dno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j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111560" y="1047600"/>
              <a:ext cx="633240" cy="376200"/>
              <a:chOff x="4111560" y="1047600"/>
              <a:chExt cx="633240" cy="376200"/>
            </a:xfrm>
          </p:grpSpPr>
          <p:sp>
            <p:nvSpPr>
              <p:cNvPr id="119" name=""/>
              <p:cNvSpPr/>
              <p:nvPr/>
            </p:nvSpPr>
            <p:spPr>
              <a:xfrm>
                <a:off x="4111560" y="1047600"/>
                <a:ext cx="633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tvr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đ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vanj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jedlog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282920" y="114912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603040" y="3396960"/>
              <a:ext cx="97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U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č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javnosti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33720" y="1628640"/>
              <a:ext cx="1005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Provjera potre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81200" y="2073240"/>
              <a:ext cx="633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vr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jelokru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02720" y="2571480"/>
              <a:ext cx="81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za utic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165400" y="3060720"/>
              <a:ext cx="1270080" cy="477720"/>
              <a:chOff x="2165400" y="3060720"/>
              <a:chExt cx="1270080" cy="477720"/>
            </a:xfrm>
          </p:grpSpPr>
          <p:sp>
            <p:nvSpPr>
              <p:cNvPr id="126" name=""/>
              <p:cNvSpPr/>
              <p:nvPr/>
            </p:nvSpPr>
            <p:spPr>
              <a:xfrm>
                <a:off x="2390760" y="3060720"/>
                <a:ext cx="1044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bla</a:t>
                </a:r>
                <a:r>
                  <a:rPr b="0" lang="hr-HR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ž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nje posljedic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kontrola uticaj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28760" y="316224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65400" y="326376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549160" y="3587760"/>
              <a:ext cx="695880" cy="152640"/>
              <a:chOff x="2549160" y="3587760"/>
              <a:chExt cx="695880" cy="152640"/>
            </a:xfrm>
          </p:grpSpPr>
          <p:sp>
            <p:nvSpPr>
              <p:cNvPr id="130" name=""/>
              <p:cNvSpPr/>
              <p:nvPr/>
            </p:nvSpPr>
            <p:spPr>
              <a:xfrm>
                <a:off x="2549160" y="3587760"/>
                <a:ext cx="695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zvje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š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j E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52200" y="3587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2682720" y="404784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gl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18480" y="4539960"/>
              <a:ext cx="101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no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je odlu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465280" y="5435640"/>
              <a:ext cx="848160" cy="477360"/>
              <a:chOff x="2465280" y="5435640"/>
              <a:chExt cx="848160" cy="477360"/>
            </a:xfrm>
          </p:grpSpPr>
          <p:sp>
            <p:nvSpPr>
              <p:cNvPr id="135" name=""/>
              <p:cNvSpPr/>
              <p:nvPr/>
            </p:nvSpPr>
            <p:spPr>
              <a:xfrm>
                <a:off x="2465280" y="5435640"/>
                <a:ext cx="848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lementacij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monito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94320" y="5537160"/>
                <a:ext cx="14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03880" y="5638680"/>
                <a:ext cx="14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6600" y="666720"/>
            <a:ext cx="720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ta obuhvata proces provjere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68280" y="2428920"/>
            <a:ext cx="6121440" cy="9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ocesom provjere utvrđuje 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7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a li je EIA potrebna za određeni projekat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7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oji nivo EIA je potreban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2720" y="679320"/>
            <a:ext cx="7289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Rezultati provjer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435400"/>
            <a:ext cx="6629400" cy="93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trebna potpuna i sveobuhvatna 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trebna ograničena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ije potrebna 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25160" y="723960"/>
            <a:ext cx="6933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Instrumenti za provjeru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520" y="2435040"/>
            <a:ext cx="6629400" cy="28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ista projekata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ključivi — navedeni projekti moraju biti podvrgnuti EI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ključivi — navedeni projekti su izuzeti od EI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spitivanje od slučaja do slučaja: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tvrđivanje da li projekti mogu imati bitne uticaje na okoliš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26640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U tom slučaju, projekat bi morao biti podvrgnut EI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9360" indent="-2793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ombinacija gornjih varijant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36240" y="673200"/>
            <a:ext cx="719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Okvir za provjeru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"/>
          <p:cNvSpPr/>
          <p:nvPr/>
        </p:nvSpPr>
        <p:spPr>
          <a:xfrm>
            <a:off x="3383280" y="1765440"/>
            <a:ext cx="1366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bavezna E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3129120" y="2984400"/>
            <a:ext cx="1940040" cy="884160"/>
            <a:chOff x="3129120" y="2984400"/>
            <a:chExt cx="1940040" cy="884160"/>
          </a:xfrm>
        </p:grpSpPr>
        <p:sp>
          <p:nvSpPr>
            <p:cNvPr id="147" name=""/>
            <p:cNvSpPr/>
            <p:nvPr/>
          </p:nvSpPr>
          <p:spPr>
            <a:xfrm>
              <a:off x="3148200" y="2984400"/>
              <a:ext cx="192096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Razmatranje potre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a EIA-om od sluča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 slučaj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79880" y="31878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29120" y="33908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72200" y="359424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943360" y="4952880"/>
            <a:ext cx="2329560" cy="243720"/>
            <a:chOff x="2943360" y="4952880"/>
            <a:chExt cx="2329560" cy="243720"/>
          </a:xfrm>
        </p:grpSpPr>
        <p:sp>
          <p:nvSpPr>
            <p:cNvPr id="152" name=""/>
            <p:cNvSpPr/>
            <p:nvPr/>
          </p:nvSpPr>
          <p:spPr>
            <a:xfrm>
              <a:off x="2943360" y="4952880"/>
              <a:ext cx="232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Isključuje se primjena E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364200" y="49528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5972400" y="2133720"/>
            <a:ext cx="1538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ključiva gra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73840" y="3454560"/>
            <a:ext cx="169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ndikativna gra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72400" y="4673520"/>
            <a:ext cx="155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sključiva gra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957240" y="1612800"/>
            <a:ext cx="1270080" cy="3657600"/>
            <a:chOff x="957240" y="1612800"/>
            <a:chExt cx="1270080" cy="3657600"/>
          </a:xfrm>
        </p:grpSpPr>
        <p:sp>
          <p:nvSpPr>
            <p:cNvPr id="158" name=""/>
            <p:cNvSpPr/>
            <p:nvPr/>
          </p:nvSpPr>
          <p:spPr>
            <a:xfrm>
              <a:off x="1579680" y="4622760"/>
              <a:ext cx="406440" cy="520920"/>
            </a:xfrm>
            <a:custGeom>
              <a:avLst/>
              <a:gdLst/>
              <a:ahLst/>
              <a:rect l="l" t="t" r="r" b="b"/>
              <a:pathLst>
                <a:path w="256" h="328">
                  <a:moveTo>
                    <a:pt x="224" y="328"/>
                  </a:moveTo>
                  <a:lnTo>
                    <a:pt x="224" y="328"/>
                  </a:lnTo>
                  <a:lnTo>
                    <a:pt x="0" y="248"/>
                  </a:lnTo>
                  <a:lnTo>
                    <a:pt x="256" y="0"/>
                  </a:lnTo>
                  <a:lnTo>
                    <a:pt x="224" y="208"/>
                  </a:lnTo>
                  <a:lnTo>
                    <a:pt x="224" y="328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46160" y="2006640"/>
              <a:ext cx="622440" cy="3263760"/>
            </a:xfrm>
            <a:custGeom>
              <a:avLst/>
              <a:gdLst/>
              <a:ahLst/>
              <a:rect l="l" t="t" r="r" b="b"/>
              <a:pathLst>
                <a:path w="392" h="2056">
                  <a:moveTo>
                    <a:pt x="336" y="2056"/>
                  </a:moveTo>
                  <a:lnTo>
                    <a:pt x="336" y="2056"/>
                  </a:lnTo>
                  <a:lnTo>
                    <a:pt x="0" y="1936"/>
                  </a:lnTo>
                  <a:lnTo>
                    <a:pt x="56" y="0"/>
                  </a:lnTo>
                  <a:lnTo>
                    <a:pt x="392" y="120"/>
                  </a:lnTo>
                  <a:lnTo>
                    <a:pt x="336" y="20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957240" y="1612800"/>
              <a:ext cx="901800" cy="647640"/>
            </a:xfrm>
            <a:custGeom>
              <a:avLst/>
              <a:gdLst/>
              <a:ahLst/>
              <a:rect l="l" t="t" r="r" b="b"/>
              <a:pathLst>
                <a:path w="568" h="408">
                  <a:moveTo>
                    <a:pt x="344" y="408"/>
                  </a:moveTo>
                  <a:lnTo>
                    <a:pt x="344" y="408"/>
                  </a:lnTo>
                  <a:lnTo>
                    <a:pt x="0" y="280"/>
                  </a:lnTo>
                  <a:lnTo>
                    <a:pt x="232" y="0"/>
                  </a:lnTo>
                  <a:lnTo>
                    <a:pt x="568" y="120"/>
                  </a:lnTo>
                  <a:lnTo>
                    <a:pt x="344" y="408"/>
                  </a:lnTo>
                  <a:close/>
                </a:path>
              </a:pathLst>
            </a:custGeom>
            <a:solidFill>
              <a:srgbClr val="147a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503360" y="1803240"/>
              <a:ext cx="723960" cy="3467160"/>
            </a:xfrm>
            <a:custGeom>
              <a:avLst/>
              <a:gdLst/>
              <a:ahLst/>
              <a:rect l="l" t="t" r="r" b="b"/>
              <a:pathLst>
                <a:path w="456" h="2184">
                  <a:moveTo>
                    <a:pt x="224" y="0"/>
                  </a:moveTo>
                  <a:lnTo>
                    <a:pt x="224" y="0"/>
                  </a:lnTo>
                  <a:lnTo>
                    <a:pt x="456" y="120"/>
                  </a:lnTo>
                  <a:lnTo>
                    <a:pt x="352" y="160"/>
                  </a:lnTo>
                  <a:lnTo>
                    <a:pt x="408" y="2056"/>
                  </a:lnTo>
                  <a:lnTo>
                    <a:pt x="272" y="2104"/>
                  </a:lnTo>
                  <a:lnTo>
                    <a:pt x="272" y="1984"/>
                  </a:lnTo>
                  <a:lnTo>
                    <a:pt x="184" y="2008"/>
                  </a:lnTo>
                  <a:lnTo>
                    <a:pt x="184" y="2136"/>
                  </a:lnTo>
                  <a:lnTo>
                    <a:pt x="48" y="2184"/>
                  </a:lnTo>
                  <a:lnTo>
                    <a:pt x="104" y="248"/>
                  </a:lnTo>
                  <a:lnTo>
                    <a:pt x="0" y="28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9ac6b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697120" y="1587600"/>
            <a:ext cx="2745000" cy="3822480"/>
          </a:xfrm>
          <a:prstGeom prst="rect">
            <a:avLst/>
          </a:prstGeom>
          <a:noFill/>
          <a:ln w="7632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09720" y="2311560"/>
            <a:ext cx="3164040" cy="1440"/>
          </a:xfrm>
          <a:prstGeom prst="line">
            <a:avLst/>
          </a:prstGeom>
          <a:ln w="7632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09720" y="4813200"/>
            <a:ext cx="3164040" cy="1800"/>
          </a:xfrm>
          <a:prstGeom prst="line">
            <a:avLst/>
          </a:prstGeom>
          <a:ln w="7632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5873760" y="2502000"/>
            <a:ext cx="101520" cy="2082600"/>
            <a:chOff x="5873760" y="2502000"/>
            <a:chExt cx="101520" cy="2082600"/>
          </a:xfrm>
        </p:grpSpPr>
        <p:sp>
          <p:nvSpPr>
            <p:cNvPr id="166" name=""/>
            <p:cNvSpPr/>
            <p:nvPr/>
          </p:nvSpPr>
          <p:spPr>
            <a:xfrm>
              <a:off x="5873760" y="2502000"/>
              <a:ext cx="101520" cy="12708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32" y="80"/>
                  </a:moveTo>
                  <a:lnTo>
                    <a:pt x="32" y="80"/>
                  </a:lnTo>
                  <a:lnTo>
                    <a:pt x="0" y="80"/>
                  </a:lnTo>
                  <a:lnTo>
                    <a:pt x="32" y="0"/>
                  </a:lnTo>
                  <a:lnTo>
                    <a:pt x="64" y="80"/>
                  </a:lnTo>
                  <a:lnTo>
                    <a:pt x="32" y="80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873760" y="4457880"/>
              <a:ext cx="101520" cy="126720"/>
            </a:xfrm>
            <a:custGeom>
              <a:avLst/>
              <a:gdLst/>
              <a:ahLst/>
              <a:rect l="l" t="t" r="r" b="b"/>
              <a:pathLst>
                <a:path w="64" h="80">
                  <a:moveTo>
                    <a:pt x="32" y="0"/>
                  </a:moveTo>
                  <a:lnTo>
                    <a:pt x="32" y="0"/>
                  </a:lnTo>
                  <a:lnTo>
                    <a:pt x="64" y="0"/>
                  </a:lnTo>
                  <a:lnTo>
                    <a:pt x="32" y="80"/>
                  </a:lnTo>
                  <a:lnTo>
                    <a:pt x="0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937120" y="2629080"/>
              <a:ext cx="1800" cy="1854000"/>
            </a:xfrm>
            <a:prstGeom prst="line">
              <a:avLst/>
            </a:prstGeom>
            <a:ln w="255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 rot="16200000">
            <a:off x="1027080" y="331596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astući utica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1280" y="647280"/>
            <a:ext cx="714708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rovjera u skladu sa Direktivom EC o EI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2451240"/>
            <a:ext cx="807732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Obavezna primjen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nek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irektive EC o EIA daje listu projekata za koje je uvijek potrebna EI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-2772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Primjena prema nahođenj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Za projekte navedene u Aneksu II potrebna je provjera ispitivanjem od slučaja do slučaja ili pozivanjem na granične kriterije koji su ustanovljeni od strane zemlje članice. U toku tog postupka, moraju se uzeti u obzir slijedeći kriteriji navedeni u Aneksu II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76160" indent="-314280">
              <a:lnSpc>
                <a:spcPct val="6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arakteristike projek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76160" indent="-314280">
              <a:lnSpc>
                <a:spcPct val="6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Mjesto projek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;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76160" indent="-314280">
              <a:lnSpc>
                <a:spcPct val="6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teristike mogućih uticaja na okoli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-27720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zultati provjere projekata iz Aneksa II moraju biti dostupni javnost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l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2.4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37760" y="71928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Metod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‘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semafora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’ 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u procesu provjere</a:t>
            </a:r>
            <a:br>
              <a:rPr sz="2800"/>
            </a:b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(primjer primjene Direktive EC o EIA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628560" y="2355840"/>
            <a:ext cx="2286000" cy="2908440"/>
            <a:chOff x="628560" y="2355840"/>
            <a:chExt cx="2286000" cy="2908440"/>
          </a:xfrm>
        </p:grpSpPr>
        <p:sp>
          <p:nvSpPr>
            <p:cNvPr id="174" name=""/>
            <p:cNvSpPr/>
            <p:nvPr/>
          </p:nvSpPr>
          <p:spPr>
            <a:xfrm>
              <a:off x="628560" y="4299120"/>
              <a:ext cx="2286000" cy="965160"/>
            </a:xfrm>
            <a:prstGeom prst="rect">
              <a:avLst/>
            </a:prstGeom>
            <a:solidFill>
              <a:srgbClr val="66b4a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28560" y="2355840"/>
              <a:ext cx="2286000" cy="977760"/>
            </a:xfrm>
            <a:prstGeom prst="rect">
              <a:avLst/>
            </a:prstGeom>
            <a:solidFill>
              <a:srgbClr val="ff9c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8560" y="3333600"/>
              <a:ext cx="2286000" cy="965520"/>
            </a:xfrm>
            <a:prstGeom prst="rect">
              <a:avLst/>
            </a:prstGeom>
            <a:solidFill>
              <a:srgbClr val="ffe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384720" y="2355840"/>
            <a:ext cx="2298600" cy="2908440"/>
            <a:chOff x="3384720" y="2355840"/>
            <a:chExt cx="2298600" cy="2908440"/>
          </a:xfrm>
        </p:grpSpPr>
        <p:sp>
          <p:nvSpPr>
            <p:cNvPr id="178" name=""/>
            <p:cNvSpPr/>
            <p:nvPr/>
          </p:nvSpPr>
          <p:spPr>
            <a:xfrm>
              <a:off x="3384720" y="4299120"/>
              <a:ext cx="2298600" cy="965160"/>
            </a:xfrm>
            <a:prstGeom prst="rect">
              <a:avLst/>
            </a:prstGeom>
            <a:solidFill>
              <a:srgbClr val="66b4a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84720" y="2355840"/>
              <a:ext cx="2298600" cy="977760"/>
            </a:xfrm>
            <a:prstGeom prst="rect">
              <a:avLst/>
            </a:prstGeom>
            <a:solidFill>
              <a:srgbClr val="ff9c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84720" y="3333600"/>
              <a:ext cx="2298600" cy="965520"/>
            </a:xfrm>
            <a:prstGeom prst="rect">
              <a:avLst/>
            </a:prstGeom>
            <a:solidFill>
              <a:srgbClr val="ffe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140520" y="2355840"/>
            <a:ext cx="2286000" cy="2908440"/>
            <a:chOff x="6140520" y="2355840"/>
            <a:chExt cx="2286000" cy="2908440"/>
          </a:xfrm>
        </p:grpSpPr>
        <p:sp>
          <p:nvSpPr>
            <p:cNvPr id="182" name=""/>
            <p:cNvSpPr/>
            <p:nvPr/>
          </p:nvSpPr>
          <p:spPr>
            <a:xfrm>
              <a:off x="6140520" y="4299120"/>
              <a:ext cx="2286000" cy="965160"/>
            </a:xfrm>
            <a:prstGeom prst="rect">
              <a:avLst/>
            </a:prstGeom>
            <a:solidFill>
              <a:srgbClr val="66b4a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140520" y="2355840"/>
              <a:ext cx="2286000" cy="977760"/>
            </a:xfrm>
            <a:prstGeom prst="rect">
              <a:avLst/>
            </a:prstGeom>
            <a:solidFill>
              <a:srgbClr val="ff9c6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0520" y="3333600"/>
              <a:ext cx="2286000" cy="965520"/>
            </a:xfrm>
            <a:prstGeom prst="rect">
              <a:avLst/>
            </a:prstGeom>
            <a:solidFill>
              <a:srgbClr val="ffec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945360" y="3467160"/>
            <a:ext cx="1651320" cy="569160"/>
            <a:chOff x="945360" y="3467160"/>
            <a:chExt cx="1651320" cy="569160"/>
          </a:xfrm>
        </p:grpSpPr>
        <p:sp>
          <p:nvSpPr>
            <p:cNvPr id="186" name=""/>
            <p:cNvSpPr/>
            <p:nvPr/>
          </p:nvSpPr>
          <p:spPr>
            <a:xfrm>
              <a:off x="945360" y="3467160"/>
              <a:ext cx="1651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Indikativne ili okvir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anice i kriteri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219320" y="36450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550880" y="382284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914400" y="2552760"/>
            <a:ext cx="1778400" cy="452520"/>
            <a:chOff x="914400" y="2552760"/>
            <a:chExt cx="1778400" cy="452520"/>
          </a:xfrm>
        </p:grpSpPr>
        <p:sp>
          <p:nvSpPr>
            <p:cNvPr id="190" name=""/>
            <p:cNvSpPr/>
            <p:nvPr/>
          </p:nvSpPr>
          <p:spPr>
            <a:xfrm>
              <a:off x="933480" y="2552760"/>
              <a:ext cx="1759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Uključive ili obavezn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granice i kriterij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14400" y="27306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036800" y="4508640"/>
            <a:ext cx="1352520" cy="452160"/>
            <a:chOff x="1036800" y="4508640"/>
            <a:chExt cx="1352520" cy="452160"/>
          </a:xfrm>
        </p:grpSpPr>
        <p:sp>
          <p:nvSpPr>
            <p:cNvPr id="193" name=""/>
            <p:cNvSpPr/>
            <p:nvPr/>
          </p:nvSpPr>
          <p:spPr>
            <a:xfrm>
              <a:off x="1036800" y="4508640"/>
              <a:ext cx="13525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Kriteriji isključivi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gran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54360" y="450864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49440" y="468648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09680" y="2629080"/>
            <a:ext cx="1063080" cy="274320"/>
            <a:chOff x="4009680" y="2629080"/>
            <a:chExt cx="1063080" cy="274320"/>
          </a:xfrm>
        </p:grpSpPr>
        <p:sp>
          <p:nvSpPr>
            <p:cNvPr id="197" name=""/>
            <p:cNvSpPr/>
            <p:nvPr/>
          </p:nvSpPr>
          <p:spPr>
            <a:xfrm>
              <a:off x="4009680" y="2629080"/>
              <a:ext cx="106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Potrebna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292640" y="262908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694320" y="3543480"/>
            <a:ext cx="1430280" cy="452160"/>
            <a:chOff x="3694320" y="3543480"/>
            <a:chExt cx="1430280" cy="452160"/>
          </a:xfrm>
        </p:grpSpPr>
        <p:sp>
          <p:nvSpPr>
            <p:cNvPr id="200" name=""/>
            <p:cNvSpPr/>
            <p:nvPr/>
          </p:nvSpPr>
          <p:spPr>
            <a:xfrm>
              <a:off x="3694320" y="3543480"/>
              <a:ext cx="143028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Mora se razmotrit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potreba za E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49840" y="354348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152960" y="37209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869280" y="4584600"/>
            <a:ext cx="1399680" cy="213480"/>
            <a:chOff x="3869280" y="4584600"/>
            <a:chExt cx="1399680" cy="213480"/>
          </a:xfrm>
        </p:grpSpPr>
        <p:sp>
          <p:nvSpPr>
            <p:cNvPr id="204" name=""/>
            <p:cNvSpPr/>
            <p:nvPr/>
          </p:nvSpPr>
          <p:spPr>
            <a:xfrm>
              <a:off x="3869280" y="4584600"/>
              <a:ext cx="1399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Nije potrebna EI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33760" y="4584600"/>
              <a:ext cx="46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6327720" y="2590920"/>
            <a:ext cx="1681560" cy="452160"/>
            <a:chOff x="6327720" y="2590920"/>
            <a:chExt cx="1681560" cy="452160"/>
          </a:xfrm>
        </p:grpSpPr>
        <p:sp>
          <p:nvSpPr>
            <p:cNvPr id="207" name=""/>
            <p:cNvSpPr/>
            <p:nvPr/>
          </p:nvSpPr>
          <p:spPr>
            <a:xfrm>
              <a:off x="6327720" y="2590920"/>
              <a:ext cx="16815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</a:rPr>
                <a:t>np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r>
                <a:rPr b="0" lang="hr-H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jekti Aneksa I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irektiv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665760" y="25909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691320" y="27687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867280" y="4317840"/>
            <a:ext cx="2386080" cy="986040"/>
            <a:chOff x="5867280" y="4317840"/>
            <a:chExt cx="2386080" cy="986040"/>
          </a:xfrm>
        </p:grpSpPr>
        <p:sp>
          <p:nvSpPr>
            <p:cNvPr id="211" name=""/>
            <p:cNvSpPr/>
            <p:nvPr/>
          </p:nvSpPr>
          <p:spPr>
            <a:xfrm>
              <a:off x="6221160" y="4317840"/>
              <a:ext cx="2032200" cy="9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np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r>
                <a:rPr b="0" lang="hr-H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jekti Aneksa 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a koje se ne smatra da imaj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načajan uticaj na okoliš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+ </a:t>
              </a:r>
              <a:r>
                <a:rPr b="0" lang="hr-H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ojni projekti koji s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zuzeti od E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22960" y="43178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67280" y="4495680"/>
              <a:ext cx="144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18040" y="467352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162560" y="467352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56200" y="485136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172200" y="502920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867280" y="3403440"/>
            <a:ext cx="2384640" cy="808200"/>
            <a:chOff x="5867280" y="3403440"/>
            <a:chExt cx="2384640" cy="808200"/>
          </a:xfrm>
        </p:grpSpPr>
        <p:sp>
          <p:nvSpPr>
            <p:cNvPr id="219" name=""/>
            <p:cNvSpPr/>
            <p:nvPr/>
          </p:nvSpPr>
          <p:spPr>
            <a:xfrm>
              <a:off x="6254640" y="3403440"/>
              <a:ext cx="199728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</a:rPr>
                <a:t>npr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 </a:t>
              </a:r>
              <a:r>
                <a:rPr b="0" lang="hr-H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jekti Aneksa I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0" lang="hr-H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s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ih koji su izuzeti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, </a:t>
              </a:r>
              <a:r>
                <a:rPr b="0" lang="hr-H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raju 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jeriti u skladu s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riterijima Aneksa II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26000" y="34034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67280" y="35812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22960" y="375912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61120" y="393696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37760" y="717480"/>
            <a:ext cx="70866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ovjera potreba u skladu sa smjernicama EU o provjeri potreb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5" name=""/>
          <p:cNvSpPr/>
          <p:nvPr/>
        </p:nvSpPr>
        <p:spPr>
          <a:xfrm>
            <a:off x="3865680" y="1727280"/>
            <a:ext cx="2033640" cy="7239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46600" y="1708200"/>
            <a:ext cx="2020680" cy="71100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0640" y="1854360"/>
            <a:ext cx="169092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 li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 projekat izvjes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mati bitnog uticaja 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jt Natura 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90880" y="195588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54720" y="19558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90880" y="213372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804080" y="2171880"/>
            <a:ext cx="1079640" cy="40608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797960" y="2165400"/>
            <a:ext cx="1066680" cy="38088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98840" y="2178000"/>
            <a:ext cx="605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7797960" y="1708200"/>
            <a:ext cx="1085760" cy="412560"/>
            <a:chOff x="7797960" y="1708200"/>
            <a:chExt cx="1085760" cy="412560"/>
          </a:xfrm>
        </p:grpSpPr>
        <p:sp>
          <p:nvSpPr>
            <p:cNvPr id="235" name=""/>
            <p:cNvSpPr/>
            <p:nvPr/>
          </p:nvSpPr>
          <p:spPr>
            <a:xfrm>
              <a:off x="7804080" y="1714680"/>
              <a:ext cx="1079640" cy="406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97960" y="1708200"/>
              <a:ext cx="1066680" cy="39348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7873920" y="1771560"/>
            <a:ext cx="88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je 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91480" y="187956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804080" y="2844720"/>
            <a:ext cx="1079640" cy="406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97960" y="2838600"/>
            <a:ext cx="1066680" cy="38088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04080" y="3835440"/>
            <a:ext cx="1079640" cy="406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797960" y="3816360"/>
            <a:ext cx="1066680" cy="39384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04080" y="4762440"/>
            <a:ext cx="1079640" cy="406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97960" y="4743360"/>
            <a:ext cx="1066680" cy="39384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04080" y="5181480"/>
            <a:ext cx="1079640" cy="40644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7960" y="5175360"/>
            <a:ext cx="1066680" cy="39348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121200" y="5543640"/>
            <a:ext cx="3929760" cy="285840"/>
            <a:chOff x="3121200" y="5543640"/>
            <a:chExt cx="3929760" cy="285840"/>
          </a:xfrm>
        </p:grpSpPr>
        <p:grpSp>
          <p:nvGrpSpPr>
            <p:cNvPr id="248" name=""/>
            <p:cNvGrpSpPr/>
            <p:nvPr/>
          </p:nvGrpSpPr>
          <p:grpSpPr>
            <a:xfrm>
              <a:off x="3131280" y="5543640"/>
              <a:ext cx="3919680" cy="285840"/>
              <a:chOff x="3131280" y="5543640"/>
              <a:chExt cx="3919680" cy="285840"/>
            </a:xfrm>
          </p:grpSpPr>
          <p:sp>
            <p:nvSpPr>
              <p:cNvPr id="249" name=""/>
              <p:cNvSpPr/>
              <p:nvPr/>
            </p:nvSpPr>
            <p:spPr>
              <a:xfrm>
                <a:off x="3169440" y="5549760"/>
                <a:ext cx="3881520" cy="27972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131280" y="5543640"/>
                <a:ext cx="3867120" cy="266760"/>
              </a:xfrm>
              <a:prstGeom prst="rect">
                <a:avLst/>
              </a:prstGeom>
              <a:solidFill>
                <a:srgbClr val="dee4e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121200" y="5575320"/>
              <a:ext cx="3417840" cy="213480"/>
              <a:chOff x="3121200" y="5575320"/>
              <a:chExt cx="3417840" cy="213480"/>
            </a:xfrm>
          </p:grpSpPr>
          <p:sp>
            <p:nvSpPr>
              <p:cNvPr id="252" name=""/>
              <p:cNvSpPr/>
              <p:nvPr/>
            </p:nvSpPr>
            <p:spPr>
              <a:xfrm>
                <a:off x="3121200" y="5575320"/>
                <a:ext cx="666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8364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400" spc="-1" strike="noStrike">
                    <a:solidFill>
                      <a:srgbClr val="008364"/>
                    </a:solidFill>
                    <a:latin typeface="Arial"/>
                    <a:ea typeface="Times New Roman"/>
                  </a:rPr>
                  <a:t>Korak 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17360" y="5575320"/>
                <a:ext cx="2821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-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videntiranje odluke o provjeri potreb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4" name=""/>
          <p:cNvSpPr/>
          <p:nvPr/>
        </p:nvSpPr>
        <p:spPr>
          <a:xfrm>
            <a:off x="449280" y="2705040"/>
            <a:ext cx="3098880" cy="73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17600" y="2673360"/>
            <a:ext cx="3085920" cy="72396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88160" y="2755800"/>
            <a:ext cx="7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364"/>
                </a:solidFill>
                <a:latin typeface="Arial"/>
                <a:ea typeface="Times New Roman"/>
              </a:rPr>
              <a:t>KORAK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9080" y="269244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3840" y="2971800"/>
            <a:ext cx="25261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 li se projekat nalazi na Obavezn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sti u okviru propisa zemlje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an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1880" y="304812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49280" y="3695760"/>
            <a:ext cx="3098880" cy="73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7600" y="3664080"/>
            <a:ext cx="3085920" cy="723600"/>
          </a:xfrm>
          <a:prstGeom prst="rect">
            <a:avLst/>
          </a:prstGeom>
          <a:solidFill>
            <a:srgbClr val="dee4e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1320" y="3759120"/>
            <a:ext cx="732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364"/>
                </a:solidFill>
                <a:latin typeface="ArialHU"/>
                <a:ea typeface="Times New Roman"/>
              </a:rPr>
              <a:t>KORAK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22320" y="3720960"/>
            <a:ext cx="9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364"/>
                </a:solidFill>
                <a:latin typeface="ArialHU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3960" y="3936960"/>
            <a:ext cx="2446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 li se projekat nalazi na Isklj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vo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isti,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me se izuzima od E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17600" y="4692600"/>
            <a:ext cx="3193920" cy="768240"/>
            <a:chOff x="417600" y="4692600"/>
            <a:chExt cx="3193920" cy="768240"/>
          </a:xfrm>
        </p:grpSpPr>
        <p:sp>
          <p:nvSpPr>
            <p:cNvPr id="266" name=""/>
            <p:cNvSpPr/>
            <p:nvPr/>
          </p:nvSpPr>
          <p:spPr>
            <a:xfrm>
              <a:off x="449280" y="4711680"/>
              <a:ext cx="3162240" cy="7491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7600" y="4692600"/>
              <a:ext cx="3149640" cy="72396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461160" y="4724280"/>
            <a:ext cx="7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364"/>
                </a:solidFill>
                <a:latin typeface="Arial"/>
                <a:ea typeface="Times New Roman"/>
              </a:rPr>
              <a:t>KORAK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22320" y="4635360"/>
            <a:ext cx="9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364"/>
                </a:solidFill>
                <a:latin typeface="ArialHU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8920" y="4883040"/>
            <a:ext cx="25596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zmatranje od sl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ja do slu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j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 li je vjerovatno da 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 projekat im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itnog uticaja na okoli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1880" y="499104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61880" y="516888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1560" y="51688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17600" y="1695600"/>
            <a:ext cx="1619280" cy="768240"/>
            <a:chOff x="417600" y="1695600"/>
            <a:chExt cx="1619280" cy="768240"/>
          </a:xfrm>
        </p:grpSpPr>
        <p:sp>
          <p:nvSpPr>
            <p:cNvPr id="275" name=""/>
            <p:cNvSpPr/>
            <p:nvPr/>
          </p:nvSpPr>
          <p:spPr>
            <a:xfrm>
              <a:off x="436680" y="1727280"/>
              <a:ext cx="1600200" cy="7365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600" y="1695600"/>
              <a:ext cx="1600200" cy="723600"/>
            </a:xfrm>
            <a:prstGeom prst="rect">
              <a:avLst/>
            </a:prstGeom>
            <a:solidFill>
              <a:srgbClr val="dee4e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461160" y="1676520"/>
            <a:ext cx="7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8364"/>
                </a:solidFill>
                <a:latin typeface="Arial"/>
                <a:ea typeface="Times New Roman"/>
              </a:rPr>
              <a:t>KORAK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9080" y="167652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2960" y="1873080"/>
            <a:ext cx="105372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 li je projek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aveden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eksu I ili 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61880" y="203184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61880" y="220968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023920" y="1981080"/>
            <a:ext cx="825480" cy="177840"/>
            <a:chOff x="2023920" y="1981080"/>
            <a:chExt cx="825480" cy="177840"/>
          </a:xfrm>
        </p:grpSpPr>
        <p:sp>
          <p:nvSpPr>
            <p:cNvPr id="283" name=""/>
            <p:cNvSpPr/>
            <p:nvPr/>
          </p:nvSpPr>
          <p:spPr>
            <a:xfrm>
              <a:off x="2633760" y="1981080"/>
              <a:ext cx="215640" cy="17784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023920" y="2082960"/>
              <a:ext cx="63504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3141720" y="1981080"/>
            <a:ext cx="698400" cy="177840"/>
            <a:chOff x="3141720" y="1981080"/>
            <a:chExt cx="698400" cy="177840"/>
          </a:xfrm>
        </p:grpSpPr>
        <p:sp>
          <p:nvSpPr>
            <p:cNvPr id="286" name=""/>
            <p:cNvSpPr/>
            <p:nvPr/>
          </p:nvSpPr>
          <p:spPr>
            <a:xfrm>
              <a:off x="3611520" y="1981080"/>
              <a:ext cx="22860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41720" y="2082960"/>
              <a:ext cx="50796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2859120" y="1943280"/>
            <a:ext cx="2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6743880" y="2209680"/>
            <a:ext cx="330120" cy="274680"/>
            <a:chOff x="6743880" y="2209680"/>
            <a:chExt cx="330120" cy="274680"/>
          </a:xfrm>
        </p:grpSpPr>
        <p:sp>
          <p:nvSpPr>
            <p:cNvPr id="290" name=""/>
            <p:cNvSpPr/>
            <p:nvPr/>
          </p:nvSpPr>
          <p:spPr>
            <a:xfrm>
              <a:off x="6743880" y="22096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843240" y="2209680"/>
              <a:ext cx="23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842160" y="1778040"/>
            <a:ext cx="28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873760" y="1816200"/>
            <a:ext cx="907560" cy="177840"/>
            <a:chOff x="5873760" y="1816200"/>
            <a:chExt cx="907560" cy="177840"/>
          </a:xfrm>
        </p:grpSpPr>
        <p:sp>
          <p:nvSpPr>
            <p:cNvPr id="294" name=""/>
            <p:cNvSpPr/>
            <p:nvPr/>
          </p:nvSpPr>
          <p:spPr>
            <a:xfrm>
              <a:off x="6501240" y="1816200"/>
              <a:ext cx="280080" cy="17784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873760" y="1917720"/>
              <a:ext cx="66024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873760" y="2247840"/>
            <a:ext cx="907560" cy="177840"/>
            <a:chOff x="5873760" y="2247840"/>
            <a:chExt cx="907560" cy="177840"/>
          </a:xfrm>
        </p:grpSpPr>
        <p:sp>
          <p:nvSpPr>
            <p:cNvPr id="297" name=""/>
            <p:cNvSpPr/>
            <p:nvPr/>
          </p:nvSpPr>
          <p:spPr>
            <a:xfrm>
              <a:off x="6505920" y="2247840"/>
              <a:ext cx="275400" cy="17784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73760" y="2349360"/>
              <a:ext cx="664200" cy="180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086600" y="2247840"/>
            <a:ext cx="666360" cy="177840"/>
            <a:chOff x="7086600" y="2247840"/>
            <a:chExt cx="666360" cy="177840"/>
          </a:xfrm>
        </p:grpSpPr>
        <p:sp>
          <p:nvSpPr>
            <p:cNvPr id="300" name=""/>
            <p:cNvSpPr/>
            <p:nvPr/>
          </p:nvSpPr>
          <p:spPr>
            <a:xfrm>
              <a:off x="7547040" y="2247840"/>
              <a:ext cx="205920" cy="17784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086600" y="2349360"/>
              <a:ext cx="484920" cy="180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86600" y="1816200"/>
            <a:ext cx="678960" cy="177840"/>
            <a:chOff x="7086600" y="1816200"/>
            <a:chExt cx="678960" cy="177840"/>
          </a:xfrm>
        </p:grpSpPr>
        <p:sp>
          <p:nvSpPr>
            <p:cNvPr id="303" name=""/>
            <p:cNvSpPr/>
            <p:nvPr/>
          </p:nvSpPr>
          <p:spPr>
            <a:xfrm>
              <a:off x="7547400" y="1816200"/>
              <a:ext cx="21816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086600" y="1917720"/>
              <a:ext cx="48528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3522600" y="2946240"/>
            <a:ext cx="3214800" cy="177840"/>
            <a:chOff x="3522600" y="2946240"/>
            <a:chExt cx="3214800" cy="177840"/>
          </a:xfrm>
        </p:grpSpPr>
        <p:sp>
          <p:nvSpPr>
            <p:cNvPr id="306" name=""/>
            <p:cNvSpPr/>
            <p:nvPr/>
          </p:nvSpPr>
          <p:spPr>
            <a:xfrm>
              <a:off x="6508800" y="2946240"/>
              <a:ext cx="22860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522600" y="3048120"/>
              <a:ext cx="302436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086600" y="2933640"/>
            <a:ext cx="691920" cy="177840"/>
            <a:chOff x="7086600" y="2933640"/>
            <a:chExt cx="691920" cy="177840"/>
          </a:xfrm>
        </p:grpSpPr>
        <p:sp>
          <p:nvSpPr>
            <p:cNvPr id="309" name=""/>
            <p:cNvSpPr/>
            <p:nvPr/>
          </p:nvSpPr>
          <p:spPr>
            <a:xfrm>
              <a:off x="7556400" y="2933640"/>
              <a:ext cx="22212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86600" y="3048120"/>
              <a:ext cx="49428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6837120" y="2908440"/>
            <a:ext cx="230760" cy="274320"/>
            <a:chOff x="6837120" y="2908440"/>
            <a:chExt cx="230760" cy="274320"/>
          </a:xfrm>
        </p:grpSpPr>
        <p:sp>
          <p:nvSpPr>
            <p:cNvPr id="312" name=""/>
            <p:cNvSpPr/>
            <p:nvPr/>
          </p:nvSpPr>
          <p:spPr>
            <a:xfrm>
              <a:off x="6837120" y="2908440"/>
              <a:ext cx="23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40440" y="290844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3510000" y="3911760"/>
            <a:ext cx="3214800" cy="177480"/>
            <a:chOff x="3510000" y="3911760"/>
            <a:chExt cx="3214800" cy="177480"/>
          </a:xfrm>
        </p:grpSpPr>
        <p:sp>
          <p:nvSpPr>
            <p:cNvPr id="315" name=""/>
            <p:cNvSpPr/>
            <p:nvPr/>
          </p:nvSpPr>
          <p:spPr>
            <a:xfrm>
              <a:off x="6508800" y="3911760"/>
              <a:ext cx="216000" cy="17748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510000" y="4013280"/>
              <a:ext cx="302400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7086600" y="3911760"/>
            <a:ext cx="666360" cy="177480"/>
            <a:chOff x="7086600" y="3911760"/>
            <a:chExt cx="666360" cy="177480"/>
          </a:xfrm>
        </p:grpSpPr>
        <p:sp>
          <p:nvSpPr>
            <p:cNvPr id="318" name=""/>
            <p:cNvSpPr/>
            <p:nvPr/>
          </p:nvSpPr>
          <p:spPr>
            <a:xfrm>
              <a:off x="7538760" y="3911760"/>
              <a:ext cx="214200" cy="17748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86600" y="4013280"/>
              <a:ext cx="47628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6830640" y="3886200"/>
            <a:ext cx="230760" cy="274680"/>
            <a:chOff x="6830640" y="3886200"/>
            <a:chExt cx="230760" cy="274680"/>
          </a:xfrm>
        </p:grpSpPr>
        <p:sp>
          <p:nvSpPr>
            <p:cNvPr id="321" name=""/>
            <p:cNvSpPr/>
            <p:nvPr/>
          </p:nvSpPr>
          <p:spPr>
            <a:xfrm>
              <a:off x="6830640" y="3886200"/>
              <a:ext cx="23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933960" y="38862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3573360" y="4813200"/>
            <a:ext cx="3227400" cy="177840"/>
            <a:chOff x="3573360" y="4813200"/>
            <a:chExt cx="3227400" cy="177840"/>
          </a:xfrm>
        </p:grpSpPr>
        <p:sp>
          <p:nvSpPr>
            <p:cNvPr id="324" name=""/>
            <p:cNvSpPr/>
            <p:nvPr/>
          </p:nvSpPr>
          <p:spPr>
            <a:xfrm>
              <a:off x="6572160" y="4813200"/>
              <a:ext cx="22860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73360" y="4915080"/>
              <a:ext cx="302436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6" name=""/>
          <p:cNvGrpSpPr/>
          <p:nvPr/>
        </p:nvGrpSpPr>
        <p:grpSpPr>
          <a:xfrm>
            <a:off x="7086600" y="4813200"/>
            <a:ext cx="691560" cy="177840"/>
            <a:chOff x="7086600" y="4813200"/>
            <a:chExt cx="691560" cy="177840"/>
          </a:xfrm>
        </p:grpSpPr>
        <p:sp>
          <p:nvSpPr>
            <p:cNvPr id="327" name=""/>
            <p:cNvSpPr/>
            <p:nvPr/>
          </p:nvSpPr>
          <p:spPr>
            <a:xfrm>
              <a:off x="7522560" y="4813200"/>
              <a:ext cx="255600" cy="177840"/>
            </a:xfrm>
            <a:custGeom>
              <a:avLst/>
              <a:gdLst/>
              <a:ahLst/>
              <a:rect l="l" t="t" r="r" b="b"/>
              <a:pathLst>
                <a:path w="136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36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086600" y="4915080"/>
              <a:ext cx="46584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6830640" y="4788000"/>
            <a:ext cx="230760" cy="274680"/>
            <a:chOff x="6830640" y="4788000"/>
            <a:chExt cx="230760" cy="274680"/>
          </a:xfrm>
        </p:grpSpPr>
        <p:sp>
          <p:nvSpPr>
            <p:cNvPr id="330" name=""/>
            <p:cNvSpPr/>
            <p:nvPr/>
          </p:nvSpPr>
          <p:spPr>
            <a:xfrm>
              <a:off x="6830640" y="4788000"/>
              <a:ext cx="23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D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933960" y="478800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3573360" y="5245200"/>
            <a:ext cx="3227400" cy="177840"/>
            <a:chOff x="3573360" y="5245200"/>
            <a:chExt cx="3227400" cy="177840"/>
          </a:xfrm>
        </p:grpSpPr>
        <p:sp>
          <p:nvSpPr>
            <p:cNvPr id="333" name=""/>
            <p:cNvSpPr/>
            <p:nvPr/>
          </p:nvSpPr>
          <p:spPr>
            <a:xfrm>
              <a:off x="6572160" y="5245200"/>
              <a:ext cx="22860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573360" y="5346720"/>
              <a:ext cx="303696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7086600" y="5245200"/>
            <a:ext cx="704160" cy="177840"/>
            <a:chOff x="7086600" y="5245200"/>
            <a:chExt cx="704160" cy="177840"/>
          </a:xfrm>
        </p:grpSpPr>
        <p:sp>
          <p:nvSpPr>
            <p:cNvPr id="336" name=""/>
            <p:cNvSpPr/>
            <p:nvPr/>
          </p:nvSpPr>
          <p:spPr>
            <a:xfrm>
              <a:off x="7521120" y="5245200"/>
              <a:ext cx="269640" cy="177840"/>
            </a:xfrm>
            <a:custGeom>
              <a:avLst/>
              <a:gdLst/>
              <a:ahLst/>
              <a:rect l="l" t="t" r="r" b="b"/>
              <a:pathLst>
                <a:path w="144" h="112">
                  <a:moveTo>
                    <a:pt x="0" y="56"/>
                  </a:moveTo>
                  <a:lnTo>
                    <a:pt x="0" y="56"/>
                  </a:lnTo>
                  <a:lnTo>
                    <a:pt x="0" y="0"/>
                  </a:lnTo>
                  <a:lnTo>
                    <a:pt x="144" y="56"/>
                  </a:lnTo>
                  <a:lnTo>
                    <a:pt x="0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005e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5346720"/>
              <a:ext cx="464400" cy="1440"/>
            </a:xfrm>
            <a:prstGeom prst="line">
              <a:avLst/>
            </a:prstGeom>
            <a:ln w="50760">
              <a:solidFill>
                <a:srgbClr val="005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6827760" y="5219640"/>
            <a:ext cx="236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297480" y="4419720"/>
            <a:ext cx="92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HU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3400" y="3416400"/>
            <a:ext cx="266760" cy="342720"/>
          </a:xfrm>
          <a:custGeom>
            <a:avLst/>
            <a:gdLst/>
            <a:ahLst/>
            <a:rect l="l" t="t" r="r" b="b"/>
            <a:pathLst>
              <a:path w="168" h="216">
                <a:moveTo>
                  <a:pt x="0" y="136"/>
                </a:moveTo>
                <a:lnTo>
                  <a:pt x="0" y="136"/>
                </a:lnTo>
                <a:lnTo>
                  <a:pt x="80" y="216"/>
                </a:lnTo>
                <a:lnTo>
                  <a:pt x="168" y="136"/>
                </a:lnTo>
                <a:lnTo>
                  <a:pt x="120" y="136"/>
                </a:lnTo>
                <a:lnTo>
                  <a:pt x="120" y="0"/>
                </a:lnTo>
                <a:lnTo>
                  <a:pt x="40" y="0"/>
                </a:lnTo>
                <a:lnTo>
                  <a:pt x="40" y="136"/>
                </a:lnTo>
                <a:lnTo>
                  <a:pt x="0" y="136"/>
                </a:lnTo>
                <a:close/>
              </a:path>
            </a:pathLst>
          </a:custGeom>
          <a:solidFill>
            <a:srgbClr val="7faf9f"/>
          </a:solidFill>
          <a:ln w="1260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50800" y="4381560"/>
            <a:ext cx="266760" cy="330120"/>
          </a:xfrm>
          <a:custGeom>
            <a:avLst/>
            <a:gdLst/>
            <a:ahLst/>
            <a:rect l="l" t="t" r="r" b="b"/>
            <a:pathLst>
              <a:path w="168" h="208">
                <a:moveTo>
                  <a:pt x="0" y="120"/>
                </a:moveTo>
                <a:lnTo>
                  <a:pt x="0" y="120"/>
                </a:lnTo>
                <a:lnTo>
                  <a:pt x="88" y="208"/>
                </a:lnTo>
                <a:lnTo>
                  <a:pt x="168" y="120"/>
                </a:lnTo>
                <a:lnTo>
                  <a:pt x="128" y="120"/>
                </a:lnTo>
                <a:lnTo>
                  <a:pt x="128" y="0"/>
                </a:lnTo>
                <a:lnTo>
                  <a:pt x="48" y="0"/>
                </a:lnTo>
                <a:lnTo>
                  <a:pt x="48" y="120"/>
                </a:lnTo>
                <a:lnTo>
                  <a:pt x="0" y="120"/>
                </a:lnTo>
                <a:close/>
              </a:path>
            </a:pathLst>
          </a:custGeom>
          <a:solidFill>
            <a:srgbClr val="7faf9f"/>
          </a:solidFill>
          <a:ln w="1260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12640" y="2413080"/>
            <a:ext cx="279360" cy="342720"/>
          </a:xfrm>
          <a:custGeom>
            <a:avLst/>
            <a:gdLst/>
            <a:ahLst/>
            <a:rect l="l" t="t" r="r" b="b"/>
            <a:pathLst>
              <a:path w="176" h="216">
                <a:moveTo>
                  <a:pt x="0" y="112"/>
                </a:moveTo>
                <a:lnTo>
                  <a:pt x="0" y="112"/>
                </a:lnTo>
                <a:lnTo>
                  <a:pt x="88" y="216"/>
                </a:lnTo>
                <a:lnTo>
                  <a:pt x="176" y="112"/>
                </a:lnTo>
                <a:lnTo>
                  <a:pt x="128" y="112"/>
                </a:lnTo>
                <a:lnTo>
                  <a:pt x="128" y="0"/>
                </a:lnTo>
                <a:lnTo>
                  <a:pt x="48" y="0"/>
                </a:lnTo>
                <a:lnTo>
                  <a:pt x="48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faf9f"/>
          </a:solidFill>
          <a:ln w="1260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868880" y="3870360"/>
            <a:ext cx="88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je 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864200" y="5210280"/>
            <a:ext cx="88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je 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998840" y="2859120"/>
            <a:ext cx="605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98840" y="4765680"/>
            <a:ext cx="6058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09:31:03Z</dcterms:modified>
  <cp:revision>445</cp:revision>
  <dc:subject/>
  <dc:title>No Slide Title</dc:title>
</cp:coreProperties>
</file>