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D490-B06E-4DDE-B7EA-6EC356B347DF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Analiza uticaj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59600"/>
            <a:ext cx="2819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 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160200"/>
            <a:ext cx="897120" cy="897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04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200" y="540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376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42120" y="617220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46720" y="6205680"/>
            <a:ext cx="1676520" cy="57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5600" y="1455840"/>
            <a:ext cx="38019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1280" y="4700520"/>
            <a:ext cx="26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Analiza utica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77760" y="15112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90720" y="1066680"/>
            <a:ext cx="7485120" cy="4756320"/>
            <a:chOff x="990720" y="1066680"/>
            <a:chExt cx="7485120" cy="4756320"/>
          </a:xfrm>
        </p:grpSpPr>
        <p:sp>
          <p:nvSpPr>
            <p:cNvPr id="100" name=""/>
            <p:cNvSpPr/>
            <p:nvPr/>
          </p:nvSpPr>
          <p:spPr>
            <a:xfrm>
              <a:off x="4495680" y="5232240"/>
              <a:ext cx="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81360" y="1650960"/>
              <a:ext cx="144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990720" y="1066680"/>
              <a:ext cx="632448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5562720" y="3727440"/>
              <a:ext cx="2913120" cy="495720"/>
              <a:chOff x="5562720" y="3727440"/>
              <a:chExt cx="2913120" cy="495720"/>
            </a:xfrm>
          </p:grpSpPr>
          <p:sp>
            <p:nvSpPr>
              <p:cNvPr id="104" name=""/>
              <p:cNvSpPr/>
              <p:nvPr/>
            </p:nvSpPr>
            <p:spPr>
              <a:xfrm>
                <a:off x="5564160" y="3727440"/>
                <a:ext cx="2911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*Do uklju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</a:rPr>
                  <a:t>č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anja javnosti uglavnom dolazi u ovoj faz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 njega me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đ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tim mo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ž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 do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ć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 bilo kojoj drugoj fazi procesa E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62720" y="384192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30760" y="395604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62720" y="407052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81320" y="407052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493520" y="5118120"/>
              <a:ext cx="238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je dobijene u ovom proces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prinose efikasnosti bud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h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94000" y="52322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71880" y="167652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z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005360" y="2089080"/>
              <a:ext cx="898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</a:rPr>
                <a:t>č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t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pitivanje u odnos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okoli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501280" y="165096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treba z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54480" y="5045040"/>
              <a:ext cx="98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 odob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86200" y="4511520"/>
              <a:ext cx="720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 ni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obr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62440" y="4032360"/>
              <a:ext cx="76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definis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28880" y="3543480"/>
              <a:ext cx="99036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novno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dno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</a:rPr>
                <a:t>š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j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146480" y="1079640"/>
              <a:ext cx="633240" cy="304920"/>
              <a:chOff x="4146480" y="1079640"/>
              <a:chExt cx="633240" cy="304920"/>
            </a:xfrm>
          </p:grpSpPr>
          <p:sp>
            <p:nvSpPr>
              <p:cNvPr id="119" name=""/>
              <p:cNvSpPr/>
              <p:nvPr/>
            </p:nvSpPr>
            <p:spPr>
              <a:xfrm>
                <a:off x="4146480" y="1079640"/>
                <a:ext cx="633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tvr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</a:rPr>
                  <a:t>đ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anj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jedlog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17840" y="1181160"/>
                <a:ext cx="18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637960" y="3429000"/>
              <a:ext cx="97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š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javnosti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21920" y="166068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jera 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16120" y="2133720"/>
              <a:ext cx="63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vr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jelokru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4160" y="260352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200320" y="3092400"/>
              <a:ext cx="1270080" cy="355320"/>
              <a:chOff x="2200320" y="3092400"/>
              <a:chExt cx="1270080" cy="355320"/>
            </a:xfrm>
          </p:grpSpPr>
          <p:sp>
            <p:nvSpPr>
              <p:cNvPr id="126" name=""/>
              <p:cNvSpPr/>
              <p:nvPr/>
            </p:nvSpPr>
            <p:spPr>
              <a:xfrm>
                <a:off x="2425680" y="3092400"/>
                <a:ext cx="1044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bla</a:t>
                </a:r>
                <a:r>
                  <a:rPr b="0" lang="hr-HR" sz="800" spc="-1" strike="noStrike">
                    <a:solidFill>
                      <a:srgbClr val="000000"/>
                    </a:solidFill>
                    <a:latin typeface="Arial"/>
                  </a:rPr>
                  <a:t>ž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nje posljedic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kontrola uticaj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63680" y="3193920"/>
                <a:ext cx="180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200320" y="329544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584080" y="3619440"/>
              <a:ext cx="695880" cy="152640"/>
              <a:chOff x="2584080" y="3619440"/>
              <a:chExt cx="695880" cy="152640"/>
            </a:xfrm>
          </p:grpSpPr>
          <p:sp>
            <p:nvSpPr>
              <p:cNvPr id="130" name=""/>
              <p:cNvSpPr/>
              <p:nvPr/>
            </p:nvSpPr>
            <p:spPr>
              <a:xfrm>
                <a:off x="2584080" y="3619440"/>
                <a:ext cx="69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zvje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</a:rPr>
                  <a:t>š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j E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87120" y="36194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717640" y="407988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gl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53400" y="4572000"/>
              <a:ext cx="101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no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</a:rPr>
                <a:t>š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je 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500200" y="5467320"/>
              <a:ext cx="848160" cy="355680"/>
              <a:chOff x="2500200" y="5467320"/>
              <a:chExt cx="848160" cy="355680"/>
            </a:xfrm>
          </p:grpSpPr>
          <p:sp>
            <p:nvSpPr>
              <p:cNvPr id="135" name=""/>
              <p:cNvSpPr/>
              <p:nvPr/>
            </p:nvSpPr>
            <p:spPr>
              <a:xfrm>
                <a:off x="2500200" y="5467320"/>
                <a:ext cx="848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lementacij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monito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29240" y="556920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38800" y="5670720"/>
                <a:ext cx="14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8760" y="71244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Metode odre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đ</a:t>
            </a: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ivanja uticaja na okoli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432160"/>
            <a:ext cx="556272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ontrolna list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tric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pis i sistemi geografskih podataka (GI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kspertni sistem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fesionalna ocjen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600" y="653760"/>
            <a:ext cx="7238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Kriteriji za odabir metoda EI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678204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rsta i obim prijedlog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rste alternativnih r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ja koja se razmatraju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roda i obim 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kivanih utica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spol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vost metoda za odr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vanje vrste utica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skustva tima za EI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ursi koji stoje na raspolaganju (vezano za tr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ve, podatke, vrijeme, osoblje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09:45:21Z</dcterms:modified>
  <cp:revision>335</cp:revision>
  <dc:subject/>
  <dc:title>No Slide Title</dc:title>
</cp:coreProperties>
</file>