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CE6C-89B1-4FD7-AB6A-75CA03657E83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47856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U</a:t>
            </a: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</a:t>
            </a: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šć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 javno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47840" y="101520"/>
            <a:ext cx="5410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44600" y="6105600"/>
            <a:ext cx="2819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IA OBU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R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848720" y="138240"/>
            <a:ext cx="981000" cy="922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16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2578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1904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112680"/>
            <a:ext cx="57150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376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24212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4672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838760" y="47163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 jav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4880" y="1419120"/>
            <a:ext cx="384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OBU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R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494000"/>
            <a:ext cx="3601800" cy="3598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3080" y="67284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Naj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i izgovori za izbjegavanje 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a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451240"/>
            <a:ext cx="3657600" cy="16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je prerano za 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vanje javnost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bi uzelo pre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 vremena i novc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bi izazvalo negativne reakcij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0" name=""/>
          <p:cNvSpPr/>
          <p:nvPr/>
        </p:nvSpPr>
        <p:spPr>
          <a:xfrm>
            <a:off x="5029200" y="2449440"/>
            <a:ext cx="33865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avna rasprav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 biti jednostran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 do prevelikih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kivanj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judi n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 m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razumjeti situacij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2362320"/>
            <a:ext cx="0" cy="1600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36240" y="666720"/>
            <a:ext cx="7512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 javnosti u EIA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lj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e odredbe Arhuske konvencij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80773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Odredbe iz Arhuske konvencije su u potpunosti ugra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đ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ene u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Dire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tiv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u EC o EIA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nakon izmjena i dopuna izvr</a:t>
            </a:r>
            <a:r>
              <a:rPr b="0" lang="hr-HR" sz="1600" spc="-1" strike="noStrike">
                <a:solidFill>
                  <a:srgbClr val="000000"/>
                </a:solidFill>
                <a:latin typeface="ArialHU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HU"/>
              </a:rPr>
              <a:t>enih na osnovu Direktive </a:t>
            </a:r>
            <a:r>
              <a:rPr b="0" lang="cs-CZ" sz="1600" spc="-1" strike="noStrike">
                <a:solidFill>
                  <a:srgbClr val="000000"/>
                </a:solidFill>
                <a:latin typeface="ArialHU"/>
              </a:rPr>
              <a:t>2003/35/EC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36240" y="685800"/>
            <a:ext cx="7359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Arhus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a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onven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ja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finisanje pojmova javnost i zainteresovana javnos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2406240"/>
            <a:ext cx="8337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277200" indent="-2772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“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Javnost” 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(č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2.4) 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zna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i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23960" indent="-265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edno ili 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fiz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ih ili pravnih lica; i,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23960" indent="-265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 skladu sa nacionalnim zakonodavstvom ili praksom, njihova udr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ja, organizacije ili grupe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“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Zainteresovana javnost” (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l. 2.5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) 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zna</a:t>
            </a:r>
            <a:r>
              <a:rPr b="0" lang="hr-HR" sz="16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i: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23960" indent="-265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javnost na koju se odnose il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se vjerovatno odnositi odluke vezane z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23960" indent="-265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nost koja ima interes u procesu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ja odluka vezanih z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23960" indent="-265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vladine organizacije koje se bave promocijom z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e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i koje ispunjavaju sve uslove propisane nacionalnim zakonodavstvom, koje se smatraju zainteresovanim stranam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36240" y="672840"/>
            <a:ext cx="7359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rhuska konvencija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lj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i uslovi za 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84582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avovremeno i efikasno oba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vanje, uz navedene elemente datog dokument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6.2.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ni vremenski rokovi za efikasno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6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javnosti od samog p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k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k su j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ve opcije otvorene i dok j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m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d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do efikasnog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6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bodan pristup informacijam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 postanu dostupn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6.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tupci za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javnosti kojima se javnosti o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je da svoje komentare dostavi u pismenoj formi, ili u toku javne rasprave ili sasl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j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6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460760" y="520704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6440" y="1625760"/>
            <a:ext cx="1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55800" y="1041480"/>
            <a:ext cx="632448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5527800" y="3701880"/>
            <a:ext cx="2905920" cy="617400"/>
            <a:chOff x="5527800" y="3701880"/>
            <a:chExt cx="2905920" cy="617400"/>
          </a:xfrm>
        </p:grpSpPr>
        <p:sp>
          <p:nvSpPr>
            <p:cNvPr id="106" name=""/>
            <p:cNvSpPr/>
            <p:nvPr/>
          </p:nvSpPr>
          <p:spPr>
            <a:xfrm>
              <a:off x="5529600" y="3701880"/>
              <a:ext cx="290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Do uklju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č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a javnosti uglavnom dolazi u ovoj faz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 njega m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im m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ž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d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 bilo kojoj drugoj fazi proces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527800" y="38163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495840" y="393048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527800" y="40449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6400" y="404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459320" y="5092560"/>
            <a:ext cx="238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je dobijene u ovom proce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prinose efikasnosti budu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h proces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59080" y="52070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36960" y="165096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z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70440" y="2038320"/>
            <a:ext cx="8982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hr-H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t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spitivanje u odno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 okoli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66360" y="162576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a z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19560" y="5019840"/>
            <a:ext cx="9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odob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151280" y="4486320"/>
            <a:ext cx="7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ni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27520" y="4006800"/>
            <a:ext cx="76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definis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3600" y="347976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novno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n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111560" y="1079640"/>
            <a:ext cx="633240" cy="376200"/>
            <a:chOff x="4111560" y="1079640"/>
            <a:chExt cx="633240" cy="376200"/>
          </a:xfrm>
        </p:grpSpPr>
        <p:sp>
          <p:nvSpPr>
            <p:cNvPr id="121" name=""/>
            <p:cNvSpPr/>
            <p:nvPr/>
          </p:nvSpPr>
          <p:spPr>
            <a:xfrm>
              <a:off x="4111560" y="1079640"/>
              <a:ext cx="633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vr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82920" y="11811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620680" y="3403440"/>
            <a:ext cx="104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Arial"/>
                <a:ea typeface="Times New Roman"/>
              </a:rPr>
              <a:t>*U</a:t>
            </a:r>
            <a:r>
              <a:rPr b="1" lang="hr-HR" sz="1000" spc="-1" strike="noStrike">
                <a:solidFill>
                  <a:srgbClr val="339933"/>
                </a:solidFill>
                <a:latin typeface="Arial"/>
                <a:ea typeface="Times New Roman"/>
              </a:rPr>
              <a:t>č</a:t>
            </a:r>
            <a:r>
              <a:rPr b="1" lang="en-US" sz="1000" spc="-1" strike="noStrike">
                <a:solidFill>
                  <a:srgbClr val="339933"/>
                </a:solidFill>
                <a:latin typeface="Arial"/>
                <a:ea typeface="Times New Roman"/>
              </a:rPr>
              <a:t>e</a:t>
            </a:r>
            <a:r>
              <a:rPr b="1" lang="hr-HR" sz="1000" spc="-1" strike="noStrike">
                <a:solidFill>
                  <a:srgbClr val="339933"/>
                </a:solidFill>
                <a:latin typeface="Arial"/>
                <a:ea typeface="Times New Roman"/>
              </a:rPr>
              <a:t>šć</a:t>
            </a:r>
            <a:r>
              <a:rPr b="1" lang="en-US" sz="1000" spc="-1" strike="noStrike">
                <a:solidFill>
                  <a:srgbClr val="339933"/>
                </a:solidFill>
                <a:latin typeface="Arial"/>
                <a:ea typeface="Times New Roman"/>
              </a:rPr>
              <a:t>e javnos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33720" y="1635120"/>
            <a:ext cx="10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jera 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81200" y="2079720"/>
            <a:ext cx="63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tvr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jelokru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02720" y="257796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165400" y="3067200"/>
            <a:ext cx="1267200" cy="477720"/>
            <a:chOff x="2165400" y="3067200"/>
            <a:chExt cx="1267200" cy="477720"/>
          </a:xfrm>
        </p:grpSpPr>
        <p:sp>
          <p:nvSpPr>
            <p:cNvPr id="128" name=""/>
            <p:cNvSpPr/>
            <p:nvPr/>
          </p:nvSpPr>
          <p:spPr>
            <a:xfrm>
              <a:off x="2394000" y="3067200"/>
              <a:ext cx="103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bla</a:t>
              </a:r>
              <a:r>
                <a:rPr b="0" lang="hr-H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ž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nje posljed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kontrola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228760" y="31687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65400" y="32702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49160" y="3594240"/>
            <a:ext cx="695880" cy="152640"/>
            <a:chOff x="2549160" y="3594240"/>
            <a:chExt cx="695880" cy="152640"/>
          </a:xfrm>
        </p:grpSpPr>
        <p:sp>
          <p:nvSpPr>
            <p:cNvPr id="132" name=""/>
            <p:cNvSpPr/>
            <p:nvPr/>
          </p:nvSpPr>
          <p:spPr>
            <a:xfrm>
              <a:off x="2549160" y="3594240"/>
              <a:ext cx="69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zvj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j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52200" y="3594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682720" y="405432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g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418480" y="4546440"/>
            <a:ext cx="101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n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je odl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465280" y="5442120"/>
            <a:ext cx="848160" cy="477360"/>
            <a:chOff x="2465280" y="5442120"/>
            <a:chExt cx="848160" cy="477360"/>
          </a:xfrm>
        </p:grpSpPr>
        <p:sp>
          <p:nvSpPr>
            <p:cNvPr id="137" name=""/>
            <p:cNvSpPr/>
            <p:nvPr/>
          </p:nvSpPr>
          <p:spPr>
            <a:xfrm>
              <a:off x="2465280" y="5442120"/>
              <a:ext cx="848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lementaci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794320" y="5543640"/>
              <a:ext cx="1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603880" y="56451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31640" y="717120"/>
            <a:ext cx="69343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Klj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i ciljevi 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2441160"/>
            <a:ext cx="3810240" cy="17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zeti u obzir stavove i primjedbe 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ih akter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ti da se previde bitni uticaj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manjiti broj i intenzitet sukoba ranim otkrivanjem spornih pitanj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"/>
          <p:cNvSpPr/>
          <p:nvPr/>
        </p:nvSpPr>
        <p:spPr>
          <a:xfrm>
            <a:off x="4857840" y="2440080"/>
            <a:ext cx="380988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bolj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i transparentnost i pov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i stepen povjerenja javnosti u proces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baviti komentare lokalnih aktera na alternativne i mje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za ublažavanj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2514600"/>
            <a:ext cx="0" cy="18288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3000" y="6342120"/>
            <a:ext cx="1839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816120"/>
            <a:ext cx="6858000" cy="54324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72360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ivoi 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a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"/>
          <p:cNvSpPr/>
          <p:nvPr/>
        </p:nvSpPr>
        <p:spPr>
          <a:xfrm>
            <a:off x="4495680" y="487692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Jednosmjerna komunikacija sa onima na koje se prijedlog odnos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4120" y="380988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vosmjerna razmjena informacija u cilju utvr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vanja stavova zainteresovanih aktera u pogledu odre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nog prijedloga i efekta koji on im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343240"/>
            <a:ext cx="434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aktivni proces anga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anja javnosti u rje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anju problema, utvr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vanju oblasti slaganja i neslaganja, te poku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jima da se do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do zajedni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ih stavov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46400" y="2125800"/>
            <a:ext cx="41688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327320"/>
            <a:ext cx="495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ni mehanizam za rje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anje spornih situacija, koji se zasniva na zajedni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 utvr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vanju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jenica, konsenzusu i uzajamnom uva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anju razli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tih interes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880" y="48006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is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4640" y="38098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nsultac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109120" y="2819520"/>
            <a:ext cx="12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41560" y="14461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govar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7760" y="7174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Arial"/>
              </a:rPr>
              <a:t>Ko su 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Arial"/>
              </a:rPr>
              <a:t>esnici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7" name=""/>
          <p:cNvSpPr/>
          <p:nvPr/>
        </p:nvSpPr>
        <p:spPr>
          <a:xfrm>
            <a:off x="4863960" y="2435400"/>
            <a:ext cx="381024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dlag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i korisnici projek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ladine sl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 koje imaju 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st ili interes u vezi prijedlog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68280" y="2448000"/>
            <a:ext cx="368316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ca na koja se direktno ili indirektno odnosi dati prijedl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ca koja su zainteresovana za prijedlog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p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vatni sektor, akademici, itd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362320"/>
            <a:ext cx="0" cy="16761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4240" y="717120"/>
            <a:ext cx="739116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Principi 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a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5320" y="2006280"/>
            <a:ext cx="373356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Ovaj proces bi trebao biti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2" name=""/>
          <p:cNvSpPr/>
          <p:nvPr/>
        </p:nvSpPr>
        <p:spPr>
          <a:xfrm>
            <a:off x="4870440" y="2432160"/>
            <a:ext cx="380988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a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n – (proveden nepristrasno u odnosu na sve akt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akav da odgovori na sve zahtjeve i primjedbe akt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jerodostojan – (tako da ljudi u njega imaju povjerenj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4280" y="2444760"/>
            <a:ext cx="380988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veobuhvatan – (tako da obuhvati sve akte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tvoren i transparentan – (tako da svi preduzeti koraci i aktivnosti budu razumljiv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levantan – (usmjeren na r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vanje zaista bitnih pitanj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2362320"/>
            <a:ext cx="0" cy="22860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819520" y="1828800"/>
            <a:ext cx="49528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Osigurati definisanje bitnih pitanja; prikupljanje informacija vezanih za projekat, razmatranje alternativ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236232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zbje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 pristrasnost/nepreciznost prilikom analiziranja; utvrditi lokalne vrijednosti/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lje; pru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ti pomo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pri razmatranju mjera za ubla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vanje posljedica; izabrati najbolju alternativ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57680" y="4273560"/>
            <a:ext cx="582912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Razmotriti i dati primjedbe na Izvje</a:t>
            </a:r>
            <a:r>
              <a:rPr b="0" lang="hr-HR" sz="1400" spc="-1" strike="noStrike">
                <a:solidFill>
                  <a:srgbClr val="ff0000"/>
                </a:solidFill>
                <a:latin typeface="Arial"/>
              </a:rPr>
              <a:t>š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taj E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5389560"/>
            <a:ext cx="5029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atiti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provedbu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preporuka datih u Izvje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aju EIA i uslova preciziranih u odluci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1295280"/>
            <a:ext cx="495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nsultacije sa subjektima na koje </a:t>
            </a:r>
            <a:r>
              <a:rPr b="0" lang="hr-HR" sz="14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e se najvjerovatnije odnositi dati prijedlo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43080" y="669960"/>
            <a:ext cx="75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 javnosti u glavnim fazama E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327320" y="1278000"/>
            <a:ext cx="1011240" cy="363600"/>
            <a:chOff x="1327320" y="1278000"/>
            <a:chExt cx="1011240" cy="363600"/>
          </a:xfrm>
        </p:grpSpPr>
        <p:sp>
          <p:nvSpPr>
            <p:cNvPr id="172" name=""/>
            <p:cNvSpPr/>
            <p:nvPr/>
          </p:nvSpPr>
          <p:spPr>
            <a:xfrm>
              <a:off x="1327320" y="1278000"/>
              <a:ext cx="101124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32000" y="1282680"/>
              <a:ext cx="988920" cy="3319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1348560" y="137160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jera 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327320" y="1870200"/>
            <a:ext cx="1011240" cy="360360"/>
            <a:chOff x="1327320" y="1870200"/>
            <a:chExt cx="1011240" cy="360360"/>
          </a:xfrm>
        </p:grpSpPr>
        <p:sp>
          <p:nvSpPr>
            <p:cNvPr id="176" name=""/>
            <p:cNvSpPr/>
            <p:nvPr/>
          </p:nvSpPr>
          <p:spPr>
            <a:xfrm>
              <a:off x="1327320" y="1876320"/>
              <a:ext cx="1011240" cy="3542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32000" y="1870200"/>
              <a:ext cx="988920" cy="342720"/>
            </a:xfrm>
            <a:prstGeom prst="rect">
              <a:avLst/>
            </a:prstGeom>
            <a:solidFill>
              <a:srgbClr val="ff9c6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512720" y="1895400"/>
            <a:ext cx="63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tvr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jelokru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327320" y="2465280"/>
            <a:ext cx="1011240" cy="352440"/>
            <a:chOff x="1327320" y="2465280"/>
            <a:chExt cx="1011240" cy="352440"/>
          </a:xfrm>
        </p:grpSpPr>
        <p:sp>
          <p:nvSpPr>
            <p:cNvPr id="180" name=""/>
            <p:cNvSpPr/>
            <p:nvPr/>
          </p:nvSpPr>
          <p:spPr>
            <a:xfrm>
              <a:off x="1327320" y="2465280"/>
              <a:ext cx="1011240" cy="352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32000" y="2470320"/>
              <a:ext cx="988920" cy="3301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423080" y="253368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327320" y="3052800"/>
            <a:ext cx="1011240" cy="363600"/>
            <a:chOff x="1327320" y="3052800"/>
            <a:chExt cx="1011240" cy="363600"/>
          </a:xfrm>
        </p:grpSpPr>
        <p:sp>
          <p:nvSpPr>
            <p:cNvPr id="184" name=""/>
            <p:cNvSpPr/>
            <p:nvPr/>
          </p:nvSpPr>
          <p:spPr>
            <a:xfrm>
              <a:off x="1327320" y="3052800"/>
              <a:ext cx="101124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32000" y="3057480"/>
              <a:ext cx="988920" cy="3301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147680" y="3063960"/>
            <a:ext cx="1075320" cy="463320"/>
            <a:chOff x="1147680" y="3063960"/>
            <a:chExt cx="1075320" cy="463320"/>
          </a:xfrm>
        </p:grpSpPr>
        <p:sp>
          <p:nvSpPr>
            <p:cNvPr id="187" name=""/>
            <p:cNvSpPr/>
            <p:nvPr/>
          </p:nvSpPr>
          <p:spPr>
            <a:xfrm>
              <a:off x="1428120" y="3063960"/>
              <a:ext cx="7948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bla</a:t>
              </a:r>
              <a:r>
                <a:rPr b="0" lang="hr-HR" sz="900" spc="-1" strike="noStrike">
                  <a:solidFill>
                    <a:srgbClr val="000000"/>
                  </a:solidFill>
                  <a:latin typeface="Arial"/>
                </a:rPr>
                <a:t>ž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nj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sljedica i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ntrola utica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06360" y="31590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47680" y="32526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327320" y="3645000"/>
            <a:ext cx="1011240" cy="358560"/>
            <a:chOff x="1327320" y="3645000"/>
            <a:chExt cx="1011240" cy="358560"/>
          </a:xfrm>
        </p:grpSpPr>
        <p:sp>
          <p:nvSpPr>
            <p:cNvPr id="191" name=""/>
            <p:cNvSpPr/>
            <p:nvPr/>
          </p:nvSpPr>
          <p:spPr>
            <a:xfrm>
              <a:off x="1327320" y="3651120"/>
              <a:ext cx="1011240" cy="352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332000" y="3645000"/>
              <a:ext cx="988920" cy="3427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1487520" y="3710160"/>
            <a:ext cx="695520" cy="152640"/>
            <a:chOff x="1487520" y="3710160"/>
            <a:chExt cx="695520" cy="152640"/>
          </a:xfrm>
        </p:grpSpPr>
        <p:sp>
          <p:nvSpPr>
            <p:cNvPr id="194" name=""/>
            <p:cNvSpPr/>
            <p:nvPr/>
          </p:nvSpPr>
          <p:spPr>
            <a:xfrm>
              <a:off x="1487520" y="371016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zvj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št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j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4720" y="3710160"/>
              <a:ext cx="31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327320" y="4238640"/>
            <a:ext cx="1011240" cy="353880"/>
            <a:chOff x="1327320" y="4238640"/>
            <a:chExt cx="1011240" cy="353880"/>
          </a:xfrm>
        </p:grpSpPr>
        <p:grpSp>
          <p:nvGrpSpPr>
            <p:cNvPr id="197" name=""/>
            <p:cNvGrpSpPr/>
            <p:nvPr/>
          </p:nvGrpSpPr>
          <p:grpSpPr>
            <a:xfrm>
              <a:off x="1327320" y="4238640"/>
              <a:ext cx="1011240" cy="353880"/>
              <a:chOff x="1327320" y="4238640"/>
              <a:chExt cx="1011240" cy="353880"/>
            </a:xfrm>
          </p:grpSpPr>
          <p:sp>
            <p:nvSpPr>
              <p:cNvPr id="198" name=""/>
              <p:cNvSpPr/>
              <p:nvPr/>
            </p:nvSpPr>
            <p:spPr>
              <a:xfrm>
                <a:off x="1327320" y="4238640"/>
                <a:ext cx="1011240" cy="353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332000" y="4243320"/>
                <a:ext cx="988920" cy="331920"/>
              </a:xfrm>
              <a:prstGeom prst="rect">
                <a:avLst/>
              </a:prstGeom>
              <a:solidFill>
                <a:srgbClr val="ff9c6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1599840" y="4286160"/>
              <a:ext cx="41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Pregl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330200" y="4800600"/>
            <a:ext cx="1011240" cy="363600"/>
            <a:chOff x="1330200" y="4800600"/>
            <a:chExt cx="1011240" cy="363600"/>
          </a:xfrm>
        </p:grpSpPr>
        <p:grpSp>
          <p:nvGrpSpPr>
            <p:cNvPr id="202" name=""/>
            <p:cNvGrpSpPr/>
            <p:nvPr/>
          </p:nvGrpSpPr>
          <p:grpSpPr>
            <a:xfrm>
              <a:off x="1330200" y="4800600"/>
              <a:ext cx="1011240" cy="363600"/>
              <a:chOff x="1330200" y="4800600"/>
              <a:chExt cx="1011240" cy="363600"/>
            </a:xfrm>
          </p:grpSpPr>
          <p:sp>
            <p:nvSpPr>
              <p:cNvPr id="203" name=""/>
              <p:cNvSpPr/>
              <p:nvPr/>
            </p:nvSpPr>
            <p:spPr>
              <a:xfrm>
                <a:off x="1330200" y="4800600"/>
                <a:ext cx="1011240" cy="3636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334880" y="4805280"/>
                <a:ext cx="988920" cy="330120"/>
              </a:xfrm>
              <a:prstGeom prst="rect">
                <a:avLst/>
              </a:prstGeom>
              <a:solidFill>
                <a:srgbClr val="dee4e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HU"/>
                    <a:ea typeface="Times New Roman"/>
                  </a:rPr>
                  <a:t>Dono</a:t>
                </a:r>
                <a:r>
                  <a:rPr b="0" lang="hr-HR" sz="900" spc="-1" strike="noStrike">
                    <a:solidFill>
                      <a:srgbClr val="000000"/>
                    </a:solidFill>
                    <a:latin typeface="ArialHU"/>
                  </a:rPr>
                  <a:t>š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HU"/>
                    <a:ea typeface="Times New Roman"/>
                  </a:rPr>
                  <a:t>enj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HU"/>
                    <a:ea typeface="Times New Roman"/>
                  </a:rPr>
                  <a:t>odluk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1663560" y="48592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1327320" y="5419800"/>
            <a:ext cx="1011240" cy="358560"/>
            <a:chOff x="1327320" y="5419800"/>
            <a:chExt cx="1011240" cy="358560"/>
          </a:xfrm>
        </p:grpSpPr>
        <p:grpSp>
          <p:nvGrpSpPr>
            <p:cNvPr id="207" name=""/>
            <p:cNvGrpSpPr/>
            <p:nvPr/>
          </p:nvGrpSpPr>
          <p:grpSpPr>
            <a:xfrm>
              <a:off x="1327320" y="5419800"/>
              <a:ext cx="1011240" cy="358560"/>
              <a:chOff x="1327320" y="5419800"/>
              <a:chExt cx="1011240" cy="358560"/>
            </a:xfrm>
          </p:grpSpPr>
          <p:sp>
            <p:nvSpPr>
              <p:cNvPr id="208" name=""/>
              <p:cNvSpPr/>
              <p:nvPr/>
            </p:nvSpPr>
            <p:spPr>
              <a:xfrm>
                <a:off x="1327320" y="5425920"/>
                <a:ext cx="1011240" cy="35244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332000" y="5419800"/>
                <a:ext cx="988920" cy="342720"/>
              </a:xfrm>
              <a:prstGeom prst="rect">
                <a:avLst/>
              </a:prstGeom>
              <a:solidFill>
                <a:srgbClr val="dee4e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343880" y="5425920"/>
              <a:ext cx="861840" cy="231480"/>
              <a:chOff x="1343880" y="5425920"/>
              <a:chExt cx="861840" cy="231480"/>
            </a:xfrm>
          </p:grpSpPr>
          <p:sp>
            <p:nvSpPr>
              <p:cNvPr id="211" name=""/>
              <p:cNvSpPr/>
              <p:nvPr/>
            </p:nvSpPr>
            <p:spPr>
              <a:xfrm>
                <a:off x="1343880" y="5425920"/>
                <a:ext cx="861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HU"/>
                    <a:ea typeface="Times New Roman"/>
                  </a:rPr>
                  <a:t>Implementacija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351440" y="5519880"/>
                <a:ext cx="69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HU"/>
                    <a:ea typeface="Times New Roman"/>
                  </a:rPr>
                  <a:t>i monitoring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1703520" y="1606680"/>
            <a:ext cx="247680" cy="258480"/>
          </a:xfrm>
          <a:custGeom>
            <a:avLst/>
            <a:gdLst/>
            <a:ahLst/>
            <a:rect l="l" t="t" r="r" b="b"/>
            <a:pathLst>
              <a:path w="156" h="163">
                <a:moveTo>
                  <a:pt x="0" y="104"/>
                </a:moveTo>
                <a:lnTo>
                  <a:pt x="0" y="104"/>
                </a:lnTo>
                <a:lnTo>
                  <a:pt x="37" y="133"/>
                </a:lnTo>
                <a:lnTo>
                  <a:pt x="82" y="163"/>
                </a:lnTo>
                <a:lnTo>
                  <a:pt x="82" y="163"/>
                </a:lnTo>
                <a:lnTo>
                  <a:pt x="119" y="133"/>
                </a:lnTo>
                <a:lnTo>
                  <a:pt x="156" y="104"/>
                </a:lnTo>
                <a:lnTo>
                  <a:pt x="156" y="104"/>
                </a:lnTo>
                <a:lnTo>
                  <a:pt x="133" y="104"/>
                </a:lnTo>
                <a:lnTo>
                  <a:pt x="119" y="104"/>
                </a:lnTo>
                <a:lnTo>
                  <a:pt x="119" y="104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4"/>
                </a:lnTo>
                <a:lnTo>
                  <a:pt x="45" y="104"/>
                </a:lnTo>
                <a:lnTo>
                  <a:pt x="22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03520" y="2206800"/>
            <a:ext cx="247680" cy="245880"/>
          </a:xfrm>
          <a:custGeom>
            <a:avLst/>
            <a:gdLst/>
            <a:ahLst/>
            <a:rect l="l" t="t" r="r" b="b"/>
            <a:pathLst>
              <a:path w="156" h="155">
                <a:moveTo>
                  <a:pt x="0" y="96"/>
                </a:moveTo>
                <a:lnTo>
                  <a:pt x="0" y="96"/>
                </a:lnTo>
                <a:lnTo>
                  <a:pt x="37" y="126"/>
                </a:lnTo>
                <a:lnTo>
                  <a:pt x="82" y="155"/>
                </a:lnTo>
                <a:lnTo>
                  <a:pt x="82" y="155"/>
                </a:lnTo>
                <a:lnTo>
                  <a:pt x="119" y="126"/>
                </a:lnTo>
                <a:lnTo>
                  <a:pt x="156" y="96"/>
                </a:lnTo>
                <a:lnTo>
                  <a:pt x="156" y="96"/>
                </a:lnTo>
                <a:lnTo>
                  <a:pt x="133" y="96"/>
                </a:lnTo>
                <a:lnTo>
                  <a:pt x="119" y="96"/>
                </a:lnTo>
                <a:lnTo>
                  <a:pt x="119" y="96"/>
                </a:lnTo>
                <a:lnTo>
                  <a:pt x="119" y="44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44"/>
                </a:lnTo>
                <a:lnTo>
                  <a:pt x="45" y="96"/>
                </a:lnTo>
                <a:lnTo>
                  <a:pt x="45" y="96"/>
                </a:lnTo>
                <a:lnTo>
                  <a:pt x="22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03520" y="2793960"/>
            <a:ext cx="247680" cy="258840"/>
          </a:xfrm>
          <a:custGeom>
            <a:avLst/>
            <a:gdLst/>
            <a:ahLst/>
            <a:rect l="l" t="t" r="r" b="b"/>
            <a:pathLst>
              <a:path w="156" h="163">
                <a:moveTo>
                  <a:pt x="0" y="104"/>
                </a:moveTo>
                <a:lnTo>
                  <a:pt x="0" y="104"/>
                </a:lnTo>
                <a:lnTo>
                  <a:pt x="37" y="133"/>
                </a:lnTo>
                <a:lnTo>
                  <a:pt x="82" y="163"/>
                </a:lnTo>
                <a:lnTo>
                  <a:pt x="82" y="163"/>
                </a:lnTo>
                <a:lnTo>
                  <a:pt x="119" y="133"/>
                </a:lnTo>
                <a:lnTo>
                  <a:pt x="156" y="104"/>
                </a:lnTo>
                <a:lnTo>
                  <a:pt x="156" y="104"/>
                </a:lnTo>
                <a:lnTo>
                  <a:pt x="133" y="104"/>
                </a:lnTo>
                <a:lnTo>
                  <a:pt x="119" y="104"/>
                </a:lnTo>
                <a:lnTo>
                  <a:pt x="119" y="104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4"/>
                </a:lnTo>
                <a:lnTo>
                  <a:pt x="45" y="104"/>
                </a:lnTo>
                <a:lnTo>
                  <a:pt x="22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03520" y="3381480"/>
            <a:ext cx="247680" cy="258480"/>
          </a:xfrm>
          <a:custGeom>
            <a:avLst/>
            <a:gdLst/>
            <a:ahLst/>
            <a:rect l="l" t="t" r="r" b="b"/>
            <a:pathLst>
              <a:path w="156" h="163">
                <a:moveTo>
                  <a:pt x="0" y="104"/>
                </a:moveTo>
                <a:lnTo>
                  <a:pt x="0" y="104"/>
                </a:lnTo>
                <a:lnTo>
                  <a:pt x="37" y="133"/>
                </a:lnTo>
                <a:lnTo>
                  <a:pt x="82" y="163"/>
                </a:lnTo>
                <a:lnTo>
                  <a:pt x="82" y="163"/>
                </a:lnTo>
                <a:lnTo>
                  <a:pt x="119" y="133"/>
                </a:lnTo>
                <a:lnTo>
                  <a:pt x="156" y="104"/>
                </a:lnTo>
                <a:lnTo>
                  <a:pt x="156" y="104"/>
                </a:lnTo>
                <a:lnTo>
                  <a:pt x="133" y="104"/>
                </a:lnTo>
                <a:lnTo>
                  <a:pt x="119" y="104"/>
                </a:lnTo>
                <a:lnTo>
                  <a:pt x="119" y="104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4"/>
                </a:lnTo>
                <a:lnTo>
                  <a:pt x="45" y="104"/>
                </a:lnTo>
                <a:lnTo>
                  <a:pt x="22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03520" y="3981600"/>
            <a:ext cx="247680" cy="257040"/>
          </a:xfrm>
          <a:custGeom>
            <a:avLst/>
            <a:gdLst/>
            <a:ahLst/>
            <a:rect l="l" t="t" r="r" b="b"/>
            <a:pathLst>
              <a:path w="156" h="162">
                <a:moveTo>
                  <a:pt x="0" y="103"/>
                </a:moveTo>
                <a:lnTo>
                  <a:pt x="0" y="103"/>
                </a:lnTo>
                <a:lnTo>
                  <a:pt x="37" y="133"/>
                </a:lnTo>
                <a:lnTo>
                  <a:pt x="82" y="162"/>
                </a:lnTo>
                <a:lnTo>
                  <a:pt x="82" y="162"/>
                </a:lnTo>
                <a:lnTo>
                  <a:pt x="119" y="133"/>
                </a:lnTo>
                <a:lnTo>
                  <a:pt x="156" y="103"/>
                </a:lnTo>
                <a:lnTo>
                  <a:pt x="156" y="103"/>
                </a:lnTo>
                <a:lnTo>
                  <a:pt x="133" y="103"/>
                </a:lnTo>
                <a:lnTo>
                  <a:pt x="119" y="103"/>
                </a:lnTo>
                <a:lnTo>
                  <a:pt x="119" y="103"/>
                </a:lnTo>
                <a:lnTo>
                  <a:pt x="119" y="51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1"/>
                </a:lnTo>
                <a:lnTo>
                  <a:pt x="45" y="103"/>
                </a:lnTo>
                <a:lnTo>
                  <a:pt x="45" y="103"/>
                </a:lnTo>
                <a:lnTo>
                  <a:pt x="22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03520" y="4568760"/>
            <a:ext cx="247680" cy="246240"/>
          </a:xfrm>
          <a:custGeom>
            <a:avLst/>
            <a:gdLst/>
            <a:ahLst/>
            <a:rect l="l" t="t" r="r" b="b"/>
            <a:pathLst>
              <a:path w="156" h="155">
                <a:moveTo>
                  <a:pt x="0" y="103"/>
                </a:moveTo>
                <a:lnTo>
                  <a:pt x="0" y="103"/>
                </a:lnTo>
                <a:lnTo>
                  <a:pt x="37" y="126"/>
                </a:lnTo>
                <a:lnTo>
                  <a:pt x="82" y="155"/>
                </a:lnTo>
                <a:lnTo>
                  <a:pt x="82" y="155"/>
                </a:lnTo>
                <a:lnTo>
                  <a:pt x="119" y="126"/>
                </a:lnTo>
                <a:lnTo>
                  <a:pt x="156" y="103"/>
                </a:lnTo>
                <a:lnTo>
                  <a:pt x="156" y="103"/>
                </a:lnTo>
                <a:lnTo>
                  <a:pt x="133" y="103"/>
                </a:lnTo>
                <a:lnTo>
                  <a:pt x="119" y="103"/>
                </a:lnTo>
                <a:lnTo>
                  <a:pt x="119" y="103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3"/>
                </a:lnTo>
                <a:lnTo>
                  <a:pt x="45" y="103"/>
                </a:lnTo>
                <a:lnTo>
                  <a:pt x="22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03520" y="5167440"/>
            <a:ext cx="247680" cy="24768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0" y="96"/>
                </a:moveTo>
                <a:lnTo>
                  <a:pt x="0" y="96"/>
                </a:lnTo>
                <a:lnTo>
                  <a:pt x="37" y="126"/>
                </a:lnTo>
                <a:lnTo>
                  <a:pt x="82" y="156"/>
                </a:lnTo>
                <a:lnTo>
                  <a:pt x="82" y="156"/>
                </a:lnTo>
                <a:lnTo>
                  <a:pt x="119" y="126"/>
                </a:lnTo>
                <a:lnTo>
                  <a:pt x="156" y="96"/>
                </a:lnTo>
                <a:lnTo>
                  <a:pt x="156" y="96"/>
                </a:lnTo>
                <a:lnTo>
                  <a:pt x="133" y="96"/>
                </a:lnTo>
                <a:lnTo>
                  <a:pt x="119" y="96"/>
                </a:lnTo>
                <a:lnTo>
                  <a:pt x="119" y="96"/>
                </a:lnTo>
                <a:lnTo>
                  <a:pt x="119" y="45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45"/>
                </a:lnTo>
                <a:lnTo>
                  <a:pt x="45" y="96"/>
                </a:lnTo>
                <a:lnTo>
                  <a:pt x="45" y="96"/>
                </a:lnTo>
                <a:lnTo>
                  <a:pt x="22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1280" y="704880"/>
            <a:ext cx="726444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Priprem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programa za 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880" y="2440080"/>
            <a:ext cx="3600720" cy="26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vanje 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ih pitanja za razmatranj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d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vanje dijela javnosti na koju se projekat odnosi, kao i zainteresovane javnost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dabir odgovara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h tehnik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zima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u obzir bud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 i vremenske rokove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2" name=""/>
          <p:cNvSpPr/>
          <p:nvPr/>
        </p:nvSpPr>
        <p:spPr>
          <a:xfrm>
            <a:off x="4861080" y="2444760"/>
            <a:ext cx="3520800" cy="10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iza primjedbi i komentara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vratna informacija u cilju izgradnje povjerenj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24280" y="2362320"/>
            <a:ext cx="0" cy="11430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3080" y="679320"/>
            <a:ext cx="77724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Principi za uspj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nu primjenu tehnika za</a:t>
            </a:r>
            <a:br>
              <a:rPr sz="2800"/>
            </a:b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ć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e javnosti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55680" y="2438280"/>
            <a:ext cx="383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ezbijediti pravu informaciju u pravom trenutku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staviti dovoljno vremena za uvid i odgovo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6" name=""/>
          <p:cNvSpPr/>
          <p:nvPr/>
        </p:nvSpPr>
        <p:spPr>
          <a:xfrm>
            <a:off x="4876920" y="2448000"/>
            <a:ext cx="3749400" cy="21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ezbijediti odgovara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 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sti i sredstva za 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vanje akte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dabrati odgovara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 mjesto, vrijeme i vrstu d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vanja koji odgovaraju akteri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76920" y="2362320"/>
            <a:ext cx="0" cy="22096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09:28:52Z</dcterms:modified>
  <cp:revision>432</cp:revision>
  <dc:subject/>
  <dc:title>No Slide Title</dc:title>
</cp:coreProperties>
</file>