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C30C-1E92-43E3-B5C6-E79C1585E3F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IMPACT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131760"/>
            <a:ext cx="93528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7220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205680"/>
            <a:ext cx="1676520" cy="57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5600" y="1558440"/>
            <a:ext cx="3801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2000" y="4700520"/>
            <a:ext cx="288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mpact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7842" t="25000" r="5882" b="25000"/>
          <a:stretch/>
        </p:blipFill>
        <p:spPr>
          <a:xfrm>
            <a:off x="762120" y="914400"/>
            <a:ext cx="67053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28760" y="73800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Methods for identifying</a:t>
            </a:r>
            <a:br>
              <a:rPr sz="2800"/>
            </a:b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environmental impact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2469960"/>
            <a:ext cx="5562720" cy="22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hecklist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matrice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network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overlays and geographical information systems (GI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expert system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fessional judgemen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600" y="69192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Criteria for choosing an EIA method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95320" y="2413080"/>
            <a:ext cx="6781680" cy="27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ype and size of the proposal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types of alternatives being considered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nature and extent of likely impact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availability of impact identification method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experience of the EIA team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resources available (cost, information, time, personnel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12:40Z</dcterms:modified>
  <cp:revision>319</cp:revision>
  <dc:subject/>
  <dc:title>No Slide Title</dc:title>
</cp:coreProperties>
</file>