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AEA5-8AF7-483E-BFE6-EA2FE16F62C9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44688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HU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7632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Finansira Program Evropske Unije za Obnovu i P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146640"/>
            <a:ext cx="28195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EIA OBUKA</a:t>
            </a:r>
            <a:br>
              <a:rPr sz="1200"/>
            </a:b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POMO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Ć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I PRIRU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Č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IK</a:t>
            </a:r>
            <a:br>
              <a:rPr sz="1200"/>
            </a:b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ZA JUGOISTO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Č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U EVRO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204840"/>
            <a:ext cx="901440" cy="861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9040" y="614520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1200" y="5400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Finansira Program Evropske Unije za Obnovu i P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873920" y="61642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178760" y="6167520"/>
            <a:ext cx="49032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283360" y="6161040"/>
            <a:ext cx="167616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41720" y="1474920"/>
            <a:ext cx="37260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A OBUKA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M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 PRIRU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K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ZA JUGOIST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 EVR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8840" y="4700520"/>
            <a:ext cx="201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Monito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04800"/>
            <a:ext cx="360180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36240" y="6793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Monitoring u skladu sa procedurom Evropske banke za rekonstrukciju i razvoj (EBRD)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2437920"/>
            <a:ext cx="815364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okol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osigurava u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ost sa primjenjivim okolinskim standardima i komponentama projekta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ng prati trenutn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ticaj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votnoj sredini i provjerava 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nkovitost mjera za ubl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van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posljedic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BRD pobl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 odr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je mehanizme monitoringa za svaki projekat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koji se primjenjuju sve dok se kredit ne isplati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n 27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6600" y="679320"/>
            <a:ext cx="72072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Monitoring u skladu sa Konvencijom Espoo 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2444400"/>
            <a:ext cx="81536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Zainteresovan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tran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tvrđ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ju potrebu i obim svake post-projektne analize. To m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 ukl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ivat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nadgledanje aktivnosti i uklanjanje svakog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tnog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ek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ran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og efekta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n 7.1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ko se post-projektnom analizom otkrije zn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jan,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etan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ek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ran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i efekat, zainteresovane strane se trebaju konsultovati o neophodnim mjerama za smanjenje ili uklanjanj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og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fekt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9200" y="679320"/>
            <a:ext cx="72072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Monitoring u skladu sa Arhus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kom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k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onvencijom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2438280"/>
            <a:ext cx="739152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va konvencija ne predv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 nikakve zahtjeve za monitoringom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tim, ako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rgani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lasti tokom monitoringa d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 do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odgovarajućih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dataka, oni moraju biti dostupni javnosti u skladu sa odredbam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na 4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i 5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ove Konvencij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486320" y="520704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71640" y="1625760"/>
            <a:ext cx="18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81000" y="1041480"/>
            <a:ext cx="6324840" cy="474984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5553000" y="3701880"/>
            <a:ext cx="2906280" cy="617400"/>
            <a:chOff x="5553000" y="3701880"/>
            <a:chExt cx="2906280" cy="617400"/>
          </a:xfrm>
        </p:grpSpPr>
        <p:sp>
          <p:nvSpPr>
            <p:cNvPr id="103" name=""/>
            <p:cNvSpPr/>
            <p:nvPr/>
          </p:nvSpPr>
          <p:spPr>
            <a:xfrm>
              <a:off x="5555160" y="3701880"/>
              <a:ext cx="290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*Do uklju</a:t>
              </a:r>
              <a:r>
                <a:rPr b="0" lang="hr-H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č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vanja javnosti uglavnom dolazi u ovoj faz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 njega me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đ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tim mo</a:t>
              </a:r>
              <a:r>
                <a:rPr b="0" lang="hr-H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ž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 do</a:t>
              </a:r>
              <a:r>
                <a:rPr b="0" lang="hr-H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ć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 bilo kojoj drugoj fazi procesa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53000" y="38163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521400" y="393048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53000" y="40449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71960" y="404496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484880" y="5092560"/>
            <a:ext cx="238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cije dobijene u ovom proce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prinose efikasnosti budu</a:t>
            </a:r>
            <a:r>
              <a:rPr b="0" lang="hr-H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h procesa E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4640" y="52070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62160" y="1650960"/>
            <a:ext cx="45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ez E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95640" y="2063880"/>
            <a:ext cx="89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</a:t>
            </a:r>
            <a:r>
              <a:rPr b="0" lang="hr-H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t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spitivanje u odno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 okoli</a:t>
            </a:r>
            <a:r>
              <a:rPr b="0" lang="hr-H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91560" y="1625760"/>
            <a:ext cx="84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otreba za E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45120" y="5019840"/>
            <a:ext cx="98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ijedlog odob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76480" y="4486320"/>
            <a:ext cx="72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ijedlog ni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dobr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52720" y="4006800"/>
            <a:ext cx="76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definis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ijedlo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19160" y="3479760"/>
            <a:ext cx="99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novno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dno</a:t>
            </a:r>
            <a:r>
              <a:rPr b="0" lang="hr-H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nj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ijedlo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137120" y="1054080"/>
            <a:ext cx="633240" cy="376200"/>
            <a:chOff x="4137120" y="1054080"/>
            <a:chExt cx="633240" cy="376200"/>
          </a:xfrm>
        </p:grpSpPr>
        <p:sp>
          <p:nvSpPr>
            <p:cNvPr id="118" name=""/>
            <p:cNvSpPr/>
            <p:nvPr/>
          </p:nvSpPr>
          <p:spPr>
            <a:xfrm>
              <a:off x="4137120" y="1054080"/>
              <a:ext cx="633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tvr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đ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van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jedlo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08480" y="115560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636160" y="3403440"/>
            <a:ext cx="95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U</a:t>
            </a:r>
            <a:r>
              <a:rPr b="0" lang="hr-H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š</a:t>
            </a:r>
            <a:r>
              <a:rPr b="0" lang="hr-H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 javnost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93480" y="1635120"/>
            <a:ext cx="93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vjera potre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06760" y="2079720"/>
            <a:ext cx="63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tvr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jelokru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27920" y="2577960"/>
            <a:ext cx="81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 utic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190600" y="3067200"/>
            <a:ext cx="1267200" cy="477720"/>
            <a:chOff x="2190600" y="3067200"/>
            <a:chExt cx="1267200" cy="477720"/>
          </a:xfrm>
        </p:grpSpPr>
        <p:sp>
          <p:nvSpPr>
            <p:cNvPr id="125" name=""/>
            <p:cNvSpPr/>
            <p:nvPr/>
          </p:nvSpPr>
          <p:spPr>
            <a:xfrm>
              <a:off x="2419200" y="3067200"/>
              <a:ext cx="1038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bla</a:t>
              </a:r>
              <a:r>
                <a:rPr b="0" lang="hr-HR" sz="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ž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vanje posljed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 kontrola uticaj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53960" y="316872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90600" y="32702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574720" y="3594240"/>
            <a:ext cx="695880" cy="152640"/>
            <a:chOff x="2574720" y="3594240"/>
            <a:chExt cx="695880" cy="152640"/>
          </a:xfrm>
        </p:grpSpPr>
        <p:sp>
          <p:nvSpPr>
            <p:cNvPr id="129" name=""/>
            <p:cNvSpPr/>
            <p:nvPr/>
          </p:nvSpPr>
          <p:spPr>
            <a:xfrm>
              <a:off x="2574720" y="3594240"/>
              <a:ext cx="69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zvje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š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aj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77760" y="3594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708280" y="4054320"/>
            <a:ext cx="43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g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44040" y="4546440"/>
            <a:ext cx="101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n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nje odlu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458080" y="5442120"/>
            <a:ext cx="915120" cy="477360"/>
            <a:chOff x="2458080" y="5442120"/>
            <a:chExt cx="915120" cy="477360"/>
          </a:xfrm>
        </p:grpSpPr>
        <p:sp>
          <p:nvSpPr>
            <p:cNvPr id="134" name=""/>
            <p:cNvSpPr/>
            <p:nvPr/>
          </p:nvSpPr>
          <p:spPr>
            <a:xfrm>
              <a:off x="2458080" y="5442120"/>
              <a:ext cx="915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  <a:ea typeface="Times New Roman"/>
                </a:rPr>
                <a:t>Implementaci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  <a:ea typeface="Times New Roman"/>
                </a:rPr>
                <a:t>i monitor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19520" y="5543640"/>
              <a:ext cx="14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29080" y="564516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3080" y="723960"/>
            <a:ext cx="7110360" cy="4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Za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to je potreban monitoring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360" y="2444760"/>
            <a:ext cx="74674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677880" indent="-29700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nitoring je kl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a ali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dosta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zapostavljena komponent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ovedbe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I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, kao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i onog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 slijedi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akon nj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2" marL="677880" indent="-29700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stale komponente ukl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ju nadgledanje, reviziju i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aknadnu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ocjenu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55320" y="681120"/>
            <a:ext cx="673092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iljevi monitoring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49200" y="2438280"/>
            <a:ext cx="7880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sigurati provedbu uslova koji su sastavni dio odluk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ovjeriti da su efekti onakvi kao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o su bili predv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i ili dozvoljeni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otvrditi da mjere za ubl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vanj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sljedica imaju očekivano dejstvo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eduzeti mjere kako bi se odgovorilo na nepredv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e promjen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662040"/>
            <a:ext cx="6832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Kada je monitoring potreban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628668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nitoring i revizija se trebaju provesti kada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 potencijalni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ticaji bitn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i nesigurni; i/il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jere za ubl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vanje nisu isprobane i rezultati su nesigurni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6240" y="681120"/>
            <a:ext cx="6978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Klju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ne komponente monitoring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2444760"/>
            <a:ext cx="7347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drediti temeljne uslov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jeriti efekte projekta kao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o je predv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o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vjeriti usagl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ost sa odr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im uslovima i prihvatljivim granicam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spostaviti veze sa planovima z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pravljanj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kol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e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zv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vati period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 provjere i reviziju koju radi osoba izvan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23640" y="674640"/>
            <a:ext cx="7296120" cy="4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smisliti aspekte EIA monitoring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2437920"/>
            <a:ext cx="4133880" cy="32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a se tr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?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tvrditi djelokrug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 komponente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Ko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 izv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ti ove aktivnosti?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odijeliti uloge i odgovornost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Kako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 se to provesti?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aspodijeliti resurse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efinisati procedure i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rganizovanje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2451240"/>
            <a:ext cx="360684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 m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imati pristup rezultatima monitoring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mo onaj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ko j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l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 za don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je odluka i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ra javnost mogu imati pristup rezultatima monitoring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00600" y="2362320"/>
            <a:ext cx="0" cy="17524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36600" y="672840"/>
            <a:ext cx="72835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Monitoring u skladu sa Direktivom Evropske komisije o EI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rektiva Evropske komisije o EIA ne predv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 nikakve zahtjeve za monitoringom ili naknadnim ang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nom EI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31640" y="723960"/>
            <a:ext cx="718848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Monitoring u skladu s procedurom Svjetske bank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245700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k mora izv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vati tokom provedbe projekta 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vanju uslova dogovorenih sa Bankom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tusu mjera za ubl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van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posljedic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; 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alazima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grama monitoring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n 20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OP 4.01)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4-02T10:12:21Z</dcterms:modified>
  <cp:revision>387</cp:revision>
  <dc:subject/>
  <dc:title>No Slide Title</dc:title>
</cp:coreProperties>
</file>