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4D5C-63E8-4F57-BC05-90C02BBDA544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Utvr</a:t>
            </a:r>
            <a:r>
              <a:rPr b="1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đ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ivanje</a:t>
            </a:r>
            <a:r>
              <a:rPr b="1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 djelokruga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146640"/>
            <a:ext cx="2819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EIA OBUKA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OM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Ć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 PRIRU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K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ZA JUGOIST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77840"/>
            <a:ext cx="904680" cy="888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9040" y="613260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1200" y="54000"/>
            <a:ext cx="5715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86880" y="6164280"/>
            <a:ext cx="87120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191360" y="617364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295960" y="615456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933800" y="1451160"/>
            <a:ext cx="3746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OBUKA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M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 PRIRU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K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ZA JUGOIST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3360" y="4708440"/>
            <a:ext cx="41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Utvr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đ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ivanj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 djelokruga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481040"/>
            <a:ext cx="360180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6240" y="666720"/>
            <a:ext cx="7512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tvr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đ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vanje djelokruga u skladu sa Direktivom EC o EI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67920" y="2451240"/>
            <a:ext cx="7480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 ut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nja djelokruga mor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oći iznutra i mora bi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obrovoljan 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5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l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 organ daje m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jenje o sad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ju Iz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ja EIA na zahtjev nosioca projekta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emlj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ice mogu t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i da nadl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 organi daju takvo m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jenje, bez obzira da li nosilac projekta to t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ili n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36240" y="6793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tvr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đ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vanje djelokruga u skladu sa 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procedurom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Svjetske bank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2440080"/>
            <a:ext cx="777240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a projekte iz kategorije A potrebno je javno ut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vanje djelokruga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OP 4.01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. 15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risnici sredstava moraju konsultovati javnost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a koju se projekat odnos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odmah nakon provjere u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dnosu 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 prij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onačnog određivanja projektnih zadatak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 okolin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procjenu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 smislu ovih p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nih konsultacija, korisnik sredstava mora pripremiti zbirni pregled ciljeva predl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og projekta, kao i odgovara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 opis i potencijalne efek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36600" y="67896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tvr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đ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vanje djelokruga u skladu sa 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procedurom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EBRD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2440080"/>
            <a:ext cx="77724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ka vezana za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An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3.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razumijeva javno ut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nje djelokruga za projekte iz Kategorije 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a pitanja se odr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ju kroz konsultacije sa jav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na koju se projekat odnos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uzima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 u obzir njihove komentar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vaj proces podrazumijeva kontakte sa predstavnicima javnost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na koju se projekat odnos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vladinim agencijama, lokalnim organima i drugim organizacija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okviru rezultat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ojektnih zadatak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 EIA i za Plan javnih konsultacija i objavljivanja (nacrt PJKO) precizira se predl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o 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javnosti putem procesa E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3640" y="681120"/>
            <a:ext cx="7467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tvr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đ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vanje djelokruga u skladu sa Arhuskom konvencijom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880" y="24444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vaka od strana d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 je osigurati u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nje javnosti j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 ranoj fazi (odnosno dok su j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ve opcije otvorene i kada j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d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do efikasnog 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javnosti). 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. 6.4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no ut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nje djelokruga od pom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je pri ispunjavanju ove obavez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3640" y="678960"/>
            <a:ext cx="73911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tvr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đ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vanje djelokruga u skladu sa Konvencijom Espoo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36576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74320" indent="-27432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nvencijom se zahtijeva ut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vanje djelokruga za prekogran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 projekte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. 3.5, 3.6 i 3.8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4320" indent="-27432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edlag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ciljanu stranu oba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va 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  a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l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im aktivnosti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; b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jihovim mog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 prekogran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m efekti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jenjivoj proceduri EI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. 3.5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3" name=""/>
          <p:cNvSpPr/>
          <p:nvPr/>
        </p:nvSpPr>
        <p:spPr>
          <a:xfrm>
            <a:off x="4876920" y="2438280"/>
            <a:ext cx="3809880" cy="25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HU"/>
              </a:rPr>
              <a:t>S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trana </a:t>
            </a:r>
            <a:r>
              <a:rPr b="0" lang="hr-HR" sz="1600" spc="-1" strike="noStrike">
                <a:solidFill>
                  <a:srgbClr val="000000"/>
                </a:solidFill>
                <a:latin typeface="ArialHU"/>
              </a:rPr>
              <a:t>na koju se projekat odnosi 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predlaga</a:t>
            </a:r>
            <a:r>
              <a:rPr b="0" lang="hr-HR" sz="1600" spc="-1" strike="noStrike">
                <a:solidFill>
                  <a:srgbClr val="000000"/>
                </a:solidFill>
                <a:latin typeface="ArialHU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u daje informacije o potencijalnim uticajima na okoli</a:t>
            </a:r>
            <a:r>
              <a:rPr b="0" lang="hr-HR" sz="1600" spc="-1" strike="noStrike">
                <a:solidFill>
                  <a:srgbClr val="000000"/>
                </a:solidFill>
                <a:latin typeface="ArialHU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 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ArialHU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l. 3.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Obje strane osiguravaju uslove da zainteresovana javnost strane </a:t>
            </a:r>
            <a:r>
              <a:rPr b="0" lang="hr-HR" sz="1600" spc="-1" strike="noStrike">
                <a:solidFill>
                  <a:srgbClr val="000000"/>
                </a:solidFill>
                <a:latin typeface="ArialHU"/>
              </a:rPr>
              <a:t>na koju se projekat odnosi 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mo</a:t>
            </a:r>
            <a:r>
              <a:rPr b="0" lang="hr-HR" sz="1600" spc="-1" strike="noStrike">
                <a:solidFill>
                  <a:srgbClr val="000000"/>
                </a:solidFill>
                <a:latin typeface="ArialHU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e dati svoje komentare ili primjedbe na predlo</a:t>
            </a:r>
            <a:r>
              <a:rPr b="0" lang="hr-HR" sz="1600" spc="-1" strike="noStrike">
                <a:solidFill>
                  <a:srgbClr val="000000"/>
                </a:solidFill>
                <a:latin typeface="ArialHU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ene aktivnosti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ArialHU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ArialHU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  <a:ea typeface="Times New Roman"/>
              </a:rPr>
              <a:t>l. 3.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362320"/>
            <a:ext cx="0" cy="27432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36240" y="681120"/>
            <a:ext cx="7512120" cy="12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Predlo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ž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eni elementi za efikasno utvr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đ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ivanje djelokruga u zemljama jugoisto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ne Evrope (SEE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81536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lnSpc>
                <a:spcPts val="15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emlje SE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gu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predijeliti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a uspostave obaveznu proceduru ut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vanja djelokruga koja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369360" indent="0">
              <a:lnSpc>
                <a:spcPts val="15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Optima"/>
            </a:endParaRPr>
          </a:p>
          <a:p>
            <a:pPr lvl="1" marL="923760" indent="-369360">
              <a:lnSpc>
                <a:spcPts val="1500"/>
              </a:lnSpc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l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m organim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mog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je da daju svoje m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jenje o sad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ju Iz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ja EI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Direktiva EC)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23760" indent="-369360">
              <a:lnSpc>
                <a:spcPts val="1500"/>
              </a:lnSpc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uspostavlja kada su sve opcije otvorene i kada m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d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do efikasnog 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javnosti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Arhusk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nvencija)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23760" indent="-369360">
              <a:lnSpc>
                <a:spcPts val="1500"/>
              </a:lnSpc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 d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 neposredno nakon procesa provjere a prije finaliziranja generalnih projektnih zadataka za EI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Svjetska banka);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23760" indent="-369360">
              <a:lnSpc>
                <a:spcPts val="1500"/>
              </a:lnSpc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igurava d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likom ut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nja 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h pitanja u obzir uzmu stavovi svih nadl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h organa i javnosti na koju se proces odnosi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EBRD);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23760" indent="-369360">
              <a:lnSpc>
                <a:spcPts val="1500"/>
              </a:lnSpc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k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va proces prekogran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g ut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vanja djelokruga za prekogran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 procese EI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vencija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poo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55800" y="1035000"/>
            <a:ext cx="7481880" cy="4878000"/>
            <a:chOff x="955800" y="1035000"/>
            <a:chExt cx="7481880" cy="4878000"/>
          </a:xfrm>
        </p:grpSpPr>
        <p:sp>
          <p:nvSpPr>
            <p:cNvPr id="101" name=""/>
            <p:cNvSpPr/>
            <p:nvPr/>
          </p:nvSpPr>
          <p:spPr>
            <a:xfrm>
              <a:off x="4460760" y="52005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46440" y="161928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955800" y="1035000"/>
              <a:ext cx="6324480" cy="474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" name=""/>
            <p:cNvGrpSpPr/>
            <p:nvPr/>
          </p:nvGrpSpPr>
          <p:grpSpPr>
            <a:xfrm>
              <a:off x="5526000" y="3695400"/>
              <a:ext cx="2911680" cy="617400"/>
              <a:chOff x="5526000" y="3695400"/>
              <a:chExt cx="2911680" cy="617400"/>
            </a:xfrm>
          </p:grpSpPr>
          <p:sp>
            <p:nvSpPr>
              <p:cNvPr id="105" name=""/>
              <p:cNvSpPr/>
              <p:nvPr/>
            </p:nvSpPr>
            <p:spPr>
              <a:xfrm>
                <a:off x="5526000" y="3695400"/>
                <a:ext cx="2911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*Do uklju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č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vanja javnosti uglavnom dolazi u ovoj faz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o njega me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đ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tim mo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ž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 do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ć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 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 bilo kojoj drugoj fazi procesa E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527800" y="3809880"/>
                <a:ext cx="14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495840" y="392400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27800" y="4038480"/>
                <a:ext cx="14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46400" y="403848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455360" y="5086080"/>
              <a:ext cx="238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cije dobijene u ovom proces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prinose efikasnosti budu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ć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h procesa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59080" y="52005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36960" y="164448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z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970440" y="2057400"/>
              <a:ext cx="898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</a:t>
              </a:r>
              <a:r>
                <a:rPr b="0" lang="hr-HR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č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t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pitivanje u odnos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okoli</a:t>
              </a:r>
              <a:r>
                <a:rPr b="0" lang="hr-HR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š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66360" y="1619280"/>
              <a:ext cx="84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treba za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19560" y="5013360"/>
              <a:ext cx="98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 odob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51280" y="4479840"/>
              <a:ext cx="720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 ni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obre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27520" y="4000320"/>
              <a:ext cx="76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definis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3600" y="3473280"/>
              <a:ext cx="9907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novno 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dno</a:t>
              </a:r>
              <a:r>
                <a:rPr b="0" lang="hr-HR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š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j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4111560" y="1047600"/>
              <a:ext cx="633240" cy="376200"/>
              <a:chOff x="4111560" y="1047600"/>
              <a:chExt cx="633240" cy="376200"/>
            </a:xfrm>
          </p:grpSpPr>
          <p:sp>
            <p:nvSpPr>
              <p:cNvPr id="120" name=""/>
              <p:cNvSpPr/>
              <p:nvPr/>
            </p:nvSpPr>
            <p:spPr>
              <a:xfrm>
                <a:off x="4111560" y="1047600"/>
                <a:ext cx="633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tvr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đ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vanj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jedlog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282920" y="1149120"/>
                <a:ext cx="1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5603040" y="3396960"/>
              <a:ext cx="97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*U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č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šć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 javnosti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67920" y="1628640"/>
              <a:ext cx="93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jera potre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53840" y="2073240"/>
              <a:ext cx="6897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Utvr</a:t>
              </a:r>
              <a:r>
                <a:rPr b="1" lang="hr-HR" sz="10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đ</a:t>
              </a:r>
              <a:r>
                <a:rPr b="1" lang="en-US" sz="10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iv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djelokru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02720" y="2571480"/>
              <a:ext cx="81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za utic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2165400" y="3060720"/>
              <a:ext cx="1270080" cy="477720"/>
              <a:chOff x="2165400" y="3060720"/>
              <a:chExt cx="1270080" cy="477720"/>
            </a:xfrm>
          </p:grpSpPr>
          <p:sp>
            <p:nvSpPr>
              <p:cNvPr id="127" name=""/>
              <p:cNvSpPr/>
              <p:nvPr/>
            </p:nvSpPr>
            <p:spPr>
              <a:xfrm>
                <a:off x="2390760" y="3060720"/>
                <a:ext cx="1044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bla</a:t>
                </a:r>
                <a:r>
                  <a:rPr b="0" lang="hr-HR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ž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nje posljedic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 kontrola uticaj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28760" y="3162240"/>
                <a:ext cx="1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165400" y="326376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2549160" y="3587760"/>
              <a:ext cx="695880" cy="152640"/>
              <a:chOff x="2549160" y="3587760"/>
              <a:chExt cx="695880" cy="152640"/>
            </a:xfrm>
          </p:grpSpPr>
          <p:sp>
            <p:nvSpPr>
              <p:cNvPr id="131" name=""/>
              <p:cNvSpPr/>
              <p:nvPr/>
            </p:nvSpPr>
            <p:spPr>
              <a:xfrm>
                <a:off x="2549160" y="3587760"/>
                <a:ext cx="695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zvje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š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j E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752200" y="35877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2682720" y="404784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gl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18480" y="4539960"/>
              <a:ext cx="1011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no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š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je odlu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465280" y="5435640"/>
              <a:ext cx="848160" cy="477360"/>
              <a:chOff x="2465280" y="5435640"/>
              <a:chExt cx="848160" cy="477360"/>
            </a:xfrm>
          </p:grpSpPr>
          <p:sp>
            <p:nvSpPr>
              <p:cNvPr id="136" name=""/>
              <p:cNvSpPr/>
              <p:nvPr/>
            </p:nvSpPr>
            <p:spPr>
              <a:xfrm>
                <a:off x="2465280" y="5435640"/>
                <a:ext cx="848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lementacij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 monitor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794320" y="5537160"/>
                <a:ext cx="144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603880" y="5638680"/>
                <a:ext cx="14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18680" y="717120"/>
            <a:ext cx="720108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ta spada pod utvrđivanje djelokruga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2450880"/>
            <a:ext cx="78487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ana faza procesa EI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činje nakon završetka procesa provjer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 okviru ovog procesa utvrđuju se ključna pitanja i efekti za razmatranj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efiniše se sadržaj i opseg izvještaja EI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ajvažniji korak u okviru procesa EI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stavlja temelje za jedan efikasan proces, štedi vrijeme i novac, i smanjuje mogućnost sukob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9600" y="687240"/>
            <a:ext cx="708660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Vrste utvrđivanj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 djelokrug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2720" y="2451240"/>
            <a:ext cx="75056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Zatvoreno utvrđivanje djelokrug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 okviru kojeg je sadržaj i opseg izvještaja EIA prethodno utvrđen zakonom i modifikovan nakon zatvorenih konsultacija između nosioca projekta i nadležnog organ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Otvoreno ili javno utvrđivanje djelokrug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ransparentan proces koji se zasniva na javnim konsultacijam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3080" y="672840"/>
            <a:ext cx="72007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Elementi utvrđivanja djelokrug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3581640" cy="20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efinisanje parametara studije EI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dređivanje i obavještavanje akter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imjedbe akter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stizanje sporazuma o sredstvima učešć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nosti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 metodama analiz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2362320"/>
            <a:ext cx="0" cy="19810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851360" y="2438280"/>
            <a:ext cx="35812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dređivanje glavnih pitanja i efekata za proučav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azmatranje realnih i praktičnih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ternativ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tvrđivanj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ojektnih zadatak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za primjenu 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3640" y="672840"/>
            <a:ext cx="7219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Koraci u procesu utvrđivanja djelokrug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3353040" cy="30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iprema okvira za utvrđivanj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zraditi okvir putem neformalnih konsultacija sa nadl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im zdravstvenim i okolin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 organim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igurati dostupnost okvir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astaviti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veobuhvatnu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stu mog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h problem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cijeniti relevantne mog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 prepreke ut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vanju 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ih pitan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9" name=""/>
          <p:cNvSpPr/>
          <p:nvPr/>
        </p:nvSpPr>
        <p:spPr>
          <a:xfrm>
            <a:off x="4863960" y="2432160"/>
            <a:ext cx="3353040" cy="31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zovati 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 pitanja po kategorijama u skladu sa njihovim uticajem (studijska lis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 skladu s tim modifikovati okvirni doku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tvrditi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ojektne zadatk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(ToR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atiti napredak u skladu sa ToR, u sl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ju potrebe iz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i revizij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2362320"/>
            <a:ext cx="0" cy="30477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678960"/>
            <a:ext cx="7219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Ko bi trebao biti uklj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en u utvr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đ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ivanje djelokruga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1800" y="2436480"/>
            <a:ext cx="3353040" cy="14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dlag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sultant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I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zorni organ z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EI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tale nadl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 sl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451240"/>
            <a:ext cx="3352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nost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na koju se projekat odno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interesovana javn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2362320"/>
            <a:ext cx="0" cy="9903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9760" y="67932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Glavni principi za utvr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đ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ivanje djelokrug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2449440"/>
            <a:ext cx="335304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t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vanje djelokruga je proces, ne aktivnost ili dog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smisliti proces ut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vanja djelokruga za svaki prijedlog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ni p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ak, odnosno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 to bude mog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 u skladu sa dostupnim informacijam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prema paketa informacija o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kivanim rezultatim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2451240"/>
            <a:ext cx="33526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cizirati ulogu javnosti u procesu EI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kumentirati rezultate u cilju usmjeravanja pripreme E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agirati na nove informacije i pitanja u sl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ju potreb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0" y="2362320"/>
            <a:ext cx="0" cy="18288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0680" y="679320"/>
            <a:ext cx="723924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‘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Projektni zadaci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’ EIA koje treba obuhvatiti okvirnim dokumentom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2432160"/>
            <a:ext cx="3657600" cy="17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i oblasti i granice djelokrug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zmotriti alternativ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i efekte i pitan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Zauzeti stav i pristup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lovi za ubl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nj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sljedica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monitoring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451240"/>
            <a:ext cx="373356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vanje informacija i podataka u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z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j 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remenski raspored i uslovi za kompletiranje procesa 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g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st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reg 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javnost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362320"/>
            <a:ext cx="0" cy="17524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09:39:17Z</dcterms:modified>
  <cp:revision>423</cp:revision>
  <dc:subject/>
  <dc:title>No Slide Title</dc:title>
</cp:coreProperties>
</file>