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0480"/>
            <a:ext cx="381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8218-0967-4A2B-94B7-FFBE79DC3D45}" type="slidenum">
              <a:rPr b="0" lang="en-US" sz="1000" spc="-1" strike="noStrike">
                <a:solidFill>
                  <a:srgbClr val="ffffcc"/>
                </a:solidFill>
                <a:latin typeface="MAC C Swis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4240" y="647856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MAC C Swiss"/>
              </a:rPr>
              <a:t>Selektira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4600" y="7632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MAC C Swiss"/>
              </a:rPr>
              <a:t>Poddr`ano od EU programate Obnova i F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0720" y="6102360"/>
            <a:ext cx="35118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MAC C Swiss"/>
              </a:rPr>
              <a:t>PRIRA^NIK ZA OBUKA ZA OCENKA NA VLIJANIETO VRZ @IVOTNATA SREDINA (OV@S) ZA JUGOISTO^NA EV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915320" y="149400"/>
            <a:ext cx="914400" cy="909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9040" y="6146640"/>
            <a:ext cx="3124440" cy="687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55680" y="5400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MAC C Swiss"/>
              </a:rPr>
              <a:t>Poddr`ano od EU programate Obnova i F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937640" y="617688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11960" y="6175440"/>
            <a:ext cx="490680" cy="57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448240" y="6167520"/>
            <a:ext cx="1676520" cy="576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933800" y="1460880"/>
            <a:ext cx="38228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C C Swiss"/>
              </a:rPr>
              <a:t>PRIRA^NIK ZA OBUKA ZA OCENKA NA VLIJANIETO VRZ @IVOTNATA SREDINA (OV@S) ZA JUGOISTO^NA EVRO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96800" y="4730760"/>
            <a:ext cx="22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AC C Swiss"/>
                <a:ea typeface="Times New Roman"/>
              </a:rPr>
              <a:t>Selektiraw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15920" y="1494000"/>
            <a:ext cx="3598920" cy="3598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36600" y="693720"/>
            <a:ext cx="72835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Selektiraweto vo soglasnost so pravilata na Svetskata bank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80520" y="2450880"/>
            <a:ext cx="8153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53800" indent="-253800"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Site predlozi {to se dostavuvaat do Svetskata banka mora da pominat niz fazata na selektirawe od aspekt na `ivotnata sredina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53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53800" indent="-25380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Spored rezultatite od selektiraweto na proektite od aspekt na `ivotnata sredina, predlozite se klasificiraat vo edna od trite kategorii na OV@S: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662760" indent="-24300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Predlozite od kategorijata A baraat celosna OV@S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662760" indent="-24300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Predlozite od kategorijata B baraat delumna OV@S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662760" indent="-24300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Predlozite od kategorijata C ne baraat OV@S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6600" y="693360"/>
            <a:ext cx="713088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MAC C Swiss"/>
              </a:rPr>
              <a:t>S</a:t>
            </a: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elektirawe vo soglasnost so pravilata na Evropskata banka za obnova i razvoj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80520" y="2463840"/>
            <a:ext cx="8217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Za site predlozi mora da se napravi selektirawe od aspekt na `ivotnata sredina so cel da se identifikuvaat potencijalnite ekolo{ki rizici i odgovornosti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.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Kako i vo slu~ajot na Svetskata banka, site predlozi se klasificiraat vo edna od trite kategorii na OV@S (A,B ili C)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Selektiraweto isto taka odreduva dali e potrebna ekolo{ka revizija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. Ako odgovorot e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"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da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"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, predlogot se klasificira kako kategorija 1, a ako e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"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ne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"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, toj se klasificira kako kategorija 0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36240" y="693720"/>
            <a:ext cx="606420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MAC C Swiss"/>
              </a:rPr>
              <a:t>S</a:t>
            </a: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elektiraweto vo soglasnost so konvencijata</a:t>
            </a:r>
            <a:r>
              <a:rPr b="0" lang="en-US" sz="2800" spc="-1" strike="noStrike">
                <a:solidFill>
                  <a:srgbClr val="800000"/>
                </a:solidFill>
                <a:latin typeface="MAC C Swiss"/>
              </a:rPr>
              <a:t> </a:t>
            </a:r>
            <a:r>
              <a:rPr b="1" lang="cs-CZ" sz="2800" spc="-1" strike="noStrike">
                <a:solidFill>
                  <a:srgbClr val="800000"/>
                </a:solidFill>
                <a:latin typeface="MAC C Swiss"/>
              </a:rPr>
              <a:t>Espoo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2336400"/>
            <a:ext cx="8217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Site prelo`eni aktivnosti navedeni vo dodatokot 1 na konvencijata mora da podle`at na selektirawe zaradi identifikuvawe na mo`ni zna~ajni negativni prekugrani~ni vlijanija.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p{tite upatstva za odreduvawe na zna~ajnite negativni prekugrani~ni vlijanija se dadeni vo dodatokot 3 na konvencijata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432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sven toa, zasegnatite strani mo`e da diskutiraat i dali nekoi drugi aktivnosti {to ne se navedeni vo dodatokot 1 na konvencijata bi mo`ele da predizvikaat zna~ajni negativni prekugrani~ni posledici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i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kako takvi da podle`at na prekugrani~na OV@S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36240" y="687240"/>
            <a:ext cx="75121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AC C Swiss"/>
                <a:ea typeface="Times New Roman"/>
              </a:rPr>
              <a:t>Preporaki za efikasno selektirawe 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MAC C Swiss"/>
                <a:ea typeface="Times New Roman"/>
              </a:rPr>
              <a:t>vo zemjite na Jugoisto~na Evrop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80520" y="2463840"/>
            <a:ext cx="8140680" cy="29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Zadol`itelnata primena na OV@S treba da se zasnovuva na listata utvrdena vo aneksot 1 od Direktivata za OV@S na Evropskata Komisija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Diskrecionata primena na OV@S treba da se zasnovuva na listata utvrdena vo aneksot 2 od Direktivata za OV@S. Za vakvite proekti potrebno e da se primenuva selektirawe od slu~aj do slu~aj vrz osnova na kriteriumite definirani vo aneksot 3 od istata direktiva. So ova }e se zadovolat barawata za selektirawe na Evropskata banka za obnova i razvoj i na Svetskata banka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Site proekti za koi e zadol`itelna OV@S treba vedna{ da se podlo`at na selektirawe zaradi utvrduvawe na potencijalni prekugrani~ni vlijanija, vrz osnova na kriteriumite utvrdeni vo dodatokot 3 na konvencijata Espoo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6325920" cy="474984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2585880" y="5486400"/>
            <a:ext cx="653040" cy="366480"/>
            <a:chOff x="2585880" y="5486400"/>
            <a:chExt cx="653040" cy="366480"/>
          </a:xfrm>
        </p:grpSpPr>
        <p:sp>
          <p:nvSpPr>
            <p:cNvPr id="101" name=""/>
            <p:cNvSpPr/>
            <p:nvPr/>
          </p:nvSpPr>
          <p:spPr>
            <a:xfrm>
              <a:off x="2596680" y="5486400"/>
              <a:ext cx="64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Realizacija i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monitor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85880" y="5577840"/>
              <a:ext cx="1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662560" y="567252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359320" y="3753000"/>
            <a:ext cx="1856880" cy="883440"/>
            <a:chOff x="5359320" y="3753000"/>
            <a:chExt cx="1856880" cy="883440"/>
          </a:xfrm>
        </p:grpSpPr>
        <p:sp>
          <p:nvSpPr>
            <p:cNvPr id="105" name=""/>
            <p:cNvSpPr/>
            <p:nvPr/>
          </p:nvSpPr>
          <p:spPr>
            <a:xfrm>
              <a:off x="5388120" y="3753000"/>
              <a:ext cx="1828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Vklu~uvaweto na javnosta obi~n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se slu~uva vo ovie momenti.</a:t>
              </a:r>
              <a:r>
                <a:rPr b="0" lang="en-GB" sz="16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59320" y="3956400"/>
              <a:ext cx="18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06480" y="4159440"/>
              <a:ext cx="1791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Toa mo`e da se slu~i i vo nekoj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druga faza od procesot na OV@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59320" y="4363200"/>
              <a:ext cx="18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67920" y="436320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44920" y="5118120"/>
            <a:ext cx="2419920" cy="388800"/>
            <a:chOff x="4444920" y="5118120"/>
            <a:chExt cx="2419920" cy="388800"/>
          </a:xfrm>
        </p:grpSpPr>
        <p:sp>
          <p:nvSpPr>
            <p:cNvPr id="111" name=""/>
            <p:cNvSpPr/>
            <p:nvPr/>
          </p:nvSpPr>
          <p:spPr>
            <a:xfrm>
              <a:off x="4561560" y="5118120"/>
              <a:ext cx="2303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nformaciite od ovoj proc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pridonesuvaat za efikasna OV@S vo idnina</a:t>
              </a: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44920" y="523224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20280" y="523224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5518080" y="1707840"/>
            <a:ext cx="98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Ne treba OV@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006800" y="2082960"/>
            <a:ext cx="879480" cy="422280"/>
            <a:chOff x="4006800" y="2082960"/>
            <a:chExt cx="879480" cy="422280"/>
          </a:xfrm>
        </p:grpSpPr>
        <p:sp>
          <p:nvSpPr>
            <p:cNvPr id="116" name=""/>
            <p:cNvSpPr/>
            <p:nvPr/>
          </p:nvSpPr>
          <p:spPr>
            <a:xfrm>
              <a:off x="4120560" y="2082960"/>
              <a:ext cx="7657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nicijaln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spituvawe n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`iv. sred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06800" y="2184840"/>
              <a:ext cx="72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53600" y="2286360"/>
              <a:ext cx="108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543040" y="1636560"/>
            <a:ext cx="736920" cy="152640"/>
            <a:chOff x="2543040" y="1636560"/>
            <a:chExt cx="736920" cy="152640"/>
          </a:xfrm>
        </p:grpSpPr>
        <p:sp>
          <p:nvSpPr>
            <p:cNvPr id="120" name=""/>
            <p:cNvSpPr/>
            <p:nvPr/>
          </p:nvSpPr>
          <p:spPr>
            <a:xfrm>
              <a:off x="2543040" y="1636560"/>
              <a:ext cx="73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Treba OV@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18000" y="163656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584800" y="5029200"/>
            <a:ext cx="649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Soglasn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01600" y="4495680"/>
            <a:ext cx="84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Ne e odobr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proektot</a:t>
            </a: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2840" y="4019400"/>
            <a:ext cx="63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Da s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redizajni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08080" y="3533760"/>
            <a:ext cx="85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dnovo da s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podne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107960" y="1012680"/>
            <a:ext cx="724680" cy="376200"/>
            <a:chOff x="4107960" y="1012680"/>
            <a:chExt cx="724680" cy="376200"/>
          </a:xfrm>
        </p:grpSpPr>
        <p:sp>
          <p:nvSpPr>
            <p:cNvPr id="127" name=""/>
            <p:cNvSpPr/>
            <p:nvPr/>
          </p:nvSpPr>
          <p:spPr>
            <a:xfrm>
              <a:off x="4120920" y="101268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07960" y="1114200"/>
              <a:ext cx="72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dentifikacij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na predlogo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5562720" y="3429000"/>
            <a:ext cx="1511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*</a:t>
            </a: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Vklu~uvawe na javnosta</a:t>
            </a: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26960" y="1676520"/>
            <a:ext cx="828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33"/>
                </a:solidFill>
                <a:latin typeface="MAC C Swiss"/>
                <a:ea typeface="Times New Roman"/>
              </a:rPr>
              <a:t>Selektiraw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01000" y="2114640"/>
            <a:ext cx="61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dreduva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na obemo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2000" y="2565360"/>
            <a:ext cx="64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Analiza n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vlijani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484360" y="3035160"/>
            <a:ext cx="847080" cy="477720"/>
            <a:chOff x="2484360" y="3035160"/>
            <a:chExt cx="847080" cy="477720"/>
          </a:xfrm>
        </p:grpSpPr>
        <p:sp>
          <p:nvSpPr>
            <p:cNvPr id="134" name=""/>
            <p:cNvSpPr/>
            <p:nvPr/>
          </p:nvSpPr>
          <p:spPr>
            <a:xfrm>
              <a:off x="2593080" y="3035160"/>
              <a:ext cx="7383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Ubla`uvawe i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spravuvawe s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vlijanie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50240" y="313668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84360" y="323820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595600" y="3552840"/>
            <a:ext cx="634680" cy="304920"/>
            <a:chOff x="2595600" y="3552840"/>
            <a:chExt cx="634680" cy="304920"/>
          </a:xfrm>
        </p:grpSpPr>
        <p:sp>
          <p:nvSpPr>
            <p:cNvPr id="138" name=""/>
            <p:cNvSpPr/>
            <p:nvPr/>
          </p:nvSpPr>
          <p:spPr>
            <a:xfrm>
              <a:off x="2595600" y="3552840"/>
              <a:ext cx="634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zve{taj z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OV@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38880" y="355284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667600" y="4089240"/>
            <a:ext cx="47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Re</a:t>
            </a: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vizija</a:t>
            </a: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22160" y="4505400"/>
            <a:ext cx="797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nesuvaw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dluka</a:t>
            </a: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49200" y="679320"/>
            <a:ext cx="720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AC C Swiss"/>
                <a:ea typeface="Arial"/>
              </a:rPr>
              <a:t>[to e selektirawe?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6553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Procesot na selektirawe odreduva: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49160" indent="-266400">
              <a:lnSpc>
                <a:spcPct val="70000"/>
              </a:lnSpc>
              <a:spcBef>
                <a:spcPts val="1001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dali OV@S e potrebna ili ne za konkreten proekt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49160" indent="-266400">
              <a:lnSpc>
                <a:spcPct val="70000"/>
              </a:lnSpc>
              <a:spcBef>
                <a:spcPts val="1001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kakvo nivo na OV@S se bara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30120" y="679320"/>
            <a:ext cx="7290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AC C Swiss"/>
                <a:ea typeface="Arial"/>
              </a:rPr>
              <a:t>Rezultati od selektiraweto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2448000"/>
            <a:ext cx="706752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Potrebna e celosna ili seopfatna OV@S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Potrebna e ograni~ena OV@S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Ne e potrebna OV@S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5160" y="723960"/>
            <a:ext cx="6933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AC C Swiss"/>
                <a:ea typeface="Arial"/>
              </a:rPr>
              <a:t>Alatki za selektiraweto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2441160"/>
            <a:ext cx="8153640" cy="324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Listi na proekti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838080" indent="-26640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kluzivni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za navedenite proekti mora da se sprovede OV@S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838080" indent="-26640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kskluzivni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- navedenite proekti se oslobodeni od obvrskata da se sprovede OV@S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9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9360" indent="-2793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Ispituvawa od slu~aj do slu~aj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: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838080" indent="-26640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Se opredeluva dali proektite mo`e da imaat zna~itelni posledici po `ivotnata sredina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838080" indent="-26640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Ako e taka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za proektot treba da se sprovede OV@S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9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9360" indent="-2793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Kombinacija na gornive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36240" y="673200"/>
            <a:ext cx="719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Ramka za selektiraweto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9" name=""/>
          <p:cNvSpPr/>
          <p:nvPr/>
        </p:nvSpPr>
        <p:spPr>
          <a:xfrm>
            <a:off x="3510360" y="1765440"/>
            <a:ext cx="1116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Zadol`itel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V@S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124080" y="2984400"/>
            <a:ext cx="1826280" cy="973800"/>
            <a:chOff x="3124080" y="2984400"/>
            <a:chExt cx="1826280" cy="973800"/>
          </a:xfrm>
        </p:grpSpPr>
        <p:sp>
          <p:nvSpPr>
            <p:cNvPr id="151" name=""/>
            <p:cNvSpPr/>
            <p:nvPr/>
          </p:nvSpPr>
          <p:spPr>
            <a:xfrm>
              <a:off x="3183480" y="2984400"/>
              <a:ext cx="1766880" cy="9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Razgleduvaw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od slu~aj do slu~a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dali e potrebn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OV@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74840" y="318780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24080" y="339084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67160" y="359424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3362040" y="4978440"/>
            <a:ext cx="1532520" cy="243720"/>
            <a:chOff x="3362040" y="4978440"/>
            <a:chExt cx="1532520" cy="243720"/>
          </a:xfrm>
        </p:grpSpPr>
        <p:sp>
          <p:nvSpPr>
            <p:cNvPr id="156" name=""/>
            <p:cNvSpPr/>
            <p:nvPr/>
          </p:nvSpPr>
          <p:spPr>
            <a:xfrm>
              <a:off x="3362040" y="4978440"/>
              <a:ext cx="1532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OV@S isklu~e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95320" y="497844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051600" y="2133720"/>
            <a:ext cx="1471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Inkluziven pr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69600" y="3454560"/>
            <a:ext cx="1616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Indikativen prag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34320" y="4673520"/>
            <a:ext cx="1596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Ekskluziven pr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957240" y="1612800"/>
            <a:ext cx="1270080" cy="3657600"/>
            <a:chOff x="957240" y="1612800"/>
            <a:chExt cx="1270080" cy="3657600"/>
          </a:xfrm>
        </p:grpSpPr>
        <p:sp>
          <p:nvSpPr>
            <p:cNvPr id="162" name=""/>
            <p:cNvSpPr/>
            <p:nvPr/>
          </p:nvSpPr>
          <p:spPr>
            <a:xfrm>
              <a:off x="1579680" y="4622760"/>
              <a:ext cx="406440" cy="520920"/>
            </a:xfrm>
            <a:custGeom>
              <a:avLst/>
              <a:gdLst/>
              <a:ahLst/>
              <a:rect l="l" t="t" r="r" b="b"/>
              <a:pathLst>
                <a:path w="256" h="328">
                  <a:moveTo>
                    <a:pt x="224" y="328"/>
                  </a:moveTo>
                  <a:lnTo>
                    <a:pt x="224" y="328"/>
                  </a:lnTo>
                  <a:lnTo>
                    <a:pt x="0" y="248"/>
                  </a:lnTo>
                  <a:lnTo>
                    <a:pt x="256" y="0"/>
                  </a:lnTo>
                  <a:lnTo>
                    <a:pt x="224" y="208"/>
                  </a:lnTo>
                  <a:lnTo>
                    <a:pt x="224" y="328"/>
                  </a:lnTo>
                  <a:close/>
                </a:path>
              </a:pathLst>
            </a:custGeom>
            <a:solidFill>
              <a:srgbClr val="0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046160" y="2006640"/>
              <a:ext cx="622440" cy="3263760"/>
            </a:xfrm>
            <a:custGeom>
              <a:avLst/>
              <a:gdLst/>
              <a:ahLst/>
              <a:rect l="l" t="t" r="r" b="b"/>
              <a:pathLst>
                <a:path w="392" h="2056">
                  <a:moveTo>
                    <a:pt x="336" y="2056"/>
                  </a:moveTo>
                  <a:lnTo>
                    <a:pt x="336" y="2056"/>
                  </a:lnTo>
                  <a:lnTo>
                    <a:pt x="0" y="1936"/>
                  </a:lnTo>
                  <a:lnTo>
                    <a:pt x="56" y="0"/>
                  </a:lnTo>
                  <a:lnTo>
                    <a:pt x="392" y="120"/>
                  </a:lnTo>
                  <a:lnTo>
                    <a:pt x="336" y="2056"/>
                  </a:lnTo>
                  <a:close/>
                </a:path>
              </a:pathLst>
            </a:custGeom>
            <a:solidFill>
              <a:srgbClr val="0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57240" y="1612800"/>
              <a:ext cx="901800" cy="647640"/>
            </a:xfrm>
            <a:custGeom>
              <a:avLst/>
              <a:gdLst/>
              <a:ahLst/>
              <a:rect l="l" t="t" r="r" b="b"/>
              <a:pathLst>
                <a:path w="568" h="408">
                  <a:moveTo>
                    <a:pt x="344" y="408"/>
                  </a:moveTo>
                  <a:lnTo>
                    <a:pt x="344" y="408"/>
                  </a:lnTo>
                  <a:lnTo>
                    <a:pt x="0" y="280"/>
                  </a:lnTo>
                  <a:lnTo>
                    <a:pt x="232" y="0"/>
                  </a:lnTo>
                  <a:lnTo>
                    <a:pt x="568" y="120"/>
                  </a:lnTo>
                  <a:lnTo>
                    <a:pt x="344" y="408"/>
                  </a:lnTo>
                  <a:close/>
                </a:path>
              </a:pathLst>
            </a:custGeom>
            <a:solidFill>
              <a:srgbClr val="147a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03360" y="1803240"/>
              <a:ext cx="723960" cy="3467160"/>
            </a:xfrm>
            <a:custGeom>
              <a:avLst/>
              <a:gdLst/>
              <a:ahLst/>
              <a:rect l="l" t="t" r="r" b="b"/>
              <a:pathLst>
                <a:path w="456" h="2184">
                  <a:moveTo>
                    <a:pt x="224" y="0"/>
                  </a:moveTo>
                  <a:lnTo>
                    <a:pt x="224" y="0"/>
                  </a:lnTo>
                  <a:lnTo>
                    <a:pt x="456" y="120"/>
                  </a:lnTo>
                  <a:lnTo>
                    <a:pt x="352" y="160"/>
                  </a:lnTo>
                  <a:lnTo>
                    <a:pt x="408" y="2056"/>
                  </a:lnTo>
                  <a:lnTo>
                    <a:pt x="272" y="2104"/>
                  </a:lnTo>
                  <a:lnTo>
                    <a:pt x="272" y="1984"/>
                  </a:lnTo>
                  <a:lnTo>
                    <a:pt x="184" y="2008"/>
                  </a:lnTo>
                  <a:lnTo>
                    <a:pt x="184" y="2136"/>
                  </a:lnTo>
                  <a:lnTo>
                    <a:pt x="48" y="2184"/>
                  </a:lnTo>
                  <a:lnTo>
                    <a:pt x="104" y="248"/>
                  </a:lnTo>
                  <a:lnTo>
                    <a:pt x="0" y="28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9ac6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2697120" y="1587600"/>
            <a:ext cx="2745000" cy="3822480"/>
          </a:xfrm>
          <a:prstGeom prst="rect">
            <a:avLst/>
          </a:prstGeom>
          <a:noFill/>
          <a:ln w="76320">
            <a:solidFill>
              <a:srgbClr val="005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09720" y="2311560"/>
            <a:ext cx="3164040" cy="1440"/>
          </a:xfrm>
          <a:prstGeom prst="line">
            <a:avLst/>
          </a:prstGeom>
          <a:ln w="76320">
            <a:solidFill>
              <a:srgbClr val="005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09720" y="4813200"/>
            <a:ext cx="3164040" cy="1800"/>
          </a:xfrm>
          <a:prstGeom prst="line">
            <a:avLst/>
          </a:prstGeom>
          <a:ln w="76320">
            <a:solidFill>
              <a:srgbClr val="005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5873760" y="2502000"/>
            <a:ext cx="101520" cy="2082600"/>
            <a:chOff x="5873760" y="2502000"/>
            <a:chExt cx="101520" cy="2082600"/>
          </a:xfrm>
        </p:grpSpPr>
        <p:sp>
          <p:nvSpPr>
            <p:cNvPr id="170" name=""/>
            <p:cNvSpPr/>
            <p:nvPr/>
          </p:nvSpPr>
          <p:spPr>
            <a:xfrm>
              <a:off x="5873760" y="2502000"/>
              <a:ext cx="101520" cy="127080"/>
            </a:xfrm>
            <a:custGeom>
              <a:avLst/>
              <a:gdLst/>
              <a:ahLst/>
              <a:rect l="l" t="t" r="r" b="b"/>
              <a:pathLst>
                <a:path w="64" h="80">
                  <a:moveTo>
                    <a:pt x="32" y="80"/>
                  </a:moveTo>
                  <a:lnTo>
                    <a:pt x="32" y="80"/>
                  </a:lnTo>
                  <a:lnTo>
                    <a:pt x="0" y="80"/>
                  </a:lnTo>
                  <a:lnTo>
                    <a:pt x="32" y="0"/>
                  </a:lnTo>
                  <a:lnTo>
                    <a:pt x="64" y="80"/>
                  </a:lnTo>
                  <a:lnTo>
                    <a:pt x="32" y="80"/>
                  </a:lnTo>
                  <a:close/>
                </a:path>
              </a:pathLst>
            </a:custGeom>
            <a:solidFill>
              <a:srgbClr val="0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73760" y="4457880"/>
              <a:ext cx="101520" cy="126720"/>
            </a:xfrm>
            <a:custGeom>
              <a:avLst/>
              <a:gdLst/>
              <a:ahLst/>
              <a:rect l="l" t="t" r="r" b="b"/>
              <a:pathLst>
                <a:path w="64" h="80">
                  <a:moveTo>
                    <a:pt x="32" y="0"/>
                  </a:moveTo>
                  <a:lnTo>
                    <a:pt x="32" y="0"/>
                  </a:lnTo>
                  <a:lnTo>
                    <a:pt x="64" y="0"/>
                  </a:lnTo>
                  <a:lnTo>
                    <a:pt x="32" y="80"/>
                  </a:lnTo>
                  <a:lnTo>
                    <a:pt x="0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37120" y="2629080"/>
              <a:ext cx="1800" cy="1854000"/>
            </a:xfrm>
            <a:prstGeom prst="line">
              <a:avLst/>
            </a:prstGeom>
            <a:ln w="25560">
              <a:solidFill>
                <a:srgbClr val="005e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 rot="16200000">
            <a:off x="732240" y="2941920"/>
            <a:ext cx="227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Sè pogolemo vlijan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31640" y="647640"/>
            <a:ext cx="802656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MAC C Swiss"/>
              </a:rPr>
              <a:t>S</a:t>
            </a: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elektirawe vo soglasnost so 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Direktivata za OV@S na Evropskata Komisij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838224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AC C Swiss"/>
                <a:ea typeface="Arial"/>
              </a:rPr>
              <a:t>Zadol`itelna primena: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Arial"/>
              </a:rPr>
              <a:t>aneksot 1 na Direktivata za OV@S gi naveduva proektite za koi mora da se napravi OV@S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AC C Swiss"/>
                <a:ea typeface="Arial"/>
              </a:rPr>
              <a:t>Diskreciona primena: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Arial"/>
              </a:rPr>
              <a:t>Proektite navedeni vo aneksot 2 baraat skrining vrz osnova na ispituvawe od slu~aj do slu~aj ili sporedba so kriteriumite za grani~nite vrednosti {to gi utvrduva zemjata ~lenka. Pri ova, predvid treba da se zemat slednive kriteriumi navedeni vo aneksot 3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800280" indent="-3240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Arial"/>
              </a:rPr>
              <a:t>Karakteristikite na proektot;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800280" indent="-3240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Arial"/>
              </a:rPr>
              <a:t>Lokacijata na proektot; i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800280" indent="-3240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Arial"/>
              </a:rPr>
              <a:t>Karakteristikite na potencijalnite vlijanija vrz `ivotnata sredina.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Rezultatite od selektiraweto na proektite od aneksot 2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mora da &amp;  se napravat dostapni na javnosta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. (~len 2.4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37760" y="718920"/>
            <a:ext cx="741060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Selektiraweto kako „semafor”</a:t>
            </a:r>
            <a:br>
              <a:rPr sz="2800"/>
            </a:br>
            <a:r>
              <a:rPr b="1" lang="cs-CZ" sz="2800" spc="-1" strike="noStrike">
                <a:solidFill>
                  <a:srgbClr val="800000"/>
                </a:solidFill>
                <a:latin typeface="MAC C Swiss"/>
              </a:rPr>
              <a:t>(</a:t>
            </a: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primer za primena na Direktivata za OV@S na EU</a:t>
            </a:r>
            <a:r>
              <a:rPr b="1" lang="cs-CZ" sz="2800" spc="-1" strike="noStrike">
                <a:solidFill>
                  <a:srgbClr val="800000"/>
                </a:solidFill>
                <a:latin typeface="MAC C Swis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28560" y="2355840"/>
            <a:ext cx="2286000" cy="2908440"/>
            <a:chOff x="628560" y="2355840"/>
            <a:chExt cx="2286000" cy="2908440"/>
          </a:xfrm>
        </p:grpSpPr>
        <p:sp>
          <p:nvSpPr>
            <p:cNvPr id="178" name=""/>
            <p:cNvSpPr/>
            <p:nvPr/>
          </p:nvSpPr>
          <p:spPr>
            <a:xfrm>
              <a:off x="628560" y="4299120"/>
              <a:ext cx="2286000" cy="965160"/>
            </a:xfrm>
            <a:prstGeom prst="rect">
              <a:avLst/>
            </a:prstGeom>
            <a:solidFill>
              <a:srgbClr val="66b4a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8560" y="2355840"/>
              <a:ext cx="2286000" cy="977760"/>
            </a:xfrm>
            <a:prstGeom prst="rect">
              <a:avLst/>
            </a:prstGeom>
            <a:solidFill>
              <a:srgbClr val="ff9c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8560" y="3333600"/>
              <a:ext cx="2286000" cy="965520"/>
            </a:xfrm>
            <a:prstGeom prst="rect">
              <a:avLst/>
            </a:prstGeom>
            <a:solidFill>
              <a:srgbClr val="ffec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384720" y="2355840"/>
            <a:ext cx="2298600" cy="2908440"/>
            <a:chOff x="3384720" y="2355840"/>
            <a:chExt cx="2298600" cy="2908440"/>
          </a:xfrm>
        </p:grpSpPr>
        <p:sp>
          <p:nvSpPr>
            <p:cNvPr id="182" name=""/>
            <p:cNvSpPr/>
            <p:nvPr/>
          </p:nvSpPr>
          <p:spPr>
            <a:xfrm>
              <a:off x="3384720" y="4299120"/>
              <a:ext cx="2298600" cy="965160"/>
            </a:xfrm>
            <a:prstGeom prst="rect">
              <a:avLst/>
            </a:prstGeom>
            <a:solidFill>
              <a:srgbClr val="66b4a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384720" y="2355840"/>
              <a:ext cx="2298600" cy="977760"/>
            </a:xfrm>
            <a:prstGeom prst="rect">
              <a:avLst/>
            </a:prstGeom>
            <a:solidFill>
              <a:srgbClr val="ff9c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84720" y="3333600"/>
              <a:ext cx="2298600" cy="965520"/>
            </a:xfrm>
            <a:prstGeom prst="rect">
              <a:avLst/>
            </a:prstGeom>
            <a:solidFill>
              <a:srgbClr val="ffec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6140520" y="2355840"/>
            <a:ext cx="2286000" cy="2908440"/>
            <a:chOff x="6140520" y="2355840"/>
            <a:chExt cx="2286000" cy="2908440"/>
          </a:xfrm>
        </p:grpSpPr>
        <p:sp>
          <p:nvSpPr>
            <p:cNvPr id="186" name=""/>
            <p:cNvSpPr/>
            <p:nvPr/>
          </p:nvSpPr>
          <p:spPr>
            <a:xfrm>
              <a:off x="6140520" y="4299120"/>
              <a:ext cx="2286000" cy="965160"/>
            </a:xfrm>
            <a:prstGeom prst="rect">
              <a:avLst/>
            </a:prstGeom>
            <a:solidFill>
              <a:srgbClr val="66b4a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40520" y="2355840"/>
              <a:ext cx="2286000" cy="977760"/>
            </a:xfrm>
            <a:prstGeom prst="rect">
              <a:avLst/>
            </a:prstGeom>
            <a:solidFill>
              <a:srgbClr val="ff9c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40520" y="3333600"/>
              <a:ext cx="2286000" cy="965520"/>
            </a:xfrm>
            <a:prstGeom prst="rect">
              <a:avLst/>
            </a:prstGeom>
            <a:solidFill>
              <a:srgbClr val="ffec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916200" y="3467160"/>
            <a:ext cx="1369440" cy="547920"/>
            <a:chOff x="916200" y="3467160"/>
            <a:chExt cx="1369440" cy="547920"/>
          </a:xfrm>
        </p:grpSpPr>
        <p:sp>
          <p:nvSpPr>
            <p:cNvPr id="190" name=""/>
            <p:cNvSpPr/>
            <p:nvPr/>
          </p:nvSpPr>
          <p:spPr>
            <a:xfrm>
              <a:off x="916200" y="3467160"/>
              <a:ext cx="13694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ndi</a:t>
              </a:r>
              <a:r>
                <a:rPr b="0" lang="en-US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kativni ili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upatstveni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pragovi i kriterium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251000" y="3645000"/>
              <a:ext cx="144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81120" y="3822840"/>
              <a:ext cx="144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944640" y="2552760"/>
            <a:ext cx="1409040" cy="547920"/>
            <a:chOff x="944640" y="2552760"/>
            <a:chExt cx="1409040" cy="547920"/>
          </a:xfrm>
        </p:grpSpPr>
        <p:sp>
          <p:nvSpPr>
            <p:cNvPr id="194" name=""/>
            <p:cNvSpPr/>
            <p:nvPr/>
          </p:nvSpPr>
          <p:spPr>
            <a:xfrm>
              <a:off x="944640" y="2552760"/>
              <a:ext cx="14090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n</a:t>
              </a:r>
              <a:r>
                <a:rPr b="0" lang="en-US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kluzivni ili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zadol`itelni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pragovi i kriteriumi</a:t>
              </a:r>
              <a:r>
                <a:rPr b="0" lang="en-GB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984600" y="2730600"/>
              <a:ext cx="144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946800" y="4508640"/>
            <a:ext cx="1364760" cy="365400"/>
            <a:chOff x="946800" y="4508640"/>
            <a:chExt cx="1364760" cy="365400"/>
          </a:xfrm>
        </p:grpSpPr>
        <p:sp>
          <p:nvSpPr>
            <p:cNvPr id="197" name=""/>
            <p:cNvSpPr/>
            <p:nvPr/>
          </p:nvSpPr>
          <p:spPr>
            <a:xfrm>
              <a:off x="946800" y="4508640"/>
              <a:ext cx="1364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Ekskluzivni pragov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 kriterium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797120" y="4508640"/>
              <a:ext cx="144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492200" y="4686480"/>
              <a:ext cx="144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994200" y="2629080"/>
            <a:ext cx="828360" cy="365400"/>
            <a:chOff x="3994200" y="2629080"/>
            <a:chExt cx="828360" cy="365400"/>
          </a:xfrm>
        </p:grpSpPr>
        <p:sp>
          <p:nvSpPr>
            <p:cNvPr id="201" name=""/>
            <p:cNvSpPr/>
            <p:nvPr/>
          </p:nvSpPr>
          <p:spPr>
            <a:xfrm>
              <a:off x="3994200" y="2629080"/>
              <a:ext cx="828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Potrebna 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OV@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95520" y="262908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710880" y="3543480"/>
            <a:ext cx="1431720" cy="547920"/>
            <a:chOff x="3710880" y="3543480"/>
            <a:chExt cx="1431720" cy="547920"/>
          </a:xfrm>
        </p:grpSpPr>
        <p:sp>
          <p:nvSpPr>
            <p:cNvPr id="204" name=""/>
            <p:cNvSpPr/>
            <p:nvPr/>
          </p:nvSpPr>
          <p:spPr>
            <a:xfrm>
              <a:off x="3710880" y="3543480"/>
              <a:ext cx="14317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Mora da se razmisli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dali ima potreba o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OV@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50920" y="354348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152960" y="3720960"/>
              <a:ext cx="1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839040" y="4584600"/>
            <a:ext cx="1070640" cy="365400"/>
            <a:chOff x="3839040" y="4584600"/>
            <a:chExt cx="1070640" cy="365400"/>
          </a:xfrm>
        </p:grpSpPr>
        <p:sp>
          <p:nvSpPr>
            <p:cNvPr id="208" name=""/>
            <p:cNvSpPr/>
            <p:nvPr/>
          </p:nvSpPr>
          <p:spPr>
            <a:xfrm>
              <a:off x="3839040" y="4584600"/>
              <a:ext cx="10706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Ne e potrebn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OV@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431600" y="4584600"/>
              <a:ext cx="4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504120" y="2500200"/>
            <a:ext cx="1396800" cy="547920"/>
            <a:chOff x="6504120" y="2500200"/>
            <a:chExt cx="1396800" cy="547920"/>
          </a:xfrm>
        </p:grpSpPr>
        <p:sp>
          <p:nvSpPr>
            <p:cNvPr id="211" name=""/>
            <p:cNvSpPr/>
            <p:nvPr/>
          </p:nvSpPr>
          <p:spPr>
            <a:xfrm>
              <a:off x="6504120" y="2500200"/>
              <a:ext cx="139680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Na pr. proektite o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aneksot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aa direktiv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85000" y="2500200"/>
              <a:ext cx="18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10560" y="2678040"/>
              <a:ext cx="144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243120" y="4317840"/>
            <a:ext cx="2103840" cy="912960"/>
            <a:chOff x="6243120" y="4317840"/>
            <a:chExt cx="2103840" cy="912960"/>
          </a:xfrm>
        </p:grpSpPr>
        <p:sp>
          <p:nvSpPr>
            <p:cNvPr id="215" name=""/>
            <p:cNvSpPr/>
            <p:nvPr/>
          </p:nvSpPr>
          <p:spPr>
            <a:xfrm>
              <a:off x="6243120" y="4317840"/>
              <a:ext cx="210384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Na pr. proekti od aneks 2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za koi se smeta deka nemaa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zna~itelni ekolo{ki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vlijanija + voeni slu~uvaw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sklu~eni od OV@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615000" y="4317840"/>
              <a:ext cx="1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259320" y="4495680"/>
              <a:ext cx="144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310080" y="4673520"/>
              <a:ext cx="144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54600" y="4673520"/>
              <a:ext cx="18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4851360"/>
              <a:ext cx="144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64240" y="5029200"/>
              <a:ext cx="144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6064200" y="3365640"/>
            <a:ext cx="2204280" cy="912960"/>
            <a:chOff x="6064200" y="3365640"/>
            <a:chExt cx="2204280" cy="912960"/>
          </a:xfrm>
        </p:grpSpPr>
        <p:sp>
          <p:nvSpPr>
            <p:cNvPr id="223" name=""/>
            <p:cNvSpPr/>
            <p:nvPr/>
          </p:nvSpPr>
          <p:spPr>
            <a:xfrm>
              <a:off x="6306480" y="3365640"/>
              <a:ext cx="196200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Na proektite od aneks 2,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osven isklu~enite, mora d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m se napravi skrinin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vizavi kriteriumi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na aneks 3 </a:t>
              </a:r>
              <a:r>
                <a:rPr b="0" lang="en-GB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66400" y="3365640"/>
              <a:ext cx="1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064200" y="3553200"/>
              <a:ext cx="1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383880" y="3739680"/>
              <a:ext cx="10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18080" y="3929040"/>
              <a:ext cx="1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865680" y="1727280"/>
            <a:ext cx="2306520" cy="7239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873760" y="2247840"/>
            <a:ext cx="907560" cy="177840"/>
            <a:chOff x="5873760" y="2247840"/>
            <a:chExt cx="907560" cy="177840"/>
          </a:xfrm>
        </p:grpSpPr>
        <p:sp>
          <p:nvSpPr>
            <p:cNvPr id="230" name=""/>
            <p:cNvSpPr/>
            <p:nvPr/>
          </p:nvSpPr>
          <p:spPr>
            <a:xfrm>
              <a:off x="6505920" y="2247840"/>
              <a:ext cx="275400" cy="177840"/>
            </a:xfrm>
            <a:custGeom>
              <a:avLst/>
              <a:gdLst/>
              <a:ahLst/>
              <a:rect l="l" t="t" r="r" b="b"/>
              <a:pathLst>
                <a:path w="136" h="112">
                  <a:moveTo>
                    <a:pt x="0" y="56"/>
                  </a:moveTo>
                  <a:lnTo>
                    <a:pt x="0" y="56"/>
                  </a:lnTo>
                  <a:lnTo>
                    <a:pt x="0" y="0"/>
                  </a:lnTo>
                  <a:lnTo>
                    <a:pt x="136" y="56"/>
                  </a:lnTo>
                  <a:lnTo>
                    <a:pt x="0" y="112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873760" y="2349360"/>
              <a:ext cx="664200" cy="1800"/>
            </a:xfrm>
            <a:prstGeom prst="line">
              <a:avLst/>
            </a:prstGeom>
            <a:ln w="50760">
              <a:solidFill>
                <a:srgbClr val="005e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5873760" y="1816200"/>
            <a:ext cx="907560" cy="177840"/>
            <a:chOff x="5873760" y="1816200"/>
            <a:chExt cx="907560" cy="177840"/>
          </a:xfrm>
        </p:grpSpPr>
        <p:sp>
          <p:nvSpPr>
            <p:cNvPr id="233" name=""/>
            <p:cNvSpPr/>
            <p:nvPr/>
          </p:nvSpPr>
          <p:spPr>
            <a:xfrm>
              <a:off x="6501240" y="1816200"/>
              <a:ext cx="280080" cy="177840"/>
            </a:xfrm>
            <a:custGeom>
              <a:avLst/>
              <a:gdLst/>
              <a:ahLst/>
              <a:rect l="l" t="t" r="r" b="b"/>
              <a:pathLst>
                <a:path w="136" h="112">
                  <a:moveTo>
                    <a:pt x="0" y="56"/>
                  </a:moveTo>
                  <a:lnTo>
                    <a:pt x="0" y="56"/>
                  </a:lnTo>
                  <a:lnTo>
                    <a:pt x="0" y="0"/>
                  </a:lnTo>
                  <a:lnTo>
                    <a:pt x="136" y="56"/>
                  </a:lnTo>
                  <a:lnTo>
                    <a:pt x="0" y="112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873760" y="1917720"/>
              <a:ext cx="660240" cy="1440"/>
            </a:xfrm>
            <a:prstGeom prst="line">
              <a:avLst/>
            </a:prstGeom>
            <a:ln w="50760">
              <a:solidFill>
                <a:srgbClr val="005e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37760" y="7174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0000"/>
                </a:solidFill>
                <a:latin typeface="MAC C Swiss"/>
              </a:rPr>
              <a:t>S</a:t>
            </a:r>
            <a:r>
              <a:rPr b="0" lang="en-US" sz="2800" spc="-1" strike="noStrike">
                <a:solidFill>
                  <a:srgbClr val="800000"/>
                </a:solidFill>
                <a:latin typeface="MAC C Swiss"/>
              </a:rPr>
              <a:t>elektiraweto vo soglasnost so preporakite na EU za selektirawe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6" name=""/>
          <p:cNvSpPr/>
          <p:nvPr/>
        </p:nvSpPr>
        <p:spPr>
          <a:xfrm>
            <a:off x="3844800" y="1708200"/>
            <a:ext cx="2251080" cy="711000"/>
          </a:xfrm>
          <a:prstGeom prst="rect">
            <a:avLst/>
          </a:prstGeom>
          <a:solidFill>
            <a:srgbClr val="dee4e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69000" y="1790640"/>
            <a:ext cx="19332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Dali proektot bi mo`el d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ima zna~itelni posledici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vrz mesto od </a:t>
            </a:r>
            <a:r>
              <a:rPr b="0" lang="en-GB" sz="12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Natura 200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54720" y="195588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804080" y="2171880"/>
            <a:ext cx="1079640" cy="40608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797960" y="2165400"/>
            <a:ext cx="1066680" cy="380880"/>
          </a:xfrm>
          <a:prstGeom prst="rect">
            <a:avLst/>
          </a:prstGeom>
          <a:solidFill>
            <a:srgbClr val="dee4e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785000" y="1689120"/>
            <a:ext cx="1079640" cy="406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78880" y="1682640"/>
            <a:ext cx="1066680" cy="393840"/>
          </a:xfrm>
          <a:prstGeom prst="rect">
            <a:avLst/>
          </a:prstGeom>
          <a:solidFill>
            <a:srgbClr val="dee4e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04080" y="2844720"/>
            <a:ext cx="1079640" cy="406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797960" y="2838600"/>
            <a:ext cx="1066680" cy="380880"/>
          </a:xfrm>
          <a:prstGeom prst="rect">
            <a:avLst/>
          </a:prstGeom>
          <a:solidFill>
            <a:srgbClr val="dee4e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04080" y="3835440"/>
            <a:ext cx="1079640" cy="406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97960" y="3816360"/>
            <a:ext cx="1066680" cy="393840"/>
          </a:xfrm>
          <a:prstGeom prst="rect">
            <a:avLst/>
          </a:prstGeom>
          <a:solidFill>
            <a:srgbClr val="dee4e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797960" y="4743360"/>
            <a:ext cx="1085760" cy="425520"/>
            <a:chOff x="7797960" y="4743360"/>
            <a:chExt cx="1085760" cy="425520"/>
          </a:xfrm>
        </p:grpSpPr>
        <p:sp>
          <p:nvSpPr>
            <p:cNvPr id="248" name=""/>
            <p:cNvSpPr/>
            <p:nvPr/>
          </p:nvSpPr>
          <p:spPr>
            <a:xfrm>
              <a:off x="7804080" y="4762440"/>
              <a:ext cx="1079640" cy="4064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97960" y="4743360"/>
              <a:ext cx="1066680" cy="393840"/>
            </a:xfrm>
            <a:prstGeom prst="rect">
              <a:avLst/>
            </a:prstGeom>
            <a:solidFill>
              <a:srgbClr val="dee4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7905600" y="4756320"/>
            <a:ext cx="846360" cy="365400"/>
            <a:chOff x="7905600" y="4756320"/>
            <a:chExt cx="846360" cy="365400"/>
          </a:xfrm>
        </p:grpSpPr>
        <p:sp>
          <p:nvSpPr>
            <p:cNvPr id="251" name=""/>
            <p:cNvSpPr/>
            <p:nvPr/>
          </p:nvSpPr>
          <p:spPr>
            <a:xfrm>
              <a:off x="7961760" y="4756320"/>
              <a:ext cx="790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OV@S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e potreb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05600" y="493416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7797960" y="5175360"/>
            <a:ext cx="1085760" cy="412560"/>
            <a:chOff x="7797960" y="5175360"/>
            <a:chExt cx="1085760" cy="412560"/>
          </a:xfrm>
        </p:grpSpPr>
        <p:sp>
          <p:nvSpPr>
            <p:cNvPr id="254" name=""/>
            <p:cNvSpPr/>
            <p:nvPr/>
          </p:nvSpPr>
          <p:spPr>
            <a:xfrm>
              <a:off x="7804080" y="5181480"/>
              <a:ext cx="1079640" cy="4064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797960" y="5175360"/>
              <a:ext cx="1066680" cy="393480"/>
            </a:xfrm>
            <a:prstGeom prst="rect">
              <a:avLst/>
            </a:prstGeom>
            <a:solidFill>
              <a:srgbClr val="dee4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7826760" y="5181480"/>
            <a:ext cx="1009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V@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ne e potreb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79880" y="5549760"/>
            <a:ext cx="4287600" cy="27972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819520" y="5543640"/>
            <a:ext cx="4572000" cy="266760"/>
          </a:xfrm>
          <a:prstGeom prst="rect">
            <a:avLst/>
          </a:prstGeom>
          <a:solidFill>
            <a:srgbClr val="dee4e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82520" y="5575320"/>
            <a:ext cx="846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364"/>
                </a:solidFill>
                <a:latin typeface="MAC C Swiss"/>
                <a:ea typeface="Times New Roman"/>
              </a:rPr>
              <a:t>^EKOR  </a:t>
            </a:r>
            <a:r>
              <a:rPr b="0" lang="en-US" sz="1400" spc="-1" strike="noStrike">
                <a:solidFill>
                  <a:srgbClr val="008364"/>
                </a:solidFill>
                <a:latin typeface="MAC C Swiss"/>
                <a:ea typeface="Times New Roman"/>
              </a:rPr>
              <a:t>5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948480" y="5575320"/>
            <a:ext cx="316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Evidentirawe na odlukata od selektiraw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417600" y="2679840"/>
            <a:ext cx="3130560" cy="768240"/>
            <a:chOff x="417600" y="2679840"/>
            <a:chExt cx="3130560" cy="768240"/>
          </a:xfrm>
        </p:grpSpPr>
        <p:sp>
          <p:nvSpPr>
            <p:cNvPr id="262" name=""/>
            <p:cNvSpPr/>
            <p:nvPr/>
          </p:nvSpPr>
          <p:spPr>
            <a:xfrm>
              <a:off x="449280" y="2711520"/>
              <a:ext cx="3098880" cy="7365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7600" y="2679840"/>
              <a:ext cx="3085920" cy="723960"/>
            </a:xfrm>
            <a:prstGeom prst="rect">
              <a:avLst/>
            </a:prstGeom>
            <a:solidFill>
              <a:srgbClr val="dee4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461880" y="2743200"/>
            <a:ext cx="3036240" cy="543240"/>
            <a:chOff x="461880" y="2743200"/>
            <a:chExt cx="3036240" cy="543240"/>
          </a:xfrm>
        </p:grpSpPr>
        <p:sp>
          <p:nvSpPr>
            <p:cNvPr id="265" name=""/>
            <p:cNvSpPr/>
            <p:nvPr/>
          </p:nvSpPr>
          <p:spPr>
            <a:xfrm>
              <a:off x="489960" y="2743200"/>
              <a:ext cx="755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8364"/>
                  </a:solidFill>
                  <a:latin typeface="MAC C Swiss"/>
                  <a:ea typeface="Times New Roman"/>
                </a:rPr>
                <a:t>^EKOR</a:t>
              </a:r>
              <a:r>
                <a:rPr b="0" lang="en-US" sz="1400" spc="-1" strike="noStrike">
                  <a:solidFill>
                    <a:srgbClr val="008364"/>
                  </a:solidFill>
                  <a:latin typeface="MAC C Swiss"/>
                  <a:ea typeface="Times New Roman"/>
                </a:rPr>
                <a:t> 2</a:t>
              </a:r>
              <a:r>
                <a:rPr b="0" lang="en-GB" sz="1400" spc="-1" strike="noStrike">
                  <a:solidFill>
                    <a:srgbClr val="008364"/>
                  </a:solidFill>
                  <a:latin typeface="MAC C Swiss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922320" y="274320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8364"/>
                  </a:solidFill>
                  <a:latin typeface="MAC C Swiss"/>
                  <a:ea typeface="Times New Roman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81320" y="2921040"/>
              <a:ext cx="30168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Dali e proektot na zadol`itelna lista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spored zakonodavstvoto na zemjta ~lenk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1880" y="309888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417600" y="3664080"/>
            <a:ext cx="3130560" cy="768240"/>
            <a:chOff x="417600" y="3664080"/>
            <a:chExt cx="3130560" cy="768240"/>
          </a:xfrm>
        </p:grpSpPr>
        <p:sp>
          <p:nvSpPr>
            <p:cNvPr id="270" name=""/>
            <p:cNvSpPr/>
            <p:nvPr/>
          </p:nvSpPr>
          <p:spPr>
            <a:xfrm>
              <a:off x="449280" y="3695760"/>
              <a:ext cx="3098880" cy="7365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7600" y="3664080"/>
              <a:ext cx="3085920" cy="723600"/>
            </a:xfrm>
            <a:prstGeom prst="rect">
              <a:avLst/>
            </a:prstGeom>
            <a:solidFill>
              <a:srgbClr val="dee4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61880" y="3746520"/>
            <a:ext cx="2684880" cy="542880"/>
            <a:chOff x="461880" y="3746520"/>
            <a:chExt cx="2684880" cy="542880"/>
          </a:xfrm>
        </p:grpSpPr>
        <p:sp>
          <p:nvSpPr>
            <p:cNvPr id="273" name=""/>
            <p:cNvSpPr/>
            <p:nvPr/>
          </p:nvSpPr>
          <p:spPr>
            <a:xfrm>
              <a:off x="488160" y="3746520"/>
              <a:ext cx="709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8364"/>
                  </a:solidFill>
                  <a:latin typeface="MAC C Swiss"/>
                  <a:ea typeface="Times New Roman"/>
                </a:rPr>
                <a:t>^EKOR </a:t>
              </a:r>
              <a:r>
                <a:rPr b="0" lang="en-US" sz="1400" spc="-1" strike="noStrike">
                  <a:solidFill>
                    <a:srgbClr val="008364"/>
                  </a:solidFill>
                  <a:latin typeface="MAC C Swiss"/>
                  <a:ea typeface="Times New Roman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922320" y="3746520"/>
              <a:ext cx="92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8364"/>
                  </a:solidFill>
                  <a:latin typeface="MAC C Swiss"/>
                  <a:ea typeface="Times New Roman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32880" y="3924000"/>
              <a:ext cx="25138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Dali e proektot na ekskluzivna lis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Koja go osloboduva od</a:t>
              </a:r>
              <a:r>
                <a:rPr b="0" lang="en-GB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OV@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1880" y="4101840"/>
              <a:ext cx="180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449280" y="4711680"/>
            <a:ext cx="3162240" cy="7491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17600" y="4692600"/>
            <a:ext cx="3149640" cy="723960"/>
          </a:xfrm>
          <a:prstGeom prst="rect">
            <a:avLst/>
          </a:prstGeom>
          <a:solidFill>
            <a:srgbClr val="dee4e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9960" y="4711680"/>
            <a:ext cx="755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8364"/>
                </a:solidFill>
                <a:latin typeface="MAC C Swiss"/>
                <a:ea typeface="Times New Roman"/>
              </a:rPr>
              <a:t>^EKOR</a:t>
            </a:r>
            <a:r>
              <a:rPr b="0" lang="en-US" sz="1400" spc="-1" strike="noStrike">
                <a:solidFill>
                  <a:srgbClr val="008364"/>
                </a:solidFill>
                <a:latin typeface="MAC C Swiss"/>
                <a:ea typeface="Times New Roman"/>
              </a:rPr>
              <a:t> 4</a:t>
            </a:r>
            <a:r>
              <a:rPr b="0" lang="en-GB" sz="1400" spc="-1" strike="noStrike">
                <a:solidFill>
                  <a:srgbClr val="008364"/>
                </a:solidFill>
                <a:latin typeface="MAC C Swiss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81400" y="4863960"/>
            <a:ext cx="24408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Razgleduvawe od slu~aj do slu~aj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Dali proektot bi mo`el da ostvari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zna~ajni posledici vrz `iv.sred.</a:t>
            </a:r>
            <a:r>
              <a:rPr b="0" lang="en-GB" sz="12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1880" y="521964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17600" y="1695600"/>
            <a:ext cx="1619280" cy="768240"/>
            <a:chOff x="417600" y="1695600"/>
            <a:chExt cx="1619280" cy="768240"/>
          </a:xfrm>
        </p:grpSpPr>
        <p:sp>
          <p:nvSpPr>
            <p:cNvPr id="283" name=""/>
            <p:cNvSpPr/>
            <p:nvPr/>
          </p:nvSpPr>
          <p:spPr>
            <a:xfrm>
              <a:off x="436680" y="1727280"/>
              <a:ext cx="1600200" cy="7365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7600" y="1695600"/>
              <a:ext cx="1600200" cy="723600"/>
            </a:xfrm>
            <a:prstGeom prst="rect">
              <a:avLst/>
            </a:prstGeom>
            <a:solidFill>
              <a:srgbClr val="dee4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483480" y="1692360"/>
            <a:ext cx="709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364"/>
                </a:solidFill>
                <a:latin typeface="MAC C Swiss"/>
                <a:ea typeface="Times New Roman"/>
              </a:rPr>
              <a:t>^EKO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52880" y="1854360"/>
            <a:ext cx="147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Dali e proekto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naveden vo anekso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1 ili 2</a:t>
            </a:r>
            <a:r>
              <a:rPr b="0" lang="en-GB" sz="14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2023920" y="1981080"/>
            <a:ext cx="825480" cy="177840"/>
            <a:chOff x="2023920" y="1981080"/>
            <a:chExt cx="825480" cy="177840"/>
          </a:xfrm>
        </p:grpSpPr>
        <p:sp>
          <p:nvSpPr>
            <p:cNvPr id="288" name=""/>
            <p:cNvSpPr/>
            <p:nvPr/>
          </p:nvSpPr>
          <p:spPr>
            <a:xfrm>
              <a:off x="2633760" y="1981080"/>
              <a:ext cx="215640" cy="177840"/>
            </a:xfrm>
            <a:custGeom>
              <a:avLst/>
              <a:gdLst/>
              <a:ahLst/>
              <a:rect l="l" t="t" r="r" b="b"/>
              <a:pathLst>
                <a:path w="136" h="112">
                  <a:moveTo>
                    <a:pt x="0" y="56"/>
                  </a:moveTo>
                  <a:lnTo>
                    <a:pt x="0" y="56"/>
                  </a:lnTo>
                  <a:lnTo>
                    <a:pt x="0" y="0"/>
                  </a:lnTo>
                  <a:lnTo>
                    <a:pt x="136" y="56"/>
                  </a:lnTo>
                  <a:lnTo>
                    <a:pt x="0" y="112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023920" y="2082960"/>
              <a:ext cx="635040" cy="1440"/>
            </a:xfrm>
            <a:prstGeom prst="line">
              <a:avLst/>
            </a:prstGeom>
            <a:ln w="50760">
              <a:solidFill>
                <a:srgbClr val="005e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3141720" y="1981080"/>
            <a:ext cx="698400" cy="177840"/>
            <a:chOff x="3141720" y="1981080"/>
            <a:chExt cx="698400" cy="177840"/>
          </a:xfrm>
        </p:grpSpPr>
        <p:sp>
          <p:nvSpPr>
            <p:cNvPr id="291" name=""/>
            <p:cNvSpPr/>
            <p:nvPr/>
          </p:nvSpPr>
          <p:spPr>
            <a:xfrm>
              <a:off x="3611520" y="1981080"/>
              <a:ext cx="228600" cy="177840"/>
            </a:xfrm>
            <a:custGeom>
              <a:avLst/>
              <a:gdLst/>
              <a:ahLst/>
              <a:rect l="l" t="t" r="r" b="b"/>
              <a:pathLst>
                <a:path w="144" h="112">
                  <a:moveTo>
                    <a:pt x="0" y="56"/>
                  </a:moveTo>
                  <a:lnTo>
                    <a:pt x="0" y="56"/>
                  </a:lnTo>
                  <a:lnTo>
                    <a:pt x="0" y="0"/>
                  </a:lnTo>
                  <a:lnTo>
                    <a:pt x="144" y="56"/>
                  </a:lnTo>
                  <a:lnTo>
                    <a:pt x="0" y="112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141720" y="2082960"/>
              <a:ext cx="507960" cy="1440"/>
            </a:xfrm>
            <a:prstGeom prst="line">
              <a:avLst/>
            </a:prstGeom>
            <a:ln w="50760">
              <a:solidFill>
                <a:srgbClr val="005e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858400" y="1943280"/>
            <a:ext cx="28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e</a:t>
            </a:r>
            <a:r>
              <a:rPr b="0" lang="en-GB" sz="14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851520" y="2209680"/>
            <a:ext cx="230760" cy="213480"/>
            <a:chOff x="6851520" y="2209680"/>
            <a:chExt cx="230760" cy="213480"/>
          </a:xfrm>
        </p:grpSpPr>
        <p:sp>
          <p:nvSpPr>
            <p:cNvPr id="295" name=""/>
            <p:cNvSpPr/>
            <p:nvPr/>
          </p:nvSpPr>
          <p:spPr>
            <a:xfrm>
              <a:off x="6851520" y="2209680"/>
              <a:ext cx="23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960600" y="220968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840360" y="1778040"/>
            <a:ext cx="23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7162920" y="2247840"/>
            <a:ext cx="590040" cy="177840"/>
            <a:chOff x="7162920" y="2247840"/>
            <a:chExt cx="590040" cy="177840"/>
          </a:xfrm>
        </p:grpSpPr>
        <p:sp>
          <p:nvSpPr>
            <p:cNvPr id="299" name=""/>
            <p:cNvSpPr/>
            <p:nvPr/>
          </p:nvSpPr>
          <p:spPr>
            <a:xfrm>
              <a:off x="7570440" y="2247840"/>
              <a:ext cx="182520" cy="177840"/>
            </a:xfrm>
            <a:custGeom>
              <a:avLst/>
              <a:gdLst/>
              <a:ahLst/>
              <a:rect l="l" t="t" r="r" b="b"/>
              <a:pathLst>
                <a:path w="136" h="112">
                  <a:moveTo>
                    <a:pt x="0" y="56"/>
                  </a:moveTo>
                  <a:lnTo>
                    <a:pt x="0" y="56"/>
                  </a:lnTo>
                  <a:lnTo>
                    <a:pt x="0" y="0"/>
                  </a:lnTo>
                  <a:lnTo>
                    <a:pt x="136" y="56"/>
                  </a:lnTo>
                  <a:lnTo>
                    <a:pt x="0" y="112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162920" y="2349360"/>
              <a:ext cx="429120" cy="1800"/>
            </a:xfrm>
            <a:prstGeom prst="line">
              <a:avLst/>
            </a:prstGeom>
            <a:ln w="50760">
              <a:solidFill>
                <a:srgbClr val="005e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7162920" y="1816200"/>
            <a:ext cx="602640" cy="177840"/>
            <a:chOff x="7162920" y="1816200"/>
            <a:chExt cx="602640" cy="177840"/>
          </a:xfrm>
        </p:grpSpPr>
        <p:sp>
          <p:nvSpPr>
            <p:cNvPr id="302" name=""/>
            <p:cNvSpPr/>
            <p:nvPr/>
          </p:nvSpPr>
          <p:spPr>
            <a:xfrm>
              <a:off x="7571880" y="1816200"/>
              <a:ext cx="193680" cy="177840"/>
            </a:xfrm>
            <a:custGeom>
              <a:avLst/>
              <a:gdLst/>
              <a:ahLst/>
              <a:rect l="l" t="t" r="r" b="b"/>
              <a:pathLst>
                <a:path w="144" h="112">
                  <a:moveTo>
                    <a:pt x="0" y="56"/>
                  </a:moveTo>
                  <a:lnTo>
                    <a:pt x="0" y="56"/>
                  </a:lnTo>
                  <a:lnTo>
                    <a:pt x="0" y="0"/>
                  </a:lnTo>
                  <a:lnTo>
                    <a:pt x="144" y="56"/>
                  </a:lnTo>
                  <a:lnTo>
                    <a:pt x="0" y="112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62920" y="1917720"/>
              <a:ext cx="430560" cy="1440"/>
            </a:xfrm>
            <a:prstGeom prst="line">
              <a:avLst/>
            </a:prstGeom>
            <a:ln w="50760">
              <a:solidFill>
                <a:srgbClr val="005e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3522600" y="2946240"/>
            <a:ext cx="3258720" cy="177840"/>
            <a:chOff x="3522600" y="2946240"/>
            <a:chExt cx="3258720" cy="177840"/>
          </a:xfrm>
        </p:grpSpPr>
        <p:sp>
          <p:nvSpPr>
            <p:cNvPr id="305" name=""/>
            <p:cNvSpPr/>
            <p:nvPr/>
          </p:nvSpPr>
          <p:spPr>
            <a:xfrm>
              <a:off x="6549840" y="2946240"/>
              <a:ext cx="231480" cy="177840"/>
            </a:xfrm>
            <a:custGeom>
              <a:avLst/>
              <a:gdLst/>
              <a:ahLst/>
              <a:rect l="l" t="t" r="r" b="b"/>
              <a:pathLst>
                <a:path w="144" h="112">
                  <a:moveTo>
                    <a:pt x="0" y="56"/>
                  </a:moveTo>
                  <a:lnTo>
                    <a:pt x="0" y="56"/>
                  </a:lnTo>
                  <a:lnTo>
                    <a:pt x="0" y="0"/>
                  </a:lnTo>
                  <a:lnTo>
                    <a:pt x="144" y="56"/>
                  </a:lnTo>
                  <a:lnTo>
                    <a:pt x="0" y="112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522600" y="3048120"/>
              <a:ext cx="3065760" cy="1440"/>
            </a:xfrm>
            <a:prstGeom prst="line">
              <a:avLst/>
            </a:prstGeom>
            <a:ln w="50760">
              <a:solidFill>
                <a:srgbClr val="005e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7162920" y="2933640"/>
            <a:ext cx="615600" cy="177840"/>
            <a:chOff x="7162920" y="2933640"/>
            <a:chExt cx="615600" cy="177840"/>
          </a:xfrm>
        </p:grpSpPr>
        <p:sp>
          <p:nvSpPr>
            <p:cNvPr id="308" name=""/>
            <p:cNvSpPr/>
            <p:nvPr/>
          </p:nvSpPr>
          <p:spPr>
            <a:xfrm>
              <a:off x="7580880" y="2933640"/>
              <a:ext cx="197640" cy="177840"/>
            </a:xfrm>
            <a:custGeom>
              <a:avLst/>
              <a:gdLst/>
              <a:ahLst/>
              <a:rect l="l" t="t" r="r" b="b"/>
              <a:pathLst>
                <a:path w="144" h="112">
                  <a:moveTo>
                    <a:pt x="0" y="56"/>
                  </a:moveTo>
                  <a:lnTo>
                    <a:pt x="0" y="56"/>
                  </a:lnTo>
                  <a:lnTo>
                    <a:pt x="0" y="0"/>
                  </a:lnTo>
                  <a:lnTo>
                    <a:pt x="144" y="56"/>
                  </a:lnTo>
                  <a:lnTo>
                    <a:pt x="0" y="112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62920" y="3048120"/>
              <a:ext cx="439560" cy="1440"/>
            </a:xfrm>
            <a:prstGeom prst="line">
              <a:avLst/>
            </a:prstGeom>
            <a:ln w="50760">
              <a:solidFill>
                <a:srgbClr val="005e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737400" y="2895480"/>
            <a:ext cx="325800" cy="274320"/>
            <a:chOff x="6737400" y="2895480"/>
            <a:chExt cx="325800" cy="274320"/>
          </a:xfrm>
        </p:grpSpPr>
        <p:sp>
          <p:nvSpPr>
            <p:cNvPr id="311" name=""/>
            <p:cNvSpPr/>
            <p:nvPr/>
          </p:nvSpPr>
          <p:spPr>
            <a:xfrm>
              <a:off x="6737400" y="289548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32440" y="2895480"/>
              <a:ext cx="23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3510000" y="3911760"/>
            <a:ext cx="3271320" cy="177480"/>
            <a:chOff x="3510000" y="3911760"/>
            <a:chExt cx="3271320" cy="177480"/>
          </a:xfrm>
        </p:grpSpPr>
        <p:sp>
          <p:nvSpPr>
            <p:cNvPr id="314" name=""/>
            <p:cNvSpPr/>
            <p:nvPr/>
          </p:nvSpPr>
          <p:spPr>
            <a:xfrm>
              <a:off x="6561720" y="3911760"/>
              <a:ext cx="219600" cy="177480"/>
            </a:xfrm>
            <a:custGeom>
              <a:avLst/>
              <a:gdLst/>
              <a:ahLst/>
              <a:rect l="l" t="t" r="r" b="b"/>
              <a:pathLst>
                <a:path w="136" h="112">
                  <a:moveTo>
                    <a:pt x="0" y="56"/>
                  </a:moveTo>
                  <a:lnTo>
                    <a:pt x="0" y="56"/>
                  </a:lnTo>
                  <a:lnTo>
                    <a:pt x="0" y="0"/>
                  </a:lnTo>
                  <a:lnTo>
                    <a:pt x="136" y="56"/>
                  </a:lnTo>
                  <a:lnTo>
                    <a:pt x="0" y="112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510000" y="4013280"/>
              <a:ext cx="3077280" cy="1440"/>
            </a:xfrm>
            <a:prstGeom prst="line">
              <a:avLst/>
            </a:prstGeom>
            <a:ln w="50760">
              <a:solidFill>
                <a:srgbClr val="005e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7162920" y="3911760"/>
            <a:ext cx="590040" cy="177480"/>
            <a:chOff x="7162920" y="3911760"/>
            <a:chExt cx="590040" cy="177480"/>
          </a:xfrm>
        </p:grpSpPr>
        <p:sp>
          <p:nvSpPr>
            <p:cNvPr id="317" name=""/>
            <p:cNvSpPr/>
            <p:nvPr/>
          </p:nvSpPr>
          <p:spPr>
            <a:xfrm>
              <a:off x="7563240" y="3911760"/>
              <a:ext cx="189720" cy="177480"/>
            </a:xfrm>
            <a:custGeom>
              <a:avLst/>
              <a:gdLst/>
              <a:ahLst/>
              <a:rect l="l" t="t" r="r" b="b"/>
              <a:pathLst>
                <a:path w="144" h="112">
                  <a:moveTo>
                    <a:pt x="0" y="56"/>
                  </a:moveTo>
                  <a:lnTo>
                    <a:pt x="0" y="56"/>
                  </a:lnTo>
                  <a:lnTo>
                    <a:pt x="0" y="0"/>
                  </a:lnTo>
                  <a:lnTo>
                    <a:pt x="144" y="56"/>
                  </a:lnTo>
                  <a:lnTo>
                    <a:pt x="0" y="112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162920" y="4013280"/>
              <a:ext cx="421560" cy="1440"/>
            </a:xfrm>
            <a:prstGeom prst="line">
              <a:avLst/>
            </a:prstGeom>
            <a:ln w="50760">
              <a:solidFill>
                <a:srgbClr val="005e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6750000" y="3886200"/>
            <a:ext cx="325800" cy="274680"/>
            <a:chOff x="6750000" y="3886200"/>
            <a:chExt cx="325800" cy="274680"/>
          </a:xfrm>
        </p:grpSpPr>
        <p:sp>
          <p:nvSpPr>
            <p:cNvPr id="320" name=""/>
            <p:cNvSpPr/>
            <p:nvPr/>
          </p:nvSpPr>
          <p:spPr>
            <a:xfrm>
              <a:off x="6750000" y="388620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845040" y="3886200"/>
              <a:ext cx="23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3573360" y="4813200"/>
            <a:ext cx="3227400" cy="177840"/>
            <a:chOff x="3573360" y="4813200"/>
            <a:chExt cx="3227400" cy="177840"/>
          </a:xfrm>
        </p:grpSpPr>
        <p:sp>
          <p:nvSpPr>
            <p:cNvPr id="323" name=""/>
            <p:cNvSpPr/>
            <p:nvPr/>
          </p:nvSpPr>
          <p:spPr>
            <a:xfrm>
              <a:off x="6572160" y="4813200"/>
              <a:ext cx="228600" cy="177840"/>
            </a:xfrm>
            <a:custGeom>
              <a:avLst/>
              <a:gdLst/>
              <a:ahLst/>
              <a:rect l="l" t="t" r="r" b="b"/>
              <a:pathLst>
                <a:path w="144" h="112">
                  <a:moveTo>
                    <a:pt x="0" y="56"/>
                  </a:moveTo>
                  <a:lnTo>
                    <a:pt x="0" y="56"/>
                  </a:lnTo>
                  <a:lnTo>
                    <a:pt x="0" y="0"/>
                  </a:lnTo>
                  <a:lnTo>
                    <a:pt x="144" y="56"/>
                  </a:lnTo>
                  <a:lnTo>
                    <a:pt x="0" y="112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573360" y="4915080"/>
              <a:ext cx="3024360" cy="1440"/>
            </a:xfrm>
            <a:prstGeom prst="line">
              <a:avLst/>
            </a:prstGeom>
            <a:ln w="50760">
              <a:solidFill>
                <a:srgbClr val="005e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169040" y="4813200"/>
            <a:ext cx="584280" cy="177840"/>
            <a:chOff x="7169040" y="4813200"/>
            <a:chExt cx="584280" cy="177840"/>
          </a:xfrm>
        </p:grpSpPr>
        <p:sp>
          <p:nvSpPr>
            <p:cNvPr id="326" name=""/>
            <p:cNvSpPr/>
            <p:nvPr/>
          </p:nvSpPr>
          <p:spPr>
            <a:xfrm>
              <a:off x="7537320" y="4813200"/>
              <a:ext cx="216000" cy="177840"/>
            </a:xfrm>
            <a:custGeom>
              <a:avLst/>
              <a:gdLst/>
              <a:ahLst/>
              <a:rect l="l" t="t" r="r" b="b"/>
              <a:pathLst>
                <a:path w="136" h="112">
                  <a:moveTo>
                    <a:pt x="0" y="56"/>
                  </a:moveTo>
                  <a:lnTo>
                    <a:pt x="0" y="56"/>
                  </a:lnTo>
                  <a:lnTo>
                    <a:pt x="0" y="0"/>
                  </a:lnTo>
                  <a:lnTo>
                    <a:pt x="136" y="56"/>
                  </a:lnTo>
                  <a:lnTo>
                    <a:pt x="0" y="112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169040" y="4915080"/>
              <a:ext cx="393480" cy="1440"/>
            </a:xfrm>
            <a:prstGeom prst="line">
              <a:avLst/>
            </a:prstGeom>
            <a:ln w="50760">
              <a:solidFill>
                <a:srgbClr val="005e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851520" y="4800600"/>
            <a:ext cx="230760" cy="213480"/>
            <a:chOff x="6851520" y="4800600"/>
            <a:chExt cx="230760" cy="213480"/>
          </a:xfrm>
        </p:grpSpPr>
        <p:sp>
          <p:nvSpPr>
            <p:cNvPr id="329" name=""/>
            <p:cNvSpPr/>
            <p:nvPr/>
          </p:nvSpPr>
          <p:spPr>
            <a:xfrm>
              <a:off x="6851520" y="4800600"/>
              <a:ext cx="23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960960" y="480060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3573360" y="5245200"/>
            <a:ext cx="3227400" cy="177840"/>
            <a:chOff x="3573360" y="5245200"/>
            <a:chExt cx="3227400" cy="177840"/>
          </a:xfrm>
        </p:grpSpPr>
        <p:sp>
          <p:nvSpPr>
            <p:cNvPr id="332" name=""/>
            <p:cNvSpPr/>
            <p:nvPr/>
          </p:nvSpPr>
          <p:spPr>
            <a:xfrm>
              <a:off x="6572160" y="5245200"/>
              <a:ext cx="228600" cy="177840"/>
            </a:xfrm>
            <a:custGeom>
              <a:avLst/>
              <a:gdLst/>
              <a:ahLst/>
              <a:rect l="l" t="t" r="r" b="b"/>
              <a:pathLst>
                <a:path w="144" h="112">
                  <a:moveTo>
                    <a:pt x="0" y="56"/>
                  </a:moveTo>
                  <a:lnTo>
                    <a:pt x="0" y="56"/>
                  </a:lnTo>
                  <a:lnTo>
                    <a:pt x="0" y="0"/>
                  </a:lnTo>
                  <a:lnTo>
                    <a:pt x="144" y="56"/>
                  </a:lnTo>
                  <a:lnTo>
                    <a:pt x="0" y="112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573360" y="5346720"/>
              <a:ext cx="3036960" cy="1440"/>
            </a:xfrm>
            <a:prstGeom prst="line">
              <a:avLst/>
            </a:prstGeom>
            <a:ln w="50760">
              <a:solidFill>
                <a:srgbClr val="005e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7182000" y="5245200"/>
            <a:ext cx="596880" cy="177840"/>
            <a:chOff x="7182000" y="5245200"/>
            <a:chExt cx="596880" cy="177840"/>
          </a:xfrm>
        </p:grpSpPr>
        <p:sp>
          <p:nvSpPr>
            <p:cNvPr id="335" name=""/>
            <p:cNvSpPr/>
            <p:nvPr/>
          </p:nvSpPr>
          <p:spPr>
            <a:xfrm>
              <a:off x="7550280" y="5245200"/>
              <a:ext cx="228600" cy="177840"/>
            </a:xfrm>
            <a:custGeom>
              <a:avLst/>
              <a:gdLst/>
              <a:ahLst/>
              <a:rect l="l" t="t" r="r" b="b"/>
              <a:pathLst>
                <a:path w="144" h="112">
                  <a:moveTo>
                    <a:pt x="0" y="56"/>
                  </a:moveTo>
                  <a:lnTo>
                    <a:pt x="0" y="56"/>
                  </a:lnTo>
                  <a:lnTo>
                    <a:pt x="0" y="0"/>
                  </a:lnTo>
                  <a:lnTo>
                    <a:pt x="144" y="56"/>
                  </a:lnTo>
                  <a:lnTo>
                    <a:pt x="0" y="112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182000" y="5346720"/>
              <a:ext cx="393480" cy="1440"/>
            </a:xfrm>
            <a:prstGeom prst="line">
              <a:avLst/>
            </a:prstGeom>
            <a:ln w="50760">
              <a:solidFill>
                <a:srgbClr val="005e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6854040" y="5257800"/>
            <a:ext cx="28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e</a:t>
            </a:r>
            <a:r>
              <a:rPr b="0" lang="en-GB" sz="14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63400" y="3416400"/>
            <a:ext cx="266760" cy="342720"/>
          </a:xfrm>
          <a:custGeom>
            <a:avLst/>
            <a:gdLst/>
            <a:ahLst/>
            <a:rect l="l" t="t" r="r" b="b"/>
            <a:pathLst>
              <a:path w="168" h="216">
                <a:moveTo>
                  <a:pt x="0" y="136"/>
                </a:moveTo>
                <a:lnTo>
                  <a:pt x="0" y="136"/>
                </a:lnTo>
                <a:lnTo>
                  <a:pt x="80" y="216"/>
                </a:lnTo>
                <a:lnTo>
                  <a:pt x="168" y="136"/>
                </a:lnTo>
                <a:lnTo>
                  <a:pt x="120" y="136"/>
                </a:lnTo>
                <a:lnTo>
                  <a:pt x="120" y="0"/>
                </a:lnTo>
                <a:lnTo>
                  <a:pt x="40" y="0"/>
                </a:lnTo>
                <a:lnTo>
                  <a:pt x="40" y="136"/>
                </a:lnTo>
                <a:lnTo>
                  <a:pt x="0" y="136"/>
                </a:lnTo>
                <a:close/>
              </a:path>
            </a:pathLst>
          </a:custGeom>
          <a:solidFill>
            <a:srgbClr val="7faf9f"/>
          </a:solidFill>
          <a:ln w="12600">
            <a:solidFill>
              <a:srgbClr val="005e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50800" y="4381560"/>
            <a:ext cx="266760" cy="330120"/>
          </a:xfrm>
          <a:custGeom>
            <a:avLst/>
            <a:gdLst/>
            <a:ahLst/>
            <a:rect l="l" t="t" r="r" b="b"/>
            <a:pathLst>
              <a:path w="168" h="208">
                <a:moveTo>
                  <a:pt x="0" y="120"/>
                </a:moveTo>
                <a:lnTo>
                  <a:pt x="0" y="120"/>
                </a:lnTo>
                <a:lnTo>
                  <a:pt x="88" y="208"/>
                </a:lnTo>
                <a:lnTo>
                  <a:pt x="168" y="120"/>
                </a:lnTo>
                <a:lnTo>
                  <a:pt x="128" y="120"/>
                </a:lnTo>
                <a:lnTo>
                  <a:pt x="128" y="0"/>
                </a:lnTo>
                <a:lnTo>
                  <a:pt x="48" y="0"/>
                </a:lnTo>
                <a:lnTo>
                  <a:pt x="48" y="120"/>
                </a:lnTo>
                <a:lnTo>
                  <a:pt x="0" y="120"/>
                </a:lnTo>
                <a:close/>
              </a:path>
            </a:pathLst>
          </a:custGeom>
          <a:solidFill>
            <a:srgbClr val="7faf9f"/>
          </a:solidFill>
          <a:ln w="12600">
            <a:solidFill>
              <a:srgbClr val="005e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12640" y="2413080"/>
            <a:ext cx="279360" cy="342720"/>
          </a:xfrm>
          <a:custGeom>
            <a:avLst/>
            <a:gdLst/>
            <a:ahLst/>
            <a:rect l="l" t="t" r="r" b="b"/>
            <a:pathLst>
              <a:path w="176" h="216">
                <a:moveTo>
                  <a:pt x="0" y="112"/>
                </a:moveTo>
                <a:lnTo>
                  <a:pt x="0" y="112"/>
                </a:lnTo>
                <a:lnTo>
                  <a:pt x="88" y="216"/>
                </a:lnTo>
                <a:lnTo>
                  <a:pt x="176" y="112"/>
                </a:lnTo>
                <a:lnTo>
                  <a:pt x="128" y="112"/>
                </a:lnTo>
                <a:lnTo>
                  <a:pt x="128" y="0"/>
                </a:lnTo>
                <a:lnTo>
                  <a:pt x="48" y="0"/>
                </a:lnTo>
                <a:lnTo>
                  <a:pt x="48" y="112"/>
                </a:lnTo>
                <a:lnTo>
                  <a:pt x="0" y="112"/>
                </a:lnTo>
                <a:close/>
              </a:path>
            </a:pathLst>
          </a:custGeom>
          <a:solidFill>
            <a:srgbClr val="7faf9f"/>
          </a:solidFill>
          <a:ln w="12600">
            <a:solidFill>
              <a:srgbClr val="005e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26760" y="3828960"/>
            <a:ext cx="1009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V@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ne e potreb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7912080" y="2857680"/>
            <a:ext cx="846360" cy="365400"/>
            <a:chOff x="7912080" y="2857680"/>
            <a:chExt cx="846360" cy="365400"/>
          </a:xfrm>
        </p:grpSpPr>
        <p:sp>
          <p:nvSpPr>
            <p:cNvPr id="343" name=""/>
            <p:cNvSpPr/>
            <p:nvPr/>
          </p:nvSpPr>
          <p:spPr>
            <a:xfrm>
              <a:off x="7968240" y="2857680"/>
              <a:ext cx="790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OV@S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e potreb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912080" y="303552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7912080" y="2178000"/>
            <a:ext cx="846360" cy="365400"/>
            <a:chOff x="7912080" y="2178000"/>
            <a:chExt cx="846360" cy="365400"/>
          </a:xfrm>
        </p:grpSpPr>
        <p:sp>
          <p:nvSpPr>
            <p:cNvPr id="346" name=""/>
            <p:cNvSpPr/>
            <p:nvPr/>
          </p:nvSpPr>
          <p:spPr>
            <a:xfrm>
              <a:off x="7968240" y="2178000"/>
              <a:ext cx="790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OV@S</a:t>
              </a:r>
              <a:br>
                <a:rPr sz="1200"/>
              </a:br>
              <a:r>
                <a:rPr b="0" lang="en-GB" sz="12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e potreb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912080" y="2355840"/>
              <a:ext cx="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7807680" y="1708200"/>
            <a:ext cx="1009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V@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ne e potreb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Agata Miazga</cp:lastModifiedBy>
  <cp:lastPrinted>2002-04-02T12:21:41Z</cp:lastPrinted>
  <dcterms:modified xsi:type="dcterms:W3CDTF">2004-03-31T11:48:41Z</dcterms:modified>
  <cp:revision>475</cp:revision>
  <dc:subject/>
  <dc:title>No Slide Title</dc:title>
</cp:coreProperties>
</file>