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256C4-DBFC-4A5D-BDEE-2DAC6E642674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7760" y="649116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RISHIK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86680"/>
            <a:ext cx="4267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RAJNIM PER VNM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MANUAL BURIMOR 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31160" y="152280"/>
            <a:ext cx="90792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1800" y="604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8028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7228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90040"/>
            <a:ext cx="3829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7040" y="4718160"/>
            <a:ext cx="17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ishik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7336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7760" y="1054080"/>
            <a:ext cx="632628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9000" y="37339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4240" y="5118120"/>
            <a:ext cx="3265200" cy="266760"/>
            <a:chOff x="4494240" y="5118120"/>
            <a:chExt cx="3265200" cy="266760"/>
          </a:xfrm>
        </p:grpSpPr>
        <p:sp>
          <p:nvSpPr>
            <p:cNvPr id="102" name=""/>
            <p:cNvSpPr/>
            <p:nvPr/>
          </p:nvSpPr>
          <p:spPr>
            <a:xfrm>
              <a:off x="4494600" y="51181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4240" y="52322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62720" y="1676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3440" y="20700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0673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5960" y="45594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70440" y="40514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440" y="358128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3880" y="11080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8640" y="34290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3240" y="161280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62040" y="209556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880" y="2666880"/>
            <a:ext cx="102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880" y="3054240"/>
            <a:ext cx="85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8440" y="361332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84800" y="4076640"/>
            <a:ext cx="680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Rishik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5480" y="45720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5680" y="5473800"/>
            <a:ext cx="65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atimi 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5360" y="55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9084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9040" y="723600"/>
            <a:ext cx="703584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Qëllimi i Rishikimit t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6629400" cy="13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ë rishikojë cilësinë e raportit të VNMs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err në konsideratë komentet e publiku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on nëse informacioni është i mjaftueshë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on nëse ka mangësi që duhen korrigj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25160" y="723960"/>
            <a:ext cx="7118280" cy="83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Çështje të rëndësishme gjatë rishikimit t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2449080"/>
            <a:ext cx="694692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ishikimi bëhet në përputhje me termat e referencës për raportin e VNMs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oni të jetë i saktë dhe i drejtë teknikish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ërejtjet e publikut të jenë marrë në konsiderat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mban përfundime të plota dhe të kënaqshm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oni është i qartë dhe i kuptueshëm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nformacioni është i plotë për vendimmarrje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4600" y="7174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Kush është përgjegjës për të kryer rishikimin e VNMsë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462040"/>
            <a:ext cx="6858000" cy="243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gjencia e Mjedisit — Kanada (studime të thelluara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nel i pavarur (ose ndërmjetës) — Kanada (pyetjet publike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mision i posaçëm — Holland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mitet ndërdikasterial — SHB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utoriteti planifikues — Mbretëria e Bashk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Vërejtjet e kontributi i publikut duhet të merren gjithashtu në konsideratë (Direktiva e KEsë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4600" y="704880"/>
            <a:ext cx="69595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etodat e rishikimit t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455920"/>
            <a:ext cx="6858000" cy="238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und të përdoren metodat e mëposhtme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a kontrolli të përgjithshme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a kontrolli për projekte të vecanta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nuale rishikimi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Ekspertë dhe rishikues të certifikuar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bledhje të publikut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49160" indent="-266400">
              <a:lnSpc>
                <a:spcPct val="90000"/>
              </a:lnSpc>
              <a:spcBef>
                <a:spcPts val="1001"/>
              </a:spcBef>
              <a:buClr>
                <a:srgbClr val="800000"/>
              </a:buClr>
              <a:buSzPct val="9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uadër rregullator për rishikimin mbi efektivitetin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19040" y="717480"/>
            <a:ext cx="74167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ishikimi zyrtar i Raporteve të VNMsë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hembuj nga vendet anëtare të BEsë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- 1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72840" y="2463840"/>
            <a:ext cx="8165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ortugal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ria e Mjedisit mund të harxhojë 20 ditë pune për të provuar nëse raporti i VNMsë plotëson kërkesat e ligjit ose nëse nevojitet informacion shtes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Irlandë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dhëzuesit (dhe Shënimet Këshillimore bashkëshoqëruese) janë hartuar për të ndihmuar authoritetet vendimmarrëse të gjykojnë rreth cilësisë së raporteve të VNMs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panj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 kontrollohet krahasuar me termat e rënë dakort gjatë procesit të përcaktimit të përmbajtjes së VNMsë, i cili përfshin edhe pjesëmarrjen e publiku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4240" y="723960"/>
            <a:ext cx="71881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ishikimi zyrtar i Raporteve të VNMsë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hembuj nga vendet anëtare të BEsë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72840" y="2451240"/>
            <a:ext cx="8165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Suedi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cioni i Shqyrtimit Mjedisor (në kuadër të bordeve administrative të kontes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e gjykatat mjediso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 vendosin nëse VNMja plotëson kërkesat e legjislacionit për VNMn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Hollandë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jë komision i pavarur për çështjet e VNMsë përgatit udhëzues të veçantë sipas specifikave të projekteve të ndryshme për përcaktimin e përmbajtjes, rishikimin e përputhshmërisë së raportit të VNMsë dhe ia paraqet mendimin e tij autoritetit vendimmarrë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31:28Z</dcterms:modified>
  <cp:revision>354</cp:revision>
  <dc:subject/>
  <dc:title>No Slide Title</dc:title>
</cp:coreProperties>
</file>