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019920"/>
            <a:ext cx="9144000" cy="85068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6248520"/>
            <a:ext cx="1752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839080" y="604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6425D-FD14-4401-8E0B-0F9080C1A3CF}" type="slidenum">
              <a:rPr b="0" lang="en-US" sz="10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05320" y="6446880"/>
            <a:ext cx="5257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Ubla</a:t>
            </a:r>
            <a:r>
              <a:rPr b="1" lang="hr-HR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ž</a:t>
            </a:r>
            <a:r>
              <a:rPr b="1" lang="en-US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avanje </a:t>
            </a:r>
            <a:r>
              <a:rPr b="1" lang="hr-HR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posljed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76320"/>
            <a:ext cx="5257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Finansira Program Evropske Unije za Obnovu i Ph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55760" y="6146640"/>
            <a:ext cx="28191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EIA OBUKA</a:t>
            </a:r>
            <a:br>
              <a:rPr sz="1200"/>
            </a:br>
            <a:r>
              <a:rPr b="0" lang="en-GB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POMO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Ć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NI PRIRU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Č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NIK</a:t>
            </a:r>
            <a:br>
              <a:rPr sz="1200"/>
            </a:br>
            <a:r>
              <a:rPr b="0" lang="en-GB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ZA JUGOISTO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Č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NU EVROP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848720" y="157320"/>
            <a:ext cx="906480" cy="906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1" marL="190440" indent="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2" marL="576360" indent="-195480"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3" marL="947880" indent="-18108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i="1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4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5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6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019920"/>
            <a:ext cx="9144000" cy="85860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9040" y="6145200"/>
            <a:ext cx="3124440" cy="687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54160" y="54000"/>
            <a:ext cx="571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Finansira Program Evropske Unije za Obnovu i Ph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7873920" y="6164280"/>
            <a:ext cx="871560" cy="576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178760" y="6167520"/>
            <a:ext cx="490320" cy="576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5283360" y="6161040"/>
            <a:ext cx="1676160" cy="5763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1" marL="190440" indent="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2" marL="380880" algn="ctr"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3" marL="766800" algn="ctr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i="1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4" marL="1138320" algn="ctr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5" marL="113832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6" marL="113832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40280" y="1454400"/>
            <a:ext cx="38354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IA OBUKA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MO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I PRIRU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IK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ZA JUGOISTO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U EVRO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36600" y="4713120"/>
            <a:ext cx="407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Ubla</a:t>
            </a: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ž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avanje </a:t>
            </a: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posljed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90720" y="1506600"/>
            <a:ext cx="3598920" cy="3598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460760" y="5197320"/>
            <a:ext cx="1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746440" y="1616040"/>
            <a:ext cx="1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55800" y="1031760"/>
            <a:ext cx="6324480" cy="4749840"/>
          </a:xfrm>
          <a:prstGeom prst="rect">
            <a:avLst/>
          </a:prstGeom>
          <a:ln w="0">
            <a:noFill/>
          </a:ln>
        </p:spPr>
      </p:pic>
      <p:grpSp>
        <p:nvGrpSpPr>
          <p:cNvPr id="102" name=""/>
          <p:cNvGrpSpPr/>
          <p:nvPr/>
        </p:nvGrpSpPr>
        <p:grpSpPr>
          <a:xfrm>
            <a:off x="5527800" y="3692520"/>
            <a:ext cx="2905920" cy="617400"/>
            <a:chOff x="5527800" y="3692520"/>
            <a:chExt cx="2905920" cy="617400"/>
          </a:xfrm>
        </p:grpSpPr>
        <p:sp>
          <p:nvSpPr>
            <p:cNvPr id="103" name=""/>
            <p:cNvSpPr/>
            <p:nvPr/>
          </p:nvSpPr>
          <p:spPr>
            <a:xfrm>
              <a:off x="5529600" y="3692520"/>
              <a:ext cx="2904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*Do uklju</a:t>
              </a:r>
              <a:r>
                <a:rPr b="0" lang="hr-H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č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vanja javnosti uglavnom dolazi u ovoj faz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o njega me</a:t>
              </a:r>
              <a:r>
                <a:rPr b="0" lang="hr-H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đ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utim mo</a:t>
              </a:r>
              <a:r>
                <a:rPr b="0" lang="hr-H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ž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 do</a:t>
              </a:r>
              <a:r>
                <a:rPr b="0" lang="hr-HR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ć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 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u bilo kojoj drugoj fazi procesa EI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527800" y="3807000"/>
              <a:ext cx="14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95840" y="392112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527800" y="4035600"/>
              <a:ext cx="14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746400" y="403560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4459320" y="5083200"/>
            <a:ext cx="2381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cije dobijene u ovom proces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oprinose efikasnosti budu</a:t>
            </a:r>
            <a:r>
              <a:rPr b="0" lang="hr-H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ć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h procesa E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59080" y="519732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36960" y="1641600"/>
            <a:ext cx="456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ez E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70440" y="2025720"/>
            <a:ext cx="898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Po</a:t>
            </a:r>
            <a:r>
              <a:rPr b="0" lang="hr-HR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et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ispitivanje u odnos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na okoli</a:t>
            </a:r>
            <a:r>
              <a:rPr b="0" lang="hr-HR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š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66360" y="1616040"/>
            <a:ext cx="849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otreba za E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419560" y="5010120"/>
            <a:ext cx="988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ijedlog odobr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51280" y="4476600"/>
            <a:ext cx="72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ijedlog ni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dobre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27520" y="3997440"/>
            <a:ext cx="76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definisan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ijedlo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93600" y="3470400"/>
            <a:ext cx="990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Ponovno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podno</a:t>
            </a:r>
            <a:r>
              <a:rPr b="0" lang="hr-HR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š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enj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prijedlog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111560" y="1044720"/>
            <a:ext cx="633240" cy="376200"/>
            <a:chOff x="4111560" y="1044720"/>
            <a:chExt cx="633240" cy="376200"/>
          </a:xfrm>
        </p:grpSpPr>
        <p:sp>
          <p:nvSpPr>
            <p:cNvPr id="118" name=""/>
            <p:cNvSpPr/>
            <p:nvPr/>
          </p:nvSpPr>
          <p:spPr>
            <a:xfrm>
              <a:off x="4111560" y="1044720"/>
              <a:ext cx="633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Utvr</a:t>
              </a:r>
              <a:r>
                <a:rPr b="0" lang="hr-H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đ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vanj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ijedlog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282920" y="1146240"/>
              <a:ext cx="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5610600" y="3394080"/>
            <a:ext cx="95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*U</a:t>
            </a:r>
            <a:r>
              <a:rPr b="0" lang="hr-H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č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š</a:t>
            </a:r>
            <a:r>
              <a:rPr b="0" lang="hr-HR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ć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 javnost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67920" y="1625760"/>
            <a:ext cx="934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ovjera potreb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81200" y="2070000"/>
            <a:ext cx="633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tvr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đ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van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jelokrug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502720" y="2568600"/>
            <a:ext cx="812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aliza uticaj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165400" y="3057480"/>
            <a:ext cx="1303560" cy="477720"/>
            <a:chOff x="2165400" y="3057480"/>
            <a:chExt cx="1303560" cy="477720"/>
          </a:xfrm>
        </p:grpSpPr>
        <p:sp>
          <p:nvSpPr>
            <p:cNvPr id="125" name=""/>
            <p:cNvSpPr/>
            <p:nvPr/>
          </p:nvSpPr>
          <p:spPr>
            <a:xfrm>
              <a:off x="2355480" y="3057480"/>
              <a:ext cx="1113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9933"/>
                  </a:solidFill>
                  <a:latin typeface="Arial"/>
                  <a:ea typeface="Times New Roman"/>
                </a:rPr>
                <a:t>Ubla</a:t>
              </a:r>
              <a:r>
                <a:rPr b="1" lang="hr-HR" sz="800" spc="-1" strike="noStrike">
                  <a:solidFill>
                    <a:srgbClr val="339933"/>
                  </a:solidFill>
                  <a:latin typeface="Times New Roman"/>
                  <a:ea typeface="Times New Roman"/>
                </a:rPr>
                <a:t>ž</a:t>
              </a:r>
              <a:r>
                <a:rPr b="1" lang="en-US" sz="800" spc="-1" strike="noStrike">
                  <a:solidFill>
                    <a:srgbClr val="339933"/>
                  </a:solidFill>
                  <a:latin typeface="Arial"/>
                  <a:ea typeface="Times New Roman"/>
                </a:rPr>
                <a:t>avanje posljedi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339933"/>
                  </a:solidFill>
                  <a:latin typeface="Arial"/>
                  <a:ea typeface="Times New Roman"/>
                </a:rPr>
                <a:t>i kontrola uticaj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228760" y="3159000"/>
              <a:ext cx="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165400" y="326052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2549160" y="3584520"/>
            <a:ext cx="695880" cy="152640"/>
            <a:chOff x="2549160" y="3584520"/>
            <a:chExt cx="695880" cy="152640"/>
          </a:xfrm>
        </p:grpSpPr>
        <p:sp>
          <p:nvSpPr>
            <p:cNvPr id="129" name=""/>
            <p:cNvSpPr/>
            <p:nvPr/>
          </p:nvSpPr>
          <p:spPr>
            <a:xfrm>
              <a:off x="2549160" y="3584520"/>
              <a:ext cx="695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zvje</a:t>
              </a:r>
              <a:r>
                <a:rPr b="0" lang="hr-H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š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aj EI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52200" y="358452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2682720" y="4044960"/>
            <a:ext cx="43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egl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18480" y="4537080"/>
            <a:ext cx="1011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ono</a:t>
            </a:r>
            <a:r>
              <a:rPr b="0" lang="hr-H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š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nje odluk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465280" y="5432400"/>
            <a:ext cx="848160" cy="477360"/>
            <a:chOff x="2465280" y="5432400"/>
            <a:chExt cx="848160" cy="477360"/>
          </a:xfrm>
        </p:grpSpPr>
        <p:sp>
          <p:nvSpPr>
            <p:cNvPr id="134" name=""/>
            <p:cNvSpPr/>
            <p:nvPr/>
          </p:nvSpPr>
          <p:spPr>
            <a:xfrm>
              <a:off x="2465280" y="5432400"/>
              <a:ext cx="848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mplementacij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 monitor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794320" y="5533920"/>
              <a:ext cx="144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603880" y="5635440"/>
              <a:ext cx="14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49200" y="672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Svrha ubla</a:t>
            </a: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ž</a:t>
            </a: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avanja</a:t>
            </a: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 posljedica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2451240"/>
            <a:ext cx="6019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lvl="2" marL="652680" indent="-283320">
              <a:lnSpc>
                <a:spcPct val="115000"/>
              </a:lnSpc>
              <a:spcBef>
                <a:spcPts val="1400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zbjegavanje, minimiziranje ili popravljanje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tnih u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ticaj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652680" indent="-283320">
              <a:lnSpc>
                <a:spcPct val="115000"/>
              </a:lnSpc>
              <a:spcBef>
                <a:spcPts val="1400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igurati da preostali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uticaji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du unutar prihvatljivih gran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652680" indent="-283320">
              <a:lnSpc>
                <a:spcPct val="115000"/>
              </a:lnSpc>
              <a:spcBef>
                <a:spcPts val="1400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povećati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obrobit po okoli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 i dru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vo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8320" y="672840"/>
            <a:ext cx="7202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Okvir za ubla</a:t>
            </a: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ž</a:t>
            </a: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avanje u</a:t>
            </a: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ticaja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0" name=""/>
          <p:cNvSpPr/>
          <p:nvPr/>
        </p:nvSpPr>
        <p:spPr>
          <a:xfrm>
            <a:off x="1459080" y="2031840"/>
            <a:ext cx="177480" cy="2857680"/>
          </a:xfrm>
          <a:custGeom>
            <a:avLst/>
            <a:gdLst/>
            <a:ahLst/>
            <a:rect l="l" t="t" r="r" b="b"/>
            <a:pathLst>
              <a:path w="112" h="1800">
                <a:moveTo>
                  <a:pt x="0" y="1576"/>
                </a:moveTo>
                <a:lnTo>
                  <a:pt x="0" y="1576"/>
                </a:lnTo>
                <a:lnTo>
                  <a:pt x="32" y="1576"/>
                </a:lnTo>
                <a:lnTo>
                  <a:pt x="32" y="880"/>
                </a:lnTo>
                <a:lnTo>
                  <a:pt x="32" y="216"/>
                </a:lnTo>
                <a:lnTo>
                  <a:pt x="0" y="216"/>
                </a:lnTo>
                <a:lnTo>
                  <a:pt x="56" y="0"/>
                </a:lnTo>
                <a:lnTo>
                  <a:pt x="112" y="216"/>
                </a:lnTo>
                <a:lnTo>
                  <a:pt x="80" y="216"/>
                </a:lnTo>
                <a:lnTo>
                  <a:pt x="80" y="920"/>
                </a:lnTo>
                <a:lnTo>
                  <a:pt x="80" y="1576"/>
                </a:lnTo>
                <a:lnTo>
                  <a:pt x="112" y="1576"/>
                </a:lnTo>
                <a:lnTo>
                  <a:pt x="56" y="1800"/>
                </a:lnTo>
                <a:lnTo>
                  <a:pt x="0" y="1576"/>
                </a:lnTo>
                <a:close/>
              </a:path>
            </a:pathLst>
          </a:custGeom>
          <a:solidFill>
            <a:srgbClr val="005e3e"/>
          </a:solidFill>
          <a:ln w="12600">
            <a:solidFill>
              <a:srgbClr val="005e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38360" y="1523880"/>
            <a:ext cx="3824280" cy="1295640"/>
          </a:xfrm>
          <a:custGeom>
            <a:avLst/>
            <a:gdLst/>
            <a:ahLst/>
            <a:rect l="l" t="t" r="r" b="b"/>
            <a:pathLst>
              <a:path w="2409" h="816">
                <a:moveTo>
                  <a:pt x="408" y="816"/>
                </a:moveTo>
                <a:lnTo>
                  <a:pt x="408" y="816"/>
                </a:lnTo>
                <a:lnTo>
                  <a:pt x="0" y="0"/>
                </a:lnTo>
                <a:lnTo>
                  <a:pt x="2409" y="0"/>
                </a:lnTo>
                <a:lnTo>
                  <a:pt x="2001" y="816"/>
                </a:lnTo>
                <a:lnTo>
                  <a:pt x="408" y="816"/>
                </a:lnTo>
                <a:close/>
              </a:path>
            </a:pathLst>
          </a:custGeom>
          <a:solidFill>
            <a:srgbClr val="4c8e78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21040" y="4127400"/>
            <a:ext cx="1258920" cy="1270080"/>
          </a:xfrm>
          <a:custGeom>
            <a:avLst/>
            <a:gdLst/>
            <a:ahLst/>
            <a:rect l="l" t="t" r="r" b="b"/>
            <a:pathLst>
              <a:path w="793" h="800">
                <a:moveTo>
                  <a:pt x="400" y="800"/>
                </a:moveTo>
                <a:lnTo>
                  <a:pt x="400" y="800"/>
                </a:lnTo>
                <a:lnTo>
                  <a:pt x="0" y="0"/>
                </a:lnTo>
                <a:lnTo>
                  <a:pt x="793" y="0"/>
                </a:lnTo>
                <a:lnTo>
                  <a:pt x="400" y="800"/>
                </a:lnTo>
                <a:close/>
              </a:path>
            </a:pathLst>
          </a:custGeom>
          <a:solidFill>
            <a:srgbClr val="79b2a1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186000" y="2819520"/>
            <a:ext cx="2529000" cy="1307880"/>
          </a:xfrm>
          <a:custGeom>
            <a:avLst/>
            <a:gdLst/>
            <a:ahLst/>
            <a:rect l="l" t="t" r="r" b="b"/>
            <a:pathLst>
              <a:path w="1593" h="824">
                <a:moveTo>
                  <a:pt x="400" y="824"/>
                </a:moveTo>
                <a:lnTo>
                  <a:pt x="400" y="824"/>
                </a:lnTo>
                <a:lnTo>
                  <a:pt x="0" y="0"/>
                </a:lnTo>
                <a:lnTo>
                  <a:pt x="1593" y="0"/>
                </a:lnTo>
                <a:lnTo>
                  <a:pt x="1193" y="824"/>
                </a:lnTo>
                <a:lnTo>
                  <a:pt x="400" y="824"/>
                </a:lnTo>
                <a:close/>
              </a:path>
            </a:pathLst>
          </a:custGeom>
          <a:solidFill>
            <a:srgbClr val="47937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89720" y="1536840"/>
            <a:ext cx="2133720" cy="1440"/>
          </a:xfrm>
          <a:prstGeom prst="line">
            <a:avLst/>
          </a:prstGeom>
          <a:ln w="25560">
            <a:solidFill>
              <a:srgbClr val="005e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489720" y="2819520"/>
            <a:ext cx="2133720" cy="1440"/>
          </a:xfrm>
          <a:prstGeom prst="line">
            <a:avLst/>
          </a:prstGeom>
          <a:ln w="25560">
            <a:solidFill>
              <a:srgbClr val="005e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489720" y="4102200"/>
            <a:ext cx="2133720" cy="1440"/>
          </a:xfrm>
          <a:prstGeom prst="line">
            <a:avLst/>
          </a:prstGeom>
          <a:ln w="25560">
            <a:solidFill>
              <a:srgbClr val="005e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489720" y="5410080"/>
            <a:ext cx="2133720" cy="1800"/>
          </a:xfrm>
          <a:prstGeom prst="line">
            <a:avLst/>
          </a:prstGeom>
          <a:ln w="25560">
            <a:solidFill>
              <a:srgbClr val="005e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0640" y="1650960"/>
            <a:ext cx="1535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sto (po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ljno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19200" y="4952880"/>
            <a:ext cx="1852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ijetko (nepo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ljno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6402240" y="1765440"/>
            <a:ext cx="2122920" cy="973800"/>
            <a:chOff x="6402240" y="1765440"/>
            <a:chExt cx="2122920" cy="973800"/>
          </a:xfrm>
        </p:grpSpPr>
        <p:sp>
          <p:nvSpPr>
            <p:cNvPr id="151" name=""/>
            <p:cNvSpPr/>
            <p:nvPr/>
          </p:nvSpPr>
          <p:spPr>
            <a:xfrm>
              <a:off x="6512760" y="1765440"/>
              <a:ext cx="2012400" cy="9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lternativna mjesta il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ehnologija kako bi s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liminisao gubita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ebivali</a:t>
              </a:r>
              <a:r>
                <a:rPr b="0" lang="hr-HR" sz="1600" spc="-1" strike="noStrike">
                  <a:solidFill>
                    <a:srgbClr val="000000"/>
                  </a:solidFill>
                  <a:latin typeface="Arial"/>
                </a:rPr>
                <a:t>š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743520" y="1968480"/>
              <a:ext cx="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02240" y="217188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HU"/>
                  <a:ea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6097320" y="2895480"/>
            <a:ext cx="2951280" cy="1217160"/>
            <a:chOff x="6097320" y="2895480"/>
            <a:chExt cx="2951280" cy="1217160"/>
          </a:xfrm>
        </p:grpSpPr>
        <p:sp>
          <p:nvSpPr>
            <p:cNvPr id="155" name=""/>
            <p:cNvSpPr/>
            <p:nvPr/>
          </p:nvSpPr>
          <p:spPr>
            <a:xfrm>
              <a:off x="6549840" y="2895480"/>
              <a:ext cx="2498760" cy="121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kcije toko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smi</a:t>
              </a:r>
              <a:r>
                <a:rPr b="0" lang="hr-HR" sz="1600" spc="-1" strike="noStrike">
                  <a:solidFill>
                    <a:srgbClr val="000000"/>
                  </a:solidFill>
                  <a:latin typeface="Arial"/>
                </a:rPr>
                <a:t>š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javanja, </a:t>
              </a:r>
              <a:r>
                <a:rPr b="0" lang="hr-HR" sz="1600" spc="-1" strike="noStrike">
                  <a:solidFill>
                    <a:srgbClr val="000000"/>
                  </a:solidFill>
                  <a:latin typeface="Arial"/>
                </a:rPr>
                <a:t>provedb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 </a:t>
              </a:r>
              <a:r>
                <a:rPr b="0" lang="hr-HR" sz="1600" spc="-1" strike="noStrike">
                  <a:solidFill>
                    <a:srgbClr val="000000"/>
                  </a:solidFill>
                  <a:latin typeface="Arial"/>
                </a:rPr>
                <a:t>djelovanja projekta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ako b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1600" spc="-1" strike="noStrike">
                  <a:solidFill>
                    <a:srgbClr val="000000"/>
                  </a:solidFill>
                  <a:latin typeface="Arial"/>
                </a:rPr>
                <a:t>se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inimizirao ili eliminisa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gubitak prebivali</a:t>
              </a:r>
              <a:r>
                <a:rPr b="0" lang="hr-HR" sz="1600" spc="-1" strike="noStrike">
                  <a:solidFill>
                    <a:srgbClr val="000000"/>
                  </a:solidFill>
                  <a:latin typeface="Arial"/>
                </a:rPr>
                <a:t>š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a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097320" y="309888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HU"/>
                  <a:ea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237000" y="330192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HU"/>
                  <a:ea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338520" y="350532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HU"/>
                  <a:ea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011720" y="370836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HU"/>
                  <a:ea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6551640" y="4267080"/>
            <a:ext cx="1933200" cy="973800"/>
            <a:chOff x="6551640" y="4267080"/>
            <a:chExt cx="1933200" cy="973800"/>
          </a:xfrm>
        </p:grpSpPr>
        <p:sp>
          <p:nvSpPr>
            <p:cNvPr id="161" name=""/>
            <p:cNvSpPr/>
            <p:nvPr/>
          </p:nvSpPr>
          <p:spPr>
            <a:xfrm>
              <a:off x="6551640" y="4267080"/>
              <a:ext cx="1933200" cy="97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oristi se kao zadnje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redstvo kako bi se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eutralisa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gubitak prebivali</a:t>
              </a:r>
              <a:r>
                <a:rPr b="0" lang="hr-HR" sz="1600" spc="-1" strike="noStrike">
                  <a:solidFill>
                    <a:srgbClr val="000000"/>
                  </a:solidFill>
                  <a:latin typeface="Arial"/>
                </a:rPr>
                <a:t>š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a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578640" y="4470480"/>
              <a:ext cx="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973560" y="447048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HU"/>
                  <a:ea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3744360" y="2019240"/>
            <a:ext cx="1360080" cy="274680"/>
            <a:chOff x="3744360" y="2019240"/>
            <a:chExt cx="1360080" cy="274680"/>
          </a:xfrm>
        </p:grpSpPr>
        <p:sp>
          <p:nvSpPr>
            <p:cNvPr id="165" name=""/>
            <p:cNvSpPr/>
            <p:nvPr/>
          </p:nvSpPr>
          <p:spPr>
            <a:xfrm>
              <a:off x="3744360" y="2019240"/>
              <a:ext cx="1360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zbjegavanj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897000" y="2019240"/>
              <a:ext cx="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3796920" y="3340080"/>
            <a:ext cx="1384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bla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vanj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81000" y="4648320"/>
            <a:ext cx="160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ompenzacij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Miroslav Chodak</dc:creator>
  <dc:description/>
  <dc:language>en-US</dc:language>
  <cp:lastModifiedBy>Agata Miazga</cp:lastModifiedBy>
  <cp:lastPrinted>2002-04-02T12:21:41Z</cp:lastPrinted>
  <dcterms:modified xsi:type="dcterms:W3CDTF">2004-04-02T10:02:53Z</dcterms:modified>
  <cp:revision>338</cp:revision>
  <dc:subject/>
  <dc:title>No Slide Title</dc:title>
</cp:coreProperties>
</file>