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FBF6-E9C0-455A-89DE-69F199A5D82F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8504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RAPORTIMI I PROCESIT TE V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10800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86680"/>
            <a:ext cx="4191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MANUAL BURIMOR PER TRAJNIM MBI VNM-n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ER EVROPEN JUGLIND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90440"/>
            <a:ext cx="914400" cy="876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25520" y="6151680"/>
            <a:ext cx="312408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1800" y="6048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89760" y="616752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94600" y="6172200"/>
            <a:ext cx="49032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299200" y="615780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77440"/>
            <a:ext cx="3746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UAL BURIMO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TRAINIM MBI VN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EVROPEN JUGLIND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8040" y="4267080"/>
            <a:ext cx="361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Raportimi i proces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të VNMs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7760" y="1054080"/>
            <a:ext cx="6326280" cy="4749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09000" y="3733920"/>
            <a:ext cx="2859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 du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çanërisht në këto faz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gjithatë publiku mund të përfshihet e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ë secilën prej fazave të tjera tëprocesit të VNM-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94240" y="5118120"/>
            <a:ext cx="3265200" cy="266760"/>
            <a:chOff x="4494240" y="5118120"/>
            <a:chExt cx="3265200" cy="266760"/>
          </a:xfrm>
        </p:grpSpPr>
        <p:sp>
          <p:nvSpPr>
            <p:cNvPr id="102" name=""/>
            <p:cNvSpPr/>
            <p:nvPr/>
          </p:nvSpPr>
          <p:spPr>
            <a:xfrm>
              <a:off x="4494600" y="5118120"/>
              <a:ext cx="151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oni nga ky pro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4240" y="5232240"/>
              <a:ext cx="32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dihmon në procese më efektive të VNMsë në të ardhm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562720" y="16765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duhet VN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43440" y="20700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lerësimi paraprak mjed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06736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55960" y="455940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70440" y="4051440"/>
            <a:ext cx="64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ërgat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0440" y="358128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araq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3880" y="1108080"/>
            <a:ext cx="101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-propozi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88640" y="3429000"/>
            <a:ext cx="11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3240" y="1612800"/>
            <a:ext cx="66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zgjedh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62040" y="2095560"/>
            <a:ext cx="9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përmbajt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4880" y="2666880"/>
            <a:ext cx="102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e ndikime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880" y="3054240"/>
            <a:ext cx="855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ut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he menaxh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ndikime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8840" y="3537000"/>
            <a:ext cx="61956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  <a:ea typeface="Times New Roman"/>
              </a:rPr>
              <a:t>Raporti I</a:t>
            </a:r>
            <a:br>
              <a:rPr sz="1200"/>
            </a:br>
            <a:r>
              <a:rPr b="1" lang="en-US" sz="1200" spc="-1" strike="noStrike">
                <a:solidFill>
                  <a:srgbClr val="339933"/>
                </a:solidFill>
                <a:latin typeface="Arial"/>
                <a:ea typeface="Times New Roman"/>
              </a:rPr>
              <a:t>VNMs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7600" y="40575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shik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35480" y="457200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ndimmarr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5680" y="5473800"/>
            <a:ext cx="65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atimi 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25360" y="551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90840" y="16891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ërkohet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2720" y="672840"/>
            <a:ext cx="74674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Emra të ndryshëm për të njëjtin dokumen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orti i Vlerësimit të Ndikimit në Mjedis (Raporti i VNM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ort i Ndikimeve Mjedisore (RNM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ort Mjedisor (RM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orti i Vlerësimit Mjedisor (Raporti i VM)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ort i Efekteve Mjedisore (REM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3080" y="673200"/>
            <a:ext cx="4597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Elementët e një raporti të</a:t>
            </a: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suksesshëm VNMj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463480"/>
            <a:ext cx="8382240" cy="23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shkruan ndikimet kryesore të projektit të propozua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cakton masat për të zbutur ndikimet kryesore duke përfshirë veprime praktike që duhen marrë në konsideratë prej atij që do të zbatojë projekti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U jep autoriteteve përgjegjëse informacionin e duhur për vendimi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hkruhet në mënyrë të tillë që të jetë i kuptueshëm për publikun dhe vendimmarrësi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901440" y="2437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shkrimin e projektit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raqitjen e alternativave kryesore të studiuara nga propozuesi i projektit duke treguar arsyet kryesore për këtë përzgjedhje,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shkrimin e aspekteve të ndryshme të mjedisit që mund të preket ndjeshëm nga projekti i propozuar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shkrimin e ndikimeve të mundshme më të rëndësishme mjedisore të projektit të propozuar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at për të parandaluar, zvogëluar dhe rivendosur gjendjen e mëparshme në rastin e ndikimeve mjedisore negati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mbledhjen joteknike;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raqitjen e vështirësive të vërejtura (mungesa teknike ose mungesën e përvojës) gjatë grumbullimit dhe hartimit të informacionit të kërkua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36600" y="673200"/>
            <a:ext cx="6673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Raporti i VNMsë në përputhje me Direktivën e KEsë për VNMnë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"/>
          <p:cNvSpPr/>
          <p:nvPr/>
        </p:nvSpPr>
        <p:spPr>
          <a:xfrm>
            <a:off x="393840" y="2025720"/>
            <a:ext cx="60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jë Raport VNMje duhet të përmbajë pikat e mëposhtm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36600" y="680760"/>
            <a:ext cx="7238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Përgatitja e përmbledhje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73152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qëndrohuni tek grupi i synuar, kujt i drejtohet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aqiteni shkurt. 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ini të qartë dhe të përqëndrua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hmangni fjalorin e papërpunua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mblidhni gjetjet kryesor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3080" y="681120"/>
            <a:ext cx="5435280" cy="8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Përmbledhja ekzekutive duhet </a:t>
            </a: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të përmbajë…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2444760"/>
            <a:ext cx="7315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jektin e propozuar dhe vendosjen e tij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rmat e referencës për VNMn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zultatet e konsultimit me publikun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ternativat e marra në konsiderat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dikimet më kryesore dhe rëndësinë e tyr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sat zbutëse dhe menaxhues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Çështje të tjera kritik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36600" y="659880"/>
            <a:ext cx="728352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Disa probleme të vërejtura në raportet e VNMsë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ërmbajtjen e tyr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4419720" cy="31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ktivi i projektit të propozuar përshkruhet shumë shkur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shkrimi nuk trajton të gjithë projektin e propozua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lementët më të ndjeshëm të mjedisit trajtohen më gjërësisht se cfarë është e nevojshm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let e përdorura janë të vjetra dhe jo të frytshm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74320" indent="-27432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dikimet nuk krahasohen me standartet ose nivelet e përcaktuar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k përshkruhen standartet dhe legjislacioni përkatë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2448000"/>
            <a:ext cx="4070160" cy="29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k përmenden ose nuk përshkruhen saktë ndikimet kumulative, të tërthorta dhe ato sinergjik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ternativat nuk përshkruhen mjaftueshëm për të mundësuar krahasimin midis ty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uk janë marrë në konsideratë masat e duhura zbutë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0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anë paraqitur përfundime jo të sak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00600" y="2362320"/>
            <a:ext cx="1440" cy="33526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43080" y="681120"/>
            <a:ext cx="819144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Disa probleme të vërejtura në raportet e VNMsë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(form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a e tyr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)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2444760"/>
            <a:ext cx="3016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tru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e paqart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për e gjatë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 pafokusuar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"/>
          <p:cNvSpPr/>
          <p:nvPr/>
        </p:nvSpPr>
        <p:spPr>
          <a:xfrm>
            <a:off x="4864320" y="2451240"/>
            <a:ext cx="369504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il i dobët dhe gjuhë e varfë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për teknik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portet, si dhe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mbledhjet “joteknike”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komandime dhe përfundi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jo të qa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ngojnë referenc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24280" y="2362320"/>
            <a:ext cx="1800" cy="23619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29:51Z</dcterms:modified>
  <cp:revision>369</cp:revision>
  <dc:subject/>
  <dc:title>No Slide Title</dc:title>
</cp:coreProperties>
</file>