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19920"/>
            <a:ext cx="9144000" cy="85068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24852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839080" y="604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6A0F2-5C22-42F0-9A3A-BACF0E55B119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1280" y="6485040"/>
            <a:ext cx="525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ffffcc"/>
                </a:solidFill>
                <a:latin typeface="ArialHU"/>
              </a:rPr>
              <a:t>UTVRĐIVANJE POTRE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0720" y="76320"/>
            <a:ext cx="52578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PROJEKAT PODR</a:t>
            </a:r>
            <a:r>
              <a:rPr b="0" lang="en-US" sz="1000" spc="-1" strike="noStrike">
                <a:solidFill>
                  <a:srgbClr val="ffffcc"/>
                </a:solidFill>
                <a:latin typeface="Arial"/>
                <a:ea typeface="Arial"/>
              </a:rPr>
              <a:t>ŽAN OD STRANE EVROPSKE UNIJE OBNOVA I PHARE PROH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0720" y="6292800"/>
            <a:ext cx="2819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cc"/>
                </a:solidFill>
                <a:latin typeface="Arial"/>
              </a:rPr>
              <a:t>RESURSNI VODIČ ZA PU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  <a:ea typeface="Arial"/>
              </a:rPr>
              <a:t>Ž</a:t>
            </a:r>
            <a:r>
              <a:rPr b="0" lang="sr-Latn-CS" sz="1200" spc="-1" strike="noStrike">
                <a:solidFill>
                  <a:srgbClr val="ffffcc"/>
                </a:solidFill>
                <a:latin typeface="Arial"/>
                <a:ea typeface="Arial"/>
              </a:rPr>
              <a:t>S (EIA) ZA JUGOISTOČNU EVRO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924680" y="158760"/>
            <a:ext cx="908280" cy="903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576360" indent="-195480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947880" indent="-18108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019920"/>
            <a:ext cx="9144000" cy="85860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31640" y="6151680"/>
            <a:ext cx="3124440" cy="687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54000"/>
            <a:ext cx="57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PROJEKAT PODR</a:t>
            </a:r>
            <a:r>
              <a:rPr b="0" lang="en-US" sz="1000" spc="-1" strike="noStrike">
                <a:solidFill>
                  <a:srgbClr val="ffffcc"/>
                </a:solidFill>
                <a:latin typeface="Arial"/>
                <a:ea typeface="Arial"/>
              </a:rPr>
              <a:t>ŽAN OD STRANE EVROPSKE UNIJE OBNOVA I PHARE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975440" y="6176880"/>
            <a:ext cx="87156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280280" y="6175440"/>
            <a:ext cx="490680" cy="576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384880" y="6167520"/>
            <a:ext cx="1676160" cy="576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380880" algn="ctr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766800" algn="ctr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138320" algn="ctr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933800" y="1468440"/>
            <a:ext cx="38228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URSNI VODI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Č ZA P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 (EIA) ZA JUGOISTOČNU EVRO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34080" y="4721400"/>
            <a:ext cx="35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Utvrđivanje potre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90720" y="1506600"/>
            <a:ext cx="3598920" cy="359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49200" y="693720"/>
            <a:ext cx="72835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Utvrđivanje potreba u skladu s procedurom Svetske banke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68280" y="2438280"/>
            <a:ext cx="847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Svi predlozi koji se podnose Svetskoj banci moraju biti podvrgnuti postupku skrininga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Rezultati utvrđivanja potreba u vezi sa projektima u oblasti životne sredine razvrstavaju se u jednu od tri kategorije postupka procene dejstava na životnu sredinu, i to:</a:t>
            </a: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ategorija A - predlozi kod kojih se zahteva potpuna procena uticaja n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votnu sredinu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ategorij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B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 predlozi kod kojih se zahteva delimična procena uticaja n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votnu sredinu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ategorij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– predlozi kod kojih se ne zahteva procena uticaja n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votnu sredinu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48840" y="693360"/>
            <a:ext cx="713124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Utvrđivanje potreba u skladu s procedurom EBRD-a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68280" y="2450880"/>
            <a:ext cx="8470800" cy="31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Svi predlozi moraju biti podvrgnuti postupku skrininga koji se odnosi na životnu sredinu kako bi se identifikovali mogući rizici i obaveze u vezi sa životnom sredino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Kao i u slučaju Svetske banke, svi predlozi razvrstavaju se u jednu od tri kategorije postupaka procene dejstava na životnu sredinu (A, B ili C).</a:t>
            </a: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stupkom utvrđivanja potreba takođe se određuje da li postoji obaveza sprovođenja ekološke provere. Ako je odgovor u tom pogledu potvrdan, predlog se razvrstava u kategoriju I, a ako je odgovor negativan – razvrstava se u kategoriju 0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49200" y="705960"/>
            <a:ext cx="73152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Utvrđivanje potreba u skladu s Espoo Konvencijom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80880" y="2451240"/>
            <a:ext cx="8305920" cy="28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Sve predložene aktivnosti koje su navedene u Dodatku I uz ovu Konvenciju moraju se proveriti radi utvrđivanja da li postoje neka značajna i nepovoljna uticaja koja prelaze državne granice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Opšte uputstvo za određivanje značaja nepovoljnih dejstava koja prelaze državne granice nalaze se u tekstu Dodatka III uz pomenutu Konvenciju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ed toga, zainteresovane strane imaju mogućnost da raspravljaju o tome da li i neke druge aktivnosti, koje nisu navedene u Dodatku I uz Konvenciju, mogu  imati značajna nepovoljna uticaja koja prelaze državne granice, pa su zato podložne proceni dejstava na životnu sredinu koja uticaja prelaze državne granice.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36240" y="687240"/>
            <a:ext cx="751212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800000"/>
                </a:solidFill>
                <a:latin typeface="Arial"/>
              </a:rPr>
              <a:t>Elementi delotvornog utvrđivanja potreba koji se preporučuju u zemljama Jugoistočne Evrope.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67920" y="2451240"/>
            <a:ext cx="8242200" cy="29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Obavezna primena postupka procene uticaja na životnu sredinu treba da se zasniva na  listi ustanovljenoj u Aneksu I Direktive EC o proceni dejstava na životnu srtedinu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rimena po slobodnoj oceni postupka procene uticaja na životnu sredinu treba da se zasniva na listi ustanovljenoj u Aneksu II uz Direktivu EC. Kod ovakvih projekata treba primeniti skrining od slučaja do slučaja, a na osnovu kriterijuma definisanih u Aneksu III uz Direktivu EC.  Ovim se omogućuje postupanje po zahtevima koje za postupak utvrđivanja potreba  propisuju EBRD i Svetska banka.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Svi projekti za koje je potrebno sprovesti procenu dejstava na životnu sredinu treba bez odlaganja da se podvrgnu proveri radi utvrđivanja dejstava koja prelaze državne granice, i to na osnovu kriterijuma predviđenih u Aneksu III uz Konvenciju Espoo.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90720" y="1054080"/>
            <a:ext cx="6325920" cy="4749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019400" y="1060560"/>
            <a:ext cx="924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Identifikacija</a:t>
            </a:r>
            <a:br>
              <a:rPr sz="1000"/>
            </a:b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predlo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1600200"/>
            <a:ext cx="9237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339933"/>
                </a:solidFill>
                <a:latin typeface="Arial"/>
              </a:rPr>
              <a:t>Utvrđivanje</a:t>
            </a:r>
            <a:br>
              <a:rPr sz="1000"/>
            </a:br>
            <a:r>
              <a:rPr b="1" lang="sr-Latn-CS" sz="1000" spc="-1" strike="noStrike">
                <a:solidFill>
                  <a:srgbClr val="339933"/>
                </a:solidFill>
                <a:latin typeface="Arial"/>
              </a:rPr>
              <a:t>potreb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22280" y="2035080"/>
            <a:ext cx="9565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Inicijalno</a:t>
            </a:r>
            <a:br>
              <a:rPr sz="900"/>
            </a:b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ispitivanje</a:t>
            </a:r>
            <a:br>
              <a:rPr sz="900"/>
            </a:b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zivotne sred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32840" y="1557360"/>
            <a:ext cx="965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Nije potrebna </a:t>
            </a:r>
            <a:br>
              <a:rPr sz="1000"/>
            </a:b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E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63800" y="3413160"/>
            <a:ext cx="106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Učešće javnos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22840" y="3745080"/>
            <a:ext cx="185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Učešće javnosti se obično </a:t>
            </a:r>
            <a:br>
              <a:rPr sz="1000"/>
            </a:b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javlja pri ovim koracima</a:t>
            </a:r>
            <a:br>
              <a:rPr sz="1000"/>
            </a:b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moze se pojaviti i na bilo koje</a:t>
            </a:r>
            <a:br>
              <a:rPr sz="1000"/>
            </a:b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drugom koraku u procesu E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57000" y="15876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EIA potreb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19280" y="204804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dre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đivanje</a:t>
            </a:r>
            <a:br>
              <a:rPr sz="1000"/>
            </a:b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okvi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20640" y="259092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Analiza utica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03360" y="3013200"/>
            <a:ext cx="10951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Ublazavanje </a:t>
            </a:r>
            <a:br>
              <a:rPr sz="800"/>
            </a:b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uticaja i </a:t>
            </a:r>
            <a:br>
              <a:rPr sz="800"/>
            </a:b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menađzment utica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13080" y="5397480"/>
            <a:ext cx="1063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Implementacija </a:t>
            </a:r>
            <a:br>
              <a:rPr sz="1000"/>
            </a:b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i monito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12600" y="5084640"/>
            <a:ext cx="208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Informacija iz ovog procesa </a:t>
            </a:r>
            <a:br>
              <a:rPr sz="1000"/>
            </a:b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doprinosi efektivnosti EIA proce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45080" y="4546440"/>
            <a:ext cx="96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ije odobre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3800" y="4064040"/>
            <a:ext cx="97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edizajnir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39040" y="3492360"/>
            <a:ext cx="833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novno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dno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še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1000" y="3568680"/>
            <a:ext cx="84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EIA Izvešta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73400" y="4051440"/>
            <a:ext cx="131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Pregled izvešta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43320" y="4444920"/>
            <a:ext cx="992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onošenje</a:t>
            </a:r>
            <a:br>
              <a:rPr sz="1000"/>
            </a:b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odluk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58160" y="5046840"/>
            <a:ext cx="74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Odobre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7360" y="691920"/>
            <a:ext cx="7207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800000"/>
                </a:solidFill>
                <a:latin typeface="Arial"/>
                <a:ea typeface="Arial"/>
              </a:rPr>
              <a:t>Što je utvrđivanje potreba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55680" y="2437920"/>
            <a:ext cx="6121440" cy="110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stupkom skrininga (tj. utvrđivanja potreba) određuje se: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49160" indent="-266400">
              <a:lnSpc>
                <a:spcPct val="70000"/>
              </a:lnSpc>
              <a:spcBef>
                <a:spcPts val="1001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a li je za konkretni projekat potrebna procena uticaja na životnu sredinu;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49160" indent="-266400">
              <a:lnSpc>
                <a:spcPct val="70000"/>
              </a:lnSpc>
              <a:spcBef>
                <a:spcPts val="1001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ropisani nivo procene dejstava na životnu sredin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55320" y="691920"/>
            <a:ext cx="72896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800000"/>
                </a:solidFill>
                <a:latin typeface="Arial"/>
                <a:ea typeface="Arial"/>
              </a:rPr>
              <a:t>Ishodi postupka utvrđivanja potreba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61440" y="2455920"/>
            <a:ext cx="6629400" cy="10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otrebna potpuna ili sveobuhvatna P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S (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IA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otrebna limitirana P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(EIA)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nije potrebna P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(EIA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38120" y="736560"/>
            <a:ext cx="69343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800000"/>
                </a:solidFill>
                <a:latin typeface="Arial"/>
                <a:ea typeface="Arial"/>
              </a:rPr>
              <a:t>Instrumenti utvrđivanja potreba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2423880"/>
            <a:ext cx="7772400" cy="33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jektne liste: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838080" indent="-26640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ključne — nabrojani projekti koji moraju biti podvrgnuti proceni uticaja n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votnu sredinu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838080" indent="-26640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sključne — nabrojani projekti koji su izuzeti od procene uticaja n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votnu sredinu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79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79360" indent="-2793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lučaj po slučaj ispitivanja: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838080" indent="-26640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ovim postupkom ispituje se da li projekti mogu značajnije delovati na životnu sredin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838080" indent="-26640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ukoliko se uspostavi da je tako – projekat mora da se podvrgne proceni uticaja na životnu sredin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79360" indent="-2793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kombinacija gore navedeno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8840" y="685800"/>
            <a:ext cx="719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A framework for screening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6" name=""/>
          <p:cNvSpPr/>
          <p:nvPr/>
        </p:nvSpPr>
        <p:spPr>
          <a:xfrm>
            <a:off x="3539880" y="498492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EIA odbije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45040" y="2139840"/>
            <a:ext cx="1340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Uključen pr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43320" y="3460680"/>
            <a:ext cx="149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Indikativni pr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45400" y="4648320"/>
            <a:ext cx="1363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Isključen pr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939960" y="1612800"/>
            <a:ext cx="1269720" cy="3657600"/>
            <a:chOff x="939960" y="1612800"/>
            <a:chExt cx="1269720" cy="3657600"/>
          </a:xfrm>
        </p:grpSpPr>
        <p:sp>
          <p:nvSpPr>
            <p:cNvPr id="131" name=""/>
            <p:cNvSpPr/>
            <p:nvPr/>
          </p:nvSpPr>
          <p:spPr>
            <a:xfrm>
              <a:off x="1562040" y="4622760"/>
              <a:ext cx="406440" cy="520920"/>
            </a:xfrm>
            <a:custGeom>
              <a:avLst/>
              <a:gdLst/>
              <a:ahLst/>
              <a:rect l="l" t="t" r="r" b="b"/>
              <a:pathLst>
                <a:path w="256" h="328">
                  <a:moveTo>
                    <a:pt x="224" y="328"/>
                  </a:moveTo>
                  <a:lnTo>
                    <a:pt x="224" y="328"/>
                  </a:lnTo>
                  <a:lnTo>
                    <a:pt x="0" y="248"/>
                  </a:lnTo>
                  <a:lnTo>
                    <a:pt x="256" y="0"/>
                  </a:lnTo>
                  <a:lnTo>
                    <a:pt x="224" y="208"/>
                  </a:lnTo>
                  <a:lnTo>
                    <a:pt x="224" y="328"/>
                  </a:lnTo>
                  <a:close/>
                </a:path>
              </a:pathLst>
            </a:custGeom>
            <a:solidFill>
              <a:srgbClr val="00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28880" y="2006640"/>
              <a:ext cx="622080" cy="3263760"/>
            </a:xfrm>
            <a:custGeom>
              <a:avLst/>
              <a:gdLst/>
              <a:ahLst/>
              <a:rect l="l" t="t" r="r" b="b"/>
              <a:pathLst>
                <a:path w="392" h="2056">
                  <a:moveTo>
                    <a:pt x="336" y="2056"/>
                  </a:moveTo>
                  <a:lnTo>
                    <a:pt x="336" y="2056"/>
                  </a:lnTo>
                  <a:lnTo>
                    <a:pt x="0" y="1936"/>
                  </a:lnTo>
                  <a:lnTo>
                    <a:pt x="56" y="0"/>
                  </a:lnTo>
                  <a:lnTo>
                    <a:pt x="392" y="120"/>
                  </a:lnTo>
                  <a:lnTo>
                    <a:pt x="336" y="2056"/>
                  </a:lnTo>
                  <a:close/>
                </a:path>
              </a:pathLst>
            </a:custGeom>
            <a:solidFill>
              <a:srgbClr val="00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39960" y="1612800"/>
              <a:ext cx="901440" cy="647640"/>
            </a:xfrm>
            <a:custGeom>
              <a:avLst/>
              <a:gdLst/>
              <a:ahLst/>
              <a:rect l="l" t="t" r="r" b="b"/>
              <a:pathLst>
                <a:path w="568" h="408">
                  <a:moveTo>
                    <a:pt x="344" y="408"/>
                  </a:moveTo>
                  <a:lnTo>
                    <a:pt x="344" y="408"/>
                  </a:lnTo>
                  <a:lnTo>
                    <a:pt x="0" y="280"/>
                  </a:lnTo>
                  <a:lnTo>
                    <a:pt x="232" y="0"/>
                  </a:lnTo>
                  <a:lnTo>
                    <a:pt x="568" y="120"/>
                  </a:lnTo>
                  <a:lnTo>
                    <a:pt x="344" y="408"/>
                  </a:lnTo>
                  <a:close/>
                </a:path>
              </a:pathLst>
            </a:custGeom>
            <a:solidFill>
              <a:srgbClr val="147a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86080" y="1803240"/>
              <a:ext cx="723600" cy="3467160"/>
            </a:xfrm>
            <a:custGeom>
              <a:avLst/>
              <a:gdLst/>
              <a:ahLst/>
              <a:rect l="l" t="t" r="r" b="b"/>
              <a:pathLst>
                <a:path w="456" h="2184">
                  <a:moveTo>
                    <a:pt x="224" y="0"/>
                  </a:moveTo>
                  <a:lnTo>
                    <a:pt x="224" y="0"/>
                  </a:lnTo>
                  <a:lnTo>
                    <a:pt x="456" y="120"/>
                  </a:lnTo>
                  <a:lnTo>
                    <a:pt x="352" y="160"/>
                  </a:lnTo>
                  <a:lnTo>
                    <a:pt x="408" y="2056"/>
                  </a:lnTo>
                  <a:lnTo>
                    <a:pt x="272" y="2104"/>
                  </a:lnTo>
                  <a:lnTo>
                    <a:pt x="272" y="1984"/>
                  </a:lnTo>
                  <a:lnTo>
                    <a:pt x="184" y="2008"/>
                  </a:lnTo>
                  <a:lnTo>
                    <a:pt x="184" y="2136"/>
                  </a:lnTo>
                  <a:lnTo>
                    <a:pt x="48" y="2184"/>
                  </a:lnTo>
                  <a:lnTo>
                    <a:pt x="104" y="248"/>
                  </a:lnTo>
                  <a:lnTo>
                    <a:pt x="0" y="28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9ac6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2641680" y="1549440"/>
            <a:ext cx="2820960" cy="3898800"/>
          </a:xfrm>
          <a:prstGeom prst="rect">
            <a:avLst/>
          </a:prstGeom>
          <a:noFill/>
          <a:ln w="76320">
            <a:solidFill>
              <a:srgbClr val="005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54280" y="2273400"/>
            <a:ext cx="3164040" cy="360"/>
          </a:xfrm>
          <a:prstGeom prst="rect">
            <a:avLst/>
          </a:prstGeom>
          <a:noFill/>
          <a:ln w="76320">
            <a:solidFill>
              <a:srgbClr val="005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54280" y="2273400"/>
            <a:ext cx="3164040" cy="1440"/>
          </a:xfrm>
          <a:custGeom>
            <a:avLst/>
            <a:gdLst/>
            <a:ahLst/>
            <a:rect l="l" t="t" r="r" b="b"/>
            <a:pathLst>
              <a:path w="1993" h="0">
                <a:moveTo>
                  <a:pt x="0" y="0"/>
                </a:moveTo>
                <a:lnTo>
                  <a:pt x="0" y="0"/>
                </a:lnTo>
                <a:lnTo>
                  <a:pt x="1993" y="0"/>
                </a:lnTo>
              </a:path>
            </a:pathLst>
          </a:custGeom>
          <a:noFill/>
          <a:ln w="76320">
            <a:solidFill>
              <a:srgbClr val="005e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654280" y="4775040"/>
            <a:ext cx="3164040" cy="360"/>
          </a:xfrm>
          <a:prstGeom prst="rect">
            <a:avLst/>
          </a:prstGeom>
          <a:noFill/>
          <a:ln w="76320">
            <a:solidFill>
              <a:srgbClr val="005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54280" y="4775040"/>
            <a:ext cx="3164040" cy="1800"/>
          </a:xfrm>
          <a:custGeom>
            <a:avLst/>
            <a:gdLst/>
            <a:ahLst/>
            <a:rect l="l" t="t" r="r" b="b"/>
            <a:pathLst>
              <a:path w="1993" h="0">
                <a:moveTo>
                  <a:pt x="0" y="0"/>
                </a:moveTo>
                <a:lnTo>
                  <a:pt x="0" y="0"/>
                </a:lnTo>
                <a:lnTo>
                  <a:pt x="1993" y="0"/>
                </a:lnTo>
              </a:path>
            </a:pathLst>
          </a:custGeom>
          <a:noFill/>
          <a:ln w="76320">
            <a:solidFill>
              <a:srgbClr val="005e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856120" y="2502000"/>
            <a:ext cx="101880" cy="2082600"/>
            <a:chOff x="5856120" y="2502000"/>
            <a:chExt cx="101880" cy="2082600"/>
          </a:xfrm>
        </p:grpSpPr>
        <p:sp>
          <p:nvSpPr>
            <p:cNvPr id="141" name=""/>
            <p:cNvSpPr/>
            <p:nvPr/>
          </p:nvSpPr>
          <p:spPr>
            <a:xfrm>
              <a:off x="5856120" y="2502000"/>
              <a:ext cx="101880" cy="127080"/>
            </a:xfrm>
            <a:custGeom>
              <a:avLst/>
              <a:gdLst/>
              <a:ahLst/>
              <a:rect l="l" t="t" r="r" b="b"/>
              <a:pathLst>
                <a:path w="64" h="80">
                  <a:moveTo>
                    <a:pt x="32" y="80"/>
                  </a:moveTo>
                  <a:lnTo>
                    <a:pt x="32" y="80"/>
                  </a:lnTo>
                  <a:lnTo>
                    <a:pt x="0" y="80"/>
                  </a:lnTo>
                  <a:lnTo>
                    <a:pt x="32" y="0"/>
                  </a:lnTo>
                  <a:lnTo>
                    <a:pt x="64" y="80"/>
                  </a:lnTo>
                  <a:lnTo>
                    <a:pt x="32" y="80"/>
                  </a:lnTo>
                  <a:close/>
                </a:path>
              </a:pathLst>
            </a:custGeom>
            <a:solidFill>
              <a:srgbClr val="00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56120" y="4457880"/>
              <a:ext cx="101880" cy="126720"/>
            </a:xfrm>
            <a:custGeom>
              <a:avLst/>
              <a:gdLst/>
              <a:ahLst/>
              <a:rect l="l" t="t" r="r" b="b"/>
              <a:pathLst>
                <a:path w="64" h="80">
                  <a:moveTo>
                    <a:pt x="32" y="0"/>
                  </a:moveTo>
                  <a:lnTo>
                    <a:pt x="32" y="0"/>
                  </a:lnTo>
                  <a:lnTo>
                    <a:pt x="64" y="0"/>
                  </a:lnTo>
                  <a:lnTo>
                    <a:pt x="32" y="80"/>
                  </a:lnTo>
                  <a:lnTo>
                    <a:pt x="0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07240" y="2616120"/>
              <a:ext cx="360" cy="1854360"/>
            </a:xfrm>
            <a:prstGeom prst="rect">
              <a:avLst/>
            </a:prstGeom>
            <a:noFill/>
            <a:ln w="25560">
              <a:solidFill>
                <a:srgbClr val="005e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907240" y="2616120"/>
              <a:ext cx="1440" cy="1854360"/>
            </a:xfrm>
            <a:custGeom>
              <a:avLst/>
              <a:gdLst/>
              <a:ahLst/>
              <a:rect l="l" t="t" r="r" b="b"/>
              <a:pathLst>
                <a:path w="0" h="1168">
                  <a:moveTo>
                    <a:pt x="0" y="0"/>
                  </a:moveTo>
                  <a:lnTo>
                    <a:pt x="0" y="0"/>
                  </a:lnTo>
                  <a:lnTo>
                    <a:pt x="0" y="1168"/>
                  </a:lnTo>
                </a:path>
              </a:pathLst>
            </a:custGeom>
            <a:noFill/>
            <a:ln w="25560">
              <a:solidFill>
                <a:srgbClr val="005e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 rot="16200000">
            <a:off x="812880" y="3112920"/>
            <a:ext cx="20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ovećanje utica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22360" y="1743120"/>
            <a:ext cx="153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Obavezna E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45320" y="2962440"/>
            <a:ext cx="1973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Razmatranje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Slučaj po slučaj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o potrebi E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4600" y="660240"/>
            <a:ext cx="7146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Utvrđivanje potreba u skladu s Direktivom EC o proceni uticaja na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ž</a:t>
            </a:r>
            <a:r>
              <a:rPr b="1" lang="sr-Latn-CS" sz="2800" spc="-1" strike="noStrike">
                <a:solidFill>
                  <a:srgbClr val="800000"/>
                </a:solidFill>
                <a:latin typeface="Arial"/>
              </a:rPr>
              <a:t>ivotnu sredinu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246384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259920" indent="-25992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Obavezna primena: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u Aneksu I uz Direktivu EC o PUŽS, navedeni su projekti za koje se uvek zahteva obavljanje procene dejstava na životnu sredinu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59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59920" indent="-25992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Primena po slobodnoj oceni: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Kod projekata navedenih u Aneksu II zahteva se utvrđivanje potrebe putem ispitivanja od slučaja do slučaja ili pozivanjem na početne (osnovne) kriterijume koje je ustanovila država-članica ('početni kriterijum' je ona vrednost kojom se označava početak ili prag datog uticaja – prim. prevodioca). Kod ovakvog postupka potrebno je uzeti u obzir sledeće kriterijume navedene u Aneksu III:  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27920" indent="-294840">
              <a:lnSpc>
                <a:spcPct val="70000"/>
              </a:lnSpc>
              <a:spcBef>
                <a:spcPts val="400"/>
              </a:spcBef>
              <a:buClr>
                <a:srgbClr val="8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karakteristike projekta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27920" indent="-294840">
              <a:lnSpc>
                <a:spcPct val="70000"/>
              </a:lnSpc>
              <a:spcBef>
                <a:spcPts val="400"/>
              </a:spcBef>
              <a:buClr>
                <a:srgbClr val="8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lokacija projekta i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27920" indent="-294840">
              <a:lnSpc>
                <a:spcPct val="70000"/>
              </a:lnSpc>
              <a:spcBef>
                <a:spcPts val="400"/>
              </a:spcBef>
              <a:buClr>
                <a:srgbClr val="8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karakteristike mogućih dejstava na životnu sredinu.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59920" indent="-25992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Rezultati postupka utvrđivanja potrebe u slučaju pojekata navedenih u Aneksu II moraju biti dostupni javnosti (član 2.4).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5160" y="731880"/>
            <a:ext cx="746748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800000"/>
                </a:solidFill>
                <a:latin typeface="Arial"/>
              </a:rPr>
              <a:t>Pristup utvrđivanju potreba nazvan 'semafor' (primer primenjivanja Direktive EC o proceni uticaja na životnu sredinu)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22440" y="2349360"/>
            <a:ext cx="2298600" cy="2921040"/>
            <a:chOff x="622440" y="2349360"/>
            <a:chExt cx="2298600" cy="2921040"/>
          </a:xfrm>
        </p:grpSpPr>
        <p:sp>
          <p:nvSpPr>
            <p:cNvPr id="152" name=""/>
            <p:cNvSpPr/>
            <p:nvPr/>
          </p:nvSpPr>
          <p:spPr>
            <a:xfrm>
              <a:off x="622440" y="4292640"/>
              <a:ext cx="2298600" cy="977760"/>
            </a:xfrm>
            <a:prstGeom prst="rect">
              <a:avLst/>
            </a:prstGeom>
            <a:solidFill>
              <a:srgbClr val="66b4a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2440" y="2349360"/>
              <a:ext cx="2298600" cy="990720"/>
            </a:xfrm>
            <a:prstGeom prst="rect">
              <a:avLst/>
            </a:prstGeom>
            <a:solidFill>
              <a:srgbClr val="ff9c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2440" y="3327480"/>
              <a:ext cx="2298600" cy="977760"/>
            </a:xfrm>
            <a:prstGeom prst="rect">
              <a:avLst/>
            </a:prstGeom>
            <a:solidFill>
              <a:srgbClr val="ffec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378240" y="2349360"/>
            <a:ext cx="2311200" cy="2921040"/>
            <a:chOff x="3378240" y="2349360"/>
            <a:chExt cx="2311200" cy="2921040"/>
          </a:xfrm>
        </p:grpSpPr>
        <p:sp>
          <p:nvSpPr>
            <p:cNvPr id="156" name=""/>
            <p:cNvSpPr/>
            <p:nvPr/>
          </p:nvSpPr>
          <p:spPr>
            <a:xfrm>
              <a:off x="3378240" y="4292640"/>
              <a:ext cx="2311200" cy="977760"/>
            </a:xfrm>
            <a:prstGeom prst="rect">
              <a:avLst/>
            </a:prstGeom>
            <a:solidFill>
              <a:srgbClr val="66b4a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378240" y="2349360"/>
              <a:ext cx="2311200" cy="990720"/>
            </a:xfrm>
            <a:prstGeom prst="rect">
              <a:avLst/>
            </a:prstGeom>
            <a:solidFill>
              <a:srgbClr val="ff9c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78240" y="3327480"/>
              <a:ext cx="2311200" cy="977760"/>
            </a:xfrm>
            <a:prstGeom prst="rect">
              <a:avLst/>
            </a:prstGeom>
            <a:solidFill>
              <a:srgbClr val="ffec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6134040" y="2349360"/>
            <a:ext cx="2298600" cy="2921040"/>
            <a:chOff x="6134040" y="2349360"/>
            <a:chExt cx="2298600" cy="2921040"/>
          </a:xfrm>
        </p:grpSpPr>
        <p:sp>
          <p:nvSpPr>
            <p:cNvPr id="160" name=""/>
            <p:cNvSpPr/>
            <p:nvPr/>
          </p:nvSpPr>
          <p:spPr>
            <a:xfrm>
              <a:off x="6134040" y="4292640"/>
              <a:ext cx="2298600" cy="977760"/>
            </a:xfrm>
            <a:prstGeom prst="rect">
              <a:avLst/>
            </a:prstGeom>
            <a:solidFill>
              <a:srgbClr val="66b4a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134040" y="2349360"/>
              <a:ext cx="2298600" cy="990720"/>
            </a:xfrm>
            <a:prstGeom prst="rect">
              <a:avLst/>
            </a:prstGeom>
            <a:solidFill>
              <a:srgbClr val="ff9c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34040" y="3327480"/>
              <a:ext cx="2298600" cy="977760"/>
            </a:xfrm>
            <a:prstGeom prst="rect">
              <a:avLst/>
            </a:prstGeom>
            <a:solidFill>
              <a:srgbClr val="ffec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71720" y="3733920"/>
            <a:ext cx="1347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ndikativni ili vodeć</a:t>
            </a:r>
            <a:br>
              <a:rPr sz="1200"/>
            </a:b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 pragovi i kriteriju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08360" y="2679840"/>
            <a:ext cx="1399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Uključivi ili obavezni </a:t>
            </a:r>
            <a:br>
              <a:rPr sz="1200"/>
            </a:b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pragovi i kriteriju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87280" y="4572000"/>
            <a:ext cx="1154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sključivi pragovi </a:t>
            </a:r>
            <a:br>
              <a:rPr sz="1200"/>
            </a:b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li kriteriju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45080" y="2743200"/>
            <a:ext cx="1590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EIA (P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ž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) je potreb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73440" y="4618080"/>
            <a:ext cx="173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Nije potrebna EIA (P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ž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589440" y="2590920"/>
            <a:ext cx="1477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npr. projekti iz </a:t>
            </a:r>
            <a:br>
              <a:rPr sz="1200"/>
            </a:b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Aneksa i Direktive E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50760" y="4370400"/>
            <a:ext cx="1811160" cy="7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npr. projekti sa li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Aneksa II koji nemaju značajan </a:t>
            </a:r>
            <a:br>
              <a:rPr sz="1000"/>
            </a:b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uticaj n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ž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ivotnu sredinu + vojni </a:t>
            </a:r>
            <a:br>
              <a:rPr sz="1000"/>
            </a:b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projekti koji su isključeni </a:t>
            </a:r>
            <a:br>
              <a:rPr sz="1000"/>
            </a:b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iz procesa EIA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(PU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ž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45080" y="3703680"/>
            <a:ext cx="1590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EIA (P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ž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) je potreb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46360" y="3460680"/>
            <a:ext cx="21646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npr. projekti sa liste Aneksa II, </a:t>
            </a:r>
            <a:br>
              <a:rPr sz="1200"/>
            </a:b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osim onih isključivih koji trebaju </a:t>
            </a:r>
            <a:br>
              <a:rPr sz="1200"/>
            </a:b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proć i procenu prema </a:t>
            </a:r>
            <a:br>
              <a:rPr sz="1200"/>
            </a:b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kriterijumima Aneksa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37760" y="7300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800000"/>
                </a:solidFill>
                <a:latin typeface="Arial"/>
              </a:rPr>
              <a:t>Utvrđivanje potreba u skladu sa Uputstvima EC o utvrđivanju potreba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840120" y="1701720"/>
            <a:ext cx="2059200" cy="749520"/>
            <a:chOff x="3840120" y="1701720"/>
            <a:chExt cx="2059200" cy="749520"/>
          </a:xfrm>
        </p:grpSpPr>
        <p:sp>
          <p:nvSpPr>
            <p:cNvPr id="174" name=""/>
            <p:cNvSpPr/>
            <p:nvPr/>
          </p:nvSpPr>
          <p:spPr>
            <a:xfrm>
              <a:off x="3865680" y="1727280"/>
              <a:ext cx="2033640" cy="723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840120" y="1701720"/>
              <a:ext cx="2033640" cy="723960"/>
            </a:xfrm>
            <a:prstGeom prst="rect">
              <a:avLst/>
            </a:prstGeom>
            <a:solidFill>
              <a:srgbClr val="dee4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3891240" y="1784520"/>
            <a:ext cx="16938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Da li će projekat </a:t>
            </a:r>
            <a:br>
              <a:rPr sz="1200"/>
            </a:b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imati značajan </a:t>
            </a:r>
            <a:br>
              <a:rPr sz="1200"/>
            </a:b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efekt prema Natura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791480" y="2158920"/>
            <a:ext cx="1092240" cy="419040"/>
            <a:chOff x="7791480" y="2158920"/>
            <a:chExt cx="1092240" cy="419040"/>
          </a:xfrm>
        </p:grpSpPr>
        <p:sp>
          <p:nvSpPr>
            <p:cNvPr id="178" name=""/>
            <p:cNvSpPr/>
            <p:nvPr/>
          </p:nvSpPr>
          <p:spPr>
            <a:xfrm>
              <a:off x="7804080" y="2171880"/>
              <a:ext cx="1079640" cy="406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791480" y="2158920"/>
              <a:ext cx="1079640" cy="393840"/>
            </a:xfrm>
            <a:prstGeom prst="rect">
              <a:avLst/>
            </a:prstGeom>
            <a:solidFill>
              <a:srgbClr val="dee4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7791480" y="1701720"/>
            <a:ext cx="1092240" cy="419040"/>
            <a:chOff x="7791480" y="1701720"/>
            <a:chExt cx="1092240" cy="419040"/>
          </a:xfrm>
        </p:grpSpPr>
        <p:sp>
          <p:nvSpPr>
            <p:cNvPr id="181" name=""/>
            <p:cNvSpPr/>
            <p:nvPr/>
          </p:nvSpPr>
          <p:spPr>
            <a:xfrm>
              <a:off x="7804080" y="1714680"/>
              <a:ext cx="1079640" cy="406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791480" y="1701720"/>
              <a:ext cx="1079640" cy="406440"/>
            </a:xfrm>
            <a:prstGeom prst="rect">
              <a:avLst/>
            </a:prstGeom>
            <a:solidFill>
              <a:srgbClr val="dee4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7804080" y="2844720"/>
            <a:ext cx="1079640" cy="406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91480" y="2832120"/>
            <a:ext cx="1079640" cy="393840"/>
          </a:xfrm>
          <a:prstGeom prst="rect">
            <a:avLst/>
          </a:prstGeom>
          <a:solidFill>
            <a:srgbClr val="dee4e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006760" y="2851200"/>
            <a:ext cx="605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EIA </a:t>
            </a:r>
            <a:br>
              <a:rPr sz="1200"/>
            </a:b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potreb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7791480" y="3809880"/>
            <a:ext cx="1092240" cy="432000"/>
            <a:chOff x="7791480" y="3809880"/>
            <a:chExt cx="1092240" cy="432000"/>
          </a:xfrm>
        </p:grpSpPr>
        <p:sp>
          <p:nvSpPr>
            <p:cNvPr id="187" name=""/>
            <p:cNvSpPr/>
            <p:nvPr/>
          </p:nvSpPr>
          <p:spPr>
            <a:xfrm>
              <a:off x="7804080" y="3835440"/>
              <a:ext cx="1079640" cy="4064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791480" y="3809880"/>
              <a:ext cx="1079640" cy="406440"/>
            </a:xfrm>
            <a:prstGeom prst="rect">
              <a:avLst/>
            </a:prstGeom>
            <a:solidFill>
              <a:srgbClr val="dee4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7926120" y="3854520"/>
            <a:ext cx="88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EIA </a:t>
            </a:r>
            <a:br>
              <a:rPr sz="1200"/>
            </a:b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nije potreb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7791480" y="4737240"/>
            <a:ext cx="1092240" cy="431640"/>
            <a:chOff x="7791480" y="4737240"/>
            <a:chExt cx="1092240" cy="431640"/>
          </a:xfrm>
        </p:grpSpPr>
        <p:sp>
          <p:nvSpPr>
            <p:cNvPr id="191" name=""/>
            <p:cNvSpPr/>
            <p:nvPr/>
          </p:nvSpPr>
          <p:spPr>
            <a:xfrm>
              <a:off x="7804080" y="4762440"/>
              <a:ext cx="1079640" cy="4064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91480" y="4737240"/>
              <a:ext cx="1079640" cy="406440"/>
            </a:xfrm>
            <a:prstGeom prst="rect">
              <a:avLst/>
            </a:prstGeom>
            <a:solidFill>
              <a:srgbClr val="dee4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8021160" y="4730760"/>
            <a:ext cx="60588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E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potreb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7791480" y="5168880"/>
            <a:ext cx="1092240" cy="419040"/>
            <a:chOff x="7791480" y="5168880"/>
            <a:chExt cx="1092240" cy="419040"/>
          </a:xfrm>
        </p:grpSpPr>
        <p:sp>
          <p:nvSpPr>
            <p:cNvPr id="195" name=""/>
            <p:cNvSpPr/>
            <p:nvPr/>
          </p:nvSpPr>
          <p:spPr>
            <a:xfrm>
              <a:off x="7804080" y="5181480"/>
              <a:ext cx="1079640" cy="4064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791480" y="5168880"/>
              <a:ext cx="1079640" cy="406440"/>
            </a:xfrm>
            <a:prstGeom prst="rect">
              <a:avLst/>
            </a:prstGeom>
            <a:solidFill>
              <a:srgbClr val="dee4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7886520" y="5172120"/>
            <a:ext cx="88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EIA </a:t>
            </a:r>
            <a:br>
              <a:rPr sz="1200"/>
            </a:b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nije potreb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3141720" y="5537160"/>
            <a:ext cx="3290760" cy="292320"/>
            <a:chOff x="3141720" y="5537160"/>
            <a:chExt cx="3290760" cy="292320"/>
          </a:xfrm>
        </p:grpSpPr>
        <p:sp>
          <p:nvSpPr>
            <p:cNvPr id="199" name=""/>
            <p:cNvSpPr/>
            <p:nvPr/>
          </p:nvSpPr>
          <p:spPr>
            <a:xfrm>
              <a:off x="3179880" y="5549760"/>
              <a:ext cx="3252600" cy="279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141720" y="5537160"/>
              <a:ext cx="3252600" cy="279360"/>
            </a:xfrm>
            <a:prstGeom prst="rect">
              <a:avLst/>
            </a:prstGeom>
            <a:solidFill>
              <a:srgbClr val="dee4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3882600" y="5578560"/>
            <a:ext cx="1980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339933"/>
                </a:solidFill>
                <a:latin typeface="Arial"/>
              </a:rPr>
              <a:t>Korak 5 :</a:t>
            </a: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  Bel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ž</a:t>
            </a:r>
            <a:r>
              <a:rPr b="1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enje odlu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11120" y="2666880"/>
            <a:ext cx="3137040" cy="774720"/>
            <a:chOff x="411120" y="2666880"/>
            <a:chExt cx="3137040" cy="774720"/>
          </a:xfrm>
        </p:grpSpPr>
        <p:sp>
          <p:nvSpPr>
            <p:cNvPr id="203" name=""/>
            <p:cNvSpPr/>
            <p:nvPr/>
          </p:nvSpPr>
          <p:spPr>
            <a:xfrm>
              <a:off x="449280" y="2705040"/>
              <a:ext cx="3098880" cy="7365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1120" y="2666880"/>
              <a:ext cx="3098880" cy="736560"/>
            </a:xfrm>
            <a:prstGeom prst="rect">
              <a:avLst/>
            </a:prstGeom>
            <a:solidFill>
              <a:srgbClr val="dee4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484560" y="2774880"/>
            <a:ext cx="27453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339933"/>
                </a:solidFill>
                <a:latin typeface="Arial"/>
              </a:rPr>
              <a:t>Korak 2:</a:t>
            </a:r>
            <a:r>
              <a:rPr b="0" lang="sr-Latn-CS" sz="1200" spc="-1" strike="noStrike">
                <a:solidFill>
                  <a:srgbClr val="339933"/>
                </a:solidFill>
                <a:latin typeface="Arial"/>
              </a:rPr>
              <a:t> </a:t>
            </a:r>
            <a:br>
              <a:rPr sz="1200"/>
            </a:b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Da li se projekat nalazi na listi za koje je </a:t>
            </a:r>
            <a:br>
              <a:rPr sz="1200"/>
            </a:b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obavezna EIA  po zakonima zemlj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411120" y="3657600"/>
            <a:ext cx="3137040" cy="774720"/>
            <a:chOff x="411120" y="3657600"/>
            <a:chExt cx="3137040" cy="774720"/>
          </a:xfrm>
        </p:grpSpPr>
        <p:sp>
          <p:nvSpPr>
            <p:cNvPr id="207" name=""/>
            <p:cNvSpPr/>
            <p:nvPr/>
          </p:nvSpPr>
          <p:spPr>
            <a:xfrm>
              <a:off x="449280" y="3695760"/>
              <a:ext cx="3098880" cy="7365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11120" y="3657600"/>
              <a:ext cx="3098880" cy="736560"/>
            </a:xfrm>
            <a:prstGeom prst="rect">
              <a:avLst/>
            </a:prstGeom>
            <a:solidFill>
              <a:srgbClr val="dee4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486000" y="3676680"/>
            <a:ext cx="27698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339933"/>
                </a:solidFill>
                <a:latin typeface="Arial"/>
              </a:rPr>
              <a:t>Korak 3:</a:t>
            </a:r>
            <a:r>
              <a:rPr b="0" lang="sr-Latn-CS" sz="1200" spc="-1" strike="noStrike">
                <a:solidFill>
                  <a:srgbClr val="339933"/>
                </a:solidFill>
                <a:latin typeface="Arial"/>
              </a:rPr>
              <a:t> </a:t>
            </a:r>
            <a:br>
              <a:rPr sz="1200"/>
            </a:b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Da li se projekat nalazi na tzv. Isključivoj </a:t>
            </a:r>
            <a:br>
              <a:rPr sz="1200"/>
            </a:b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listi tj na listi na kojoj se nalaze projekti </a:t>
            </a:r>
            <a:br>
              <a:rPr sz="1200"/>
            </a:b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koji su izuzeti od  E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411120" y="4686480"/>
            <a:ext cx="3200400" cy="774360"/>
            <a:chOff x="411120" y="4686480"/>
            <a:chExt cx="3200400" cy="774360"/>
          </a:xfrm>
        </p:grpSpPr>
        <p:sp>
          <p:nvSpPr>
            <p:cNvPr id="211" name=""/>
            <p:cNvSpPr/>
            <p:nvPr/>
          </p:nvSpPr>
          <p:spPr>
            <a:xfrm>
              <a:off x="449280" y="4711680"/>
              <a:ext cx="3162240" cy="7491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1120" y="4686480"/>
              <a:ext cx="3162240" cy="736560"/>
            </a:xfrm>
            <a:prstGeom prst="rect">
              <a:avLst/>
            </a:prstGeom>
            <a:solidFill>
              <a:srgbClr val="dee4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458640" y="4800600"/>
            <a:ext cx="274716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339933"/>
                </a:solidFill>
                <a:latin typeface="Arial"/>
              </a:rPr>
              <a:t>Korak 4: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Razmatranj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Sluč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po sluč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“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i da li će </a:t>
            </a:r>
            <a:br>
              <a:rPr sz="1200"/>
            </a:b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projekat imati značajan uticaj n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ž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ivotnu </a:t>
            </a:r>
            <a:br>
              <a:rPr sz="1200"/>
            </a:br>
            <a:r>
              <a:rPr b="0" lang="sr-Latn-CS" sz="1200" spc="-1" strike="noStrike">
                <a:solidFill>
                  <a:srgbClr val="000000"/>
                </a:solidFill>
                <a:latin typeface="Arial"/>
                <a:ea typeface="Arial"/>
              </a:rPr>
              <a:t>sredin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80880" y="1689120"/>
            <a:ext cx="1625760" cy="774720"/>
            <a:chOff x="380880" y="1689120"/>
            <a:chExt cx="1625760" cy="774720"/>
          </a:xfrm>
        </p:grpSpPr>
        <p:sp>
          <p:nvSpPr>
            <p:cNvPr id="215" name=""/>
            <p:cNvSpPr/>
            <p:nvPr/>
          </p:nvSpPr>
          <p:spPr>
            <a:xfrm>
              <a:off x="406440" y="1727280"/>
              <a:ext cx="1600200" cy="7365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0880" y="1689120"/>
              <a:ext cx="1612800" cy="736560"/>
            </a:xfrm>
            <a:prstGeom prst="rect">
              <a:avLst/>
            </a:prstGeom>
            <a:solidFill>
              <a:srgbClr val="dee4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438120" y="1676520"/>
            <a:ext cx="16956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339933"/>
                </a:solidFill>
                <a:latin typeface="Arial"/>
              </a:rPr>
              <a:t>Korak 1: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Da li se projekat nalazi u Aneksu I ili I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633760" y="1981080"/>
            <a:ext cx="215640" cy="177840"/>
          </a:xfrm>
          <a:custGeom>
            <a:avLst/>
            <a:gdLst/>
            <a:ahLst/>
            <a:rect l="l" t="t" r="r" b="b"/>
            <a:pathLst>
              <a:path w="136" h="112">
                <a:moveTo>
                  <a:pt x="0" y="56"/>
                </a:moveTo>
                <a:lnTo>
                  <a:pt x="0" y="56"/>
                </a:lnTo>
                <a:lnTo>
                  <a:pt x="0" y="0"/>
                </a:lnTo>
                <a:lnTo>
                  <a:pt x="136" y="56"/>
                </a:lnTo>
                <a:lnTo>
                  <a:pt x="0" y="112"/>
                </a:lnTo>
                <a:lnTo>
                  <a:pt x="0" y="56"/>
                </a:lnTo>
                <a:close/>
              </a:path>
            </a:pathLst>
          </a:custGeom>
          <a:solidFill>
            <a:srgbClr val="005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17800" y="2062080"/>
            <a:ext cx="635040" cy="360"/>
          </a:xfrm>
          <a:prstGeom prst="rect">
            <a:avLst/>
          </a:prstGeom>
          <a:noFill/>
          <a:ln w="50760">
            <a:solidFill>
              <a:srgbClr val="005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11520" y="1981080"/>
            <a:ext cx="228600" cy="177840"/>
          </a:xfrm>
          <a:custGeom>
            <a:avLst/>
            <a:gdLst/>
            <a:ahLst/>
            <a:rect l="l" t="t" r="r" b="b"/>
            <a:pathLst>
              <a:path w="144" h="112">
                <a:moveTo>
                  <a:pt x="0" y="56"/>
                </a:moveTo>
                <a:lnTo>
                  <a:pt x="0" y="56"/>
                </a:lnTo>
                <a:lnTo>
                  <a:pt x="0" y="0"/>
                </a:lnTo>
                <a:lnTo>
                  <a:pt x="144" y="56"/>
                </a:lnTo>
                <a:lnTo>
                  <a:pt x="0" y="112"/>
                </a:lnTo>
                <a:lnTo>
                  <a:pt x="0" y="56"/>
                </a:lnTo>
                <a:close/>
              </a:path>
            </a:pathLst>
          </a:custGeom>
          <a:solidFill>
            <a:srgbClr val="005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16160" y="2066760"/>
            <a:ext cx="507960" cy="360"/>
          </a:xfrm>
          <a:prstGeom prst="rect">
            <a:avLst/>
          </a:prstGeom>
          <a:noFill/>
          <a:ln w="50760">
            <a:solidFill>
              <a:srgbClr val="005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715120" y="194940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6576840" y="2216160"/>
            <a:ext cx="460080" cy="213480"/>
            <a:chOff x="6576840" y="2216160"/>
            <a:chExt cx="460080" cy="213480"/>
          </a:xfrm>
        </p:grpSpPr>
        <p:sp>
          <p:nvSpPr>
            <p:cNvPr id="224" name=""/>
            <p:cNvSpPr/>
            <p:nvPr/>
          </p:nvSpPr>
          <p:spPr>
            <a:xfrm>
              <a:off x="6576840" y="22161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45960" y="2216160"/>
              <a:ext cx="39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000000"/>
                  </a:solidFill>
                  <a:latin typeface="Arial"/>
                </a:rPr>
                <a:t>→ </a:t>
              </a:r>
              <a:r>
                <a:rPr b="0" lang="sr-Latn-CS" sz="1200" spc="-1" strike="noStrike">
                  <a:solidFill>
                    <a:srgbClr val="000000"/>
                  </a:solidFill>
                  <a:latin typeface="Arial"/>
                </a:rPr>
                <a:t>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6620400" y="178452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356520" y="1816200"/>
            <a:ext cx="215640" cy="177840"/>
          </a:xfrm>
          <a:custGeom>
            <a:avLst/>
            <a:gdLst/>
            <a:ahLst/>
            <a:rect l="l" t="t" r="r" b="b"/>
            <a:pathLst>
              <a:path w="136" h="112">
                <a:moveTo>
                  <a:pt x="0" y="56"/>
                </a:moveTo>
                <a:lnTo>
                  <a:pt x="0" y="56"/>
                </a:lnTo>
                <a:lnTo>
                  <a:pt x="0" y="0"/>
                </a:lnTo>
                <a:lnTo>
                  <a:pt x="136" y="56"/>
                </a:lnTo>
                <a:lnTo>
                  <a:pt x="0" y="112"/>
                </a:lnTo>
                <a:lnTo>
                  <a:pt x="0" y="56"/>
                </a:lnTo>
                <a:close/>
              </a:path>
            </a:pathLst>
          </a:custGeom>
          <a:solidFill>
            <a:srgbClr val="005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00760" y="1911240"/>
            <a:ext cx="507960" cy="360"/>
          </a:xfrm>
          <a:prstGeom prst="rect">
            <a:avLst/>
          </a:prstGeom>
          <a:noFill/>
          <a:ln w="50760">
            <a:solidFill>
              <a:srgbClr val="005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69120" y="2247840"/>
            <a:ext cx="216000" cy="177840"/>
          </a:xfrm>
          <a:custGeom>
            <a:avLst/>
            <a:gdLst/>
            <a:ahLst/>
            <a:rect l="l" t="t" r="r" b="b"/>
            <a:pathLst>
              <a:path w="136" h="112">
                <a:moveTo>
                  <a:pt x="0" y="56"/>
                </a:moveTo>
                <a:lnTo>
                  <a:pt x="0" y="56"/>
                </a:lnTo>
                <a:lnTo>
                  <a:pt x="0" y="0"/>
                </a:lnTo>
                <a:lnTo>
                  <a:pt x="136" y="56"/>
                </a:lnTo>
                <a:lnTo>
                  <a:pt x="0" y="112"/>
                </a:lnTo>
                <a:lnTo>
                  <a:pt x="0" y="56"/>
                </a:lnTo>
                <a:close/>
              </a:path>
            </a:pathLst>
          </a:custGeom>
          <a:solidFill>
            <a:srgbClr val="005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00760" y="2343240"/>
            <a:ext cx="520560" cy="360"/>
          </a:xfrm>
          <a:prstGeom prst="rect">
            <a:avLst/>
          </a:prstGeom>
          <a:noFill/>
          <a:ln w="50760">
            <a:solidFill>
              <a:srgbClr val="005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537320" y="2247840"/>
            <a:ext cx="216000" cy="177840"/>
          </a:xfrm>
          <a:custGeom>
            <a:avLst/>
            <a:gdLst/>
            <a:ahLst/>
            <a:rect l="l" t="t" r="r" b="b"/>
            <a:pathLst>
              <a:path w="136" h="112">
                <a:moveTo>
                  <a:pt x="0" y="56"/>
                </a:moveTo>
                <a:lnTo>
                  <a:pt x="0" y="56"/>
                </a:lnTo>
                <a:lnTo>
                  <a:pt x="0" y="0"/>
                </a:lnTo>
                <a:lnTo>
                  <a:pt x="136" y="56"/>
                </a:lnTo>
                <a:lnTo>
                  <a:pt x="0" y="112"/>
                </a:lnTo>
                <a:lnTo>
                  <a:pt x="0" y="56"/>
                </a:lnTo>
                <a:close/>
              </a:path>
            </a:pathLst>
          </a:custGeom>
          <a:solidFill>
            <a:srgbClr val="005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153200" y="2336760"/>
            <a:ext cx="432000" cy="360"/>
          </a:xfrm>
          <a:prstGeom prst="rect">
            <a:avLst/>
          </a:prstGeom>
          <a:noFill/>
          <a:ln w="50760">
            <a:solidFill>
              <a:srgbClr val="005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537320" y="1816200"/>
            <a:ext cx="228600" cy="177840"/>
          </a:xfrm>
          <a:custGeom>
            <a:avLst/>
            <a:gdLst/>
            <a:ahLst/>
            <a:rect l="l" t="t" r="r" b="b"/>
            <a:pathLst>
              <a:path w="144" h="112">
                <a:moveTo>
                  <a:pt x="0" y="56"/>
                </a:moveTo>
                <a:lnTo>
                  <a:pt x="0" y="56"/>
                </a:lnTo>
                <a:lnTo>
                  <a:pt x="0" y="0"/>
                </a:lnTo>
                <a:lnTo>
                  <a:pt x="144" y="56"/>
                </a:lnTo>
                <a:lnTo>
                  <a:pt x="0" y="112"/>
                </a:lnTo>
                <a:lnTo>
                  <a:pt x="0" y="56"/>
                </a:lnTo>
                <a:close/>
              </a:path>
            </a:pathLst>
          </a:custGeom>
          <a:solidFill>
            <a:srgbClr val="005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149960" y="1898640"/>
            <a:ext cx="508320" cy="360"/>
          </a:xfrm>
          <a:prstGeom prst="rect">
            <a:avLst/>
          </a:prstGeom>
          <a:noFill/>
          <a:ln w="50760">
            <a:solidFill>
              <a:srgbClr val="005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400800" y="2971800"/>
            <a:ext cx="228600" cy="177840"/>
          </a:xfrm>
          <a:custGeom>
            <a:avLst/>
            <a:gdLst/>
            <a:ahLst/>
            <a:rect l="l" t="t" r="r" b="b"/>
            <a:pathLst>
              <a:path w="144" h="112">
                <a:moveTo>
                  <a:pt x="0" y="56"/>
                </a:moveTo>
                <a:lnTo>
                  <a:pt x="0" y="56"/>
                </a:lnTo>
                <a:lnTo>
                  <a:pt x="0" y="0"/>
                </a:lnTo>
                <a:lnTo>
                  <a:pt x="144" y="56"/>
                </a:lnTo>
                <a:lnTo>
                  <a:pt x="0" y="112"/>
                </a:lnTo>
                <a:lnTo>
                  <a:pt x="0" y="56"/>
                </a:lnTo>
                <a:close/>
              </a:path>
            </a:pathLst>
          </a:custGeom>
          <a:solidFill>
            <a:srgbClr val="005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529080" y="3060000"/>
            <a:ext cx="2914560" cy="11160"/>
          </a:xfrm>
          <a:prstGeom prst="rect">
            <a:avLst/>
          </a:prstGeom>
          <a:noFill/>
          <a:ln w="50760">
            <a:solidFill>
              <a:srgbClr val="005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550280" y="2933640"/>
            <a:ext cx="228600" cy="177840"/>
          </a:xfrm>
          <a:custGeom>
            <a:avLst/>
            <a:gdLst/>
            <a:ahLst/>
            <a:rect l="l" t="t" r="r" b="b"/>
            <a:pathLst>
              <a:path w="144" h="112">
                <a:moveTo>
                  <a:pt x="0" y="56"/>
                </a:moveTo>
                <a:lnTo>
                  <a:pt x="0" y="56"/>
                </a:lnTo>
                <a:lnTo>
                  <a:pt x="0" y="0"/>
                </a:lnTo>
                <a:lnTo>
                  <a:pt x="144" y="56"/>
                </a:lnTo>
                <a:lnTo>
                  <a:pt x="0" y="112"/>
                </a:lnTo>
                <a:lnTo>
                  <a:pt x="0" y="56"/>
                </a:lnTo>
                <a:close/>
              </a:path>
            </a:pathLst>
          </a:custGeom>
          <a:solidFill>
            <a:srgbClr val="005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162920" y="3029040"/>
            <a:ext cx="468360" cy="360"/>
          </a:xfrm>
          <a:prstGeom prst="rect">
            <a:avLst/>
          </a:prstGeom>
          <a:noFill/>
          <a:ln w="50760">
            <a:solidFill>
              <a:srgbClr val="005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627600" y="2914560"/>
            <a:ext cx="460080" cy="213480"/>
            <a:chOff x="6627600" y="2914560"/>
            <a:chExt cx="460080" cy="213480"/>
          </a:xfrm>
        </p:grpSpPr>
        <p:sp>
          <p:nvSpPr>
            <p:cNvPr id="240" name=""/>
            <p:cNvSpPr/>
            <p:nvPr/>
          </p:nvSpPr>
          <p:spPr>
            <a:xfrm>
              <a:off x="6627600" y="291456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696720" y="2914560"/>
              <a:ext cx="39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200" spc="-1" strike="noStrike">
                  <a:solidFill>
                    <a:srgbClr val="000000"/>
                  </a:solidFill>
                  <a:latin typeface="Arial"/>
                </a:rPr>
                <a:t>→ </a:t>
              </a:r>
              <a:r>
                <a:rPr b="0" lang="sr-Latn-CS" sz="1200" spc="-1" strike="noStrike">
                  <a:solidFill>
                    <a:srgbClr val="000000"/>
                  </a:solidFill>
                  <a:latin typeface="Arial"/>
                </a:rPr>
                <a:t>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6419880" y="3911760"/>
            <a:ext cx="209520" cy="177480"/>
          </a:xfrm>
          <a:custGeom>
            <a:avLst/>
            <a:gdLst/>
            <a:ahLst/>
            <a:rect l="l" t="t" r="r" b="b"/>
            <a:pathLst>
              <a:path w="136" h="112">
                <a:moveTo>
                  <a:pt x="0" y="56"/>
                </a:moveTo>
                <a:lnTo>
                  <a:pt x="0" y="56"/>
                </a:lnTo>
                <a:lnTo>
                  <a:pt x="0" y="0"/>
                </a:lnTo>
                <a:lnTo>
                  <a:pt x="136" y="56"/>
                </a:lnTo>
                <a:lnTo>
                  <a:pt x="0" y="112"/>
                </a:lnTo>
                <a:lnTo>
                  <a:pt x="0" y="56"/>
                </a:lnTo>
                <a:close/>
              </a:path>
            </a:pathLst>
          </a:custGeom>
          <a:solidFill>
            <a:srgbClr val="005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32320" y="4002120"/>
            <a:ext cx="2935080" cy="360"/>
          </a:xfrm>
          <a:prstGeom prst="rect">
            <a:avLst/>
          </a:prstGeom>
          <a:noFill/>
          <a:ln w="50760">
            <a:solidFill>
              <a:srgbClr val="005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570800" y="3911760"/>
            <a:ext cx="182520" cy="177480"/>
          </a:xfrm>
          <a:custGeom>
            <a:avLst/>
            <a:gdLst/>
            <a:ahLst/>
            <a:rect l="l" t="t" r="r" b="b"/>
            <a:pathLst>
              <a:path w="144" h="112">
                <a:moveTo>
                  <a:pt x="0" y="56"/>
                </a:moveTo>
                <a:lnTo>
                  <a:pt x="0" y="56"/>
                </a:lnTo>
                <a:lnTo>
                  <a:pt x="0" y="0"/>
                </a:lnTo>
                <a:lnTo>
                  <a:pt x="144" y="56"/>
                </a:lnTo>
                <a:lnTo>
                  <a:pt x="0" y="112"/>
                </a:lnTo>
                <a:lnTo>
                  <a:pt x="0" y="56"/>
                </a:lnTo>
                <a:close/>
              </a:path>
            </a:pathLst>
          </a:custGeom>
          <a:solidFill>
            <a:srgbClr val="005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162920" y="3997440"/>
            <a:ext cx="407880" cy="360"/>
          </a:xfrm>
          <a:prstGeom prst="rect">
            <a:avLst/>
          </a:prstGeom>
          <a:noFill/>
          <a:ln w="50760">
            <a:solidFill>
              <a:srgbClr val="005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71160" y="3892680"/>
            <a:ext cx="39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13400" y="4813200"/>
            <a:ext cx="216000" cy="177840"/>
          </a:xfrm>
          <a:custGeom>
            <a:avLst/>
            <a:gdLst/>
            <a:ahLst/>
            <a:rect l="l" t="t" r="r" b="b"/>
            <a:pathLst>
              <a:path w="144" h="112">
                <a:moveTo>
                  <a:pt x="0" y="56"/>
                </a:moveTo>
                <a:lnTo>
                  <a:pt x="0" y="56"/>
                </a:lnTo>
                <a:lnTo>
                  <a:pt x="0" y="0"/>
                </a:lnTo>
                <a:lnTo>
                  <a:pt x="144" y="56"/>
                </a:lnTo>
                <a:lnTo>
                  <a:pt x="0" y="112"/>
                </a:lnTo>
                <a:lnTo>
                  <a:pt x="0" y="56"/>
                </a:lnTo>
                <a:close/>
              </a:path>
            </a:pathLst>
          </a:custGeom>
          <a:solidFill>
            <a:srgbClr val="005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600360" y="4903920"/>
            <a:ext cx="2865600" cy="360"/>
          </a:xfrm>
          <a:prstGeom prst="rect">
            <a:avLst/>
          </a:prstGeom>
          <a:noFill/>
          <a:ln w="50760">
            <a:solidFill>
              <a:srgbClr val="005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62880" y="4813200"/>
            <a:ext cx="216000" cy="177840"/>
          </a:xfrm>
          <a:custGeom>
            <a:avLst/>
            <a:gdLst/>
            <a:ahLst/>
            <a:rect l="l" t="t" r="r" b="b"/>
            <a:pathLst>
              <a:path w="136" h="112">
                <a:moveTo>
                  <a:pt x="0" y="56"/>
                </a:moveTo>
                <a:lnTo>
                  <a:pt x="0" y="56"/>
                </a:lnTo>
                <a:lnTo>
                  <a:pt x="0" y="0"/>
                </a:lnTo>
                <a:lnTo>
                  <a:pt x="136" y="56"/>
                </a:lnTo>
                <a:lnTo>
                  <a:pt x="0" y="112"/>
                </a:lnTo>
                <a:lnTo>
                  <a:pt x="0" y="56"/>
                </a:lnTo>
                <a:close/>
              </a:path>
            </a:pathLst>
          </a:custGeom>
          <a:solidFill>
            <a:srgbClr val="005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169040" y="4902120"/>
            <a:ext cx="393840" cy="360"/>
          </a:xfrm>
          <a:prstGeom prst="rect">
            <a:avLst/>
          </a:prstGeom>
          <a:noFill/>
          <a:ln w="50760">
            <a:solidFill>
              <a:srgbClr val="005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96720" y="479412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13400" y="5245200"/>
            <a:ext cx="216000" cy="177840"/>
          </a:xfrm>
          <a:custGeom>
            <a:avLst/>
            <a:gdLst/>
            <a:ahLst/>
            <a:rect l="l" t="t" r="r" b="b"/>
            <a:pathLst>
              <a:path w="144" h="112">
                <a:moveTo>
                  <a:pt x="0" y="56"/>
                </a:moveTo>
                <a:lnTo>
                  <a:pt x="0" y="56"/>
                </a:lnTo>
                <a:lnTo>
                  <a:pt x="0" y="0"/>
                </a:lnTo>
                <a:lnTo>
                  <a:pt x="144" y="56"/>
                </a:lnTo>
                <a:lnTo>
                  <a:pt x="0" y="112"/>
                </a:lnTo>
                <a:lnTo>
                  <a:pt x="0" y="56"/>
                </a:lnTo>
                <a:close/>
              </a:path>
            </a:pathLst>
          </a:custGeom>
          <a:solidFill>
            <a:srgbClr val="005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595680" y="5335560"/>
            <a:ext cx="2876400" cy="360"/>
          </a:xfrm>
          <a:prstGeom prst="rect">
            <a:avLst/>
          </a:prstGeom>
          <a:noFill/>
          <a:ln w="50760">
            <a:solidFill>
              <a:srgbClr val="005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62880" y="5245200"/>
            <a:ext cx="228600" cy="177840"/>
          </a:xfrm>
          <a:custGeom>
            <a:avLst/>
            <a:gdLst/>
            <a:ahLst/>
            <a:rect l="l" t="t" r="r" b="b"/>
            <a:pathLst>
              <a:path w="144" h="112">
                <a:moveTo>
                  <a:pt x="0" y="56"/>
                </a:moveTo>
                <a:lnTo>
                  <a:pt x="0" y="56"/>
                </a:lnTo>
                <a:lnTo>
                  <a:pt x="0" y="0"/>
                </a:lnTo>
                <a:lnTo>
                  <a:pt x="144" y="56"/>
                </a:lnTo>
                <a:lnTo>
                  <a:pt x="0" y="112"/>
                </a:lnTo>
                <a:lnTo>
                  <a:pt x="0" y="56"/>
                </a:lnTo>
                <a:close/>
              </a:path>
            </a:pathLst>
          </a:custGeom>
          <a:solidFill>
            <a:srgbClr val="005e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169040" y="5334120"/>
            <a:ext cx="393840" cy="360"/>
          </a:xfrm>
          <a:prstGeom prst="rect">
            <a:avLst/>
          </a:prstGeom>
          <a:noFill/>
          <a:ln w="50760">
            <a:solidFill>
              <a:srgbClr val="005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52080" y="5226120"/>
            <a:ext cx="34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195240" y="4425840"/>
            <a:ext cx="51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38200" y="3390840"/>
            <a:ext cx="276120" cy="343080"/>
            <a:chOff x="538200" y="3390840"/>
            <a:chExt cx="276120" cy="343080"/>
          </a:xfrm>
        </p:grpSpPr>
        <p:sp>
          <p:nvSpPr>
            <p:cNvPr id="259" name=""/>
            <p:cNvSpPr/>
            <p:nvPr/>
          </p:nvSpPr>
          <p:spPr>
            <a:xfrm>
              <a:off x="547560" y="3390840"/>
              <a:ext cx="266760" cy="343080"/>
            </a:xfrm>
            <a:custGeom>
              <a:avLst/>
              <a:gdLst/>
              <a:ahLst/>
              <a:rect l="l" t="t" r="r" b="b"/>
              <a:pathLst>
                <a:path w="168" h="216">
                  <a:moveTo>
                    <a:pt x="0" y="136"/>
                  </a:moveTo>
                  <a:lnTo>
                    <a:pt x="0" y="136"/>
                  </a:lnTo>
                  <a:lnTo>
                    <a:pt x="80" y="216"/>
                  </a:lnTo>
                  <a:lnTo>
                    <a:pt x="168" y="136"/>
                  </a:lnTo>
                  <a:lnTo>
                    <a:pt x="120" y="136"/>
                  </a:lnTo>
                  <a:lnTo>
                    <a:pt x="120" y="0"/>
                  </a:lnTo>
                  <a:lnTo>
                    <a:pt x="40" y="0"/>
                  </a:lnTo>
                  <a:lnTo>
                    <a:pt x="40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7fa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38200" y="3390840"/>
              <a:ext cx="266760" cy="343080"/>
            </a:xfrm>
            <a:custGeom>
              <a:avLst/>
              <a:gdLst/>
              <a:ahLst/>
              <a:rect l="l" t="t" r="r" b="b"/>
              <a:pathLst>
                <a:path w="168" h="216">
                  <a:moveTo>
                    <a:pt x="0" y="136"/>
                  </a:moveTo>
                  <a:lnTo>
                    <a:pt x="0" y="136"/>
                  </a:lnTo>
                  <a:lnTo>
                    <a:pt x="80" y="216"/>
                  </a:lnTo>
                  <a:lnTo>
                    <a:pt x="80" y="216"/>
                  </a:lnTo>
                  <a:lnTo>
                    <a:pt x="80" y="216"/>
                  </a:lnTo>
                  <a:lnTo>
                    <a:pt x="168" y="136"/>
                  </a:lnTo>
                  <a:lnTo>
                    <a:pt x="168" y="136"/>
                  </a:lnTo>
                  <a:lnTo>
                    <a:pt x="168" y="136"/>
                  </a:lnTo>
                  <a:lnTo>
                    <a:pt x="120" y="136"/>
                  </a:lnTo>
                  <a:lnTo>
                    <a:pt x="120" y="136"/>
                  </a:lnTo>
                  <a:lnTo>
                    <a:pt x="120" y="136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120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36"/>
                  </a:lnTo>
                  <a:lnTo>
                    <a:pt x="48" y="136"/>
                  </a:lnTo>
                  <a:lnTo>
                    <a:pt x="48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0" y="136"/>
                  </a:lnTo>
                  <a:lnTo>
                    <a:pt x="80" y="216"/>
                  </a:lnTo>
                  <a:lnTo>
                    <a:pt x="168" y="136"/>
                  </a:lnTo>
                  <a:lnTo>
                    <a:pt x="120" y="136"/>
                  </a:lnTo>
                  <a:lnTo>
                    <a:pt x="120" y="0"/>
                  </a:lnTo>
                  <a:lnTo>
                    <a:pt x="40" y="0"/>
                  </a:lnTo>
                  <a:lnTo>
                    <a:pt x="40" y="136"/>
                  </a:lnTo>
                  <a:lnTo>
                    <a:pt x="0" y="136"/>
                  </a:lnTo>
                  <a:close/>
                </a:path>
              </a:pathLst>
            </a:custGeom>
            <a:noFill/>
            <a:ln w="12600">
              <a:solidFill>
                <a:srgbClr val="005e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550800" y="4381560"/>
            <a:ext cx="266760" cy="330120"/>
            <a:chOff x="550800" y="4381560"/>
            <a:chExt cx="266760" cy="330120"/>
          </a:xfrm>
        </p:grpSpPr>
        <p:sp>
          <p:nvSpPr>
            <p:cNvPr id="262" name=""/>
            <p:cNvSpPr/>
            <p:nvPr/>
          </p:nvSpPr>
          <p:spPr>
            <a:xfrm>
              <a:off x="550800" y="4381560"/>
              <a:ext cx="266760" cy="330120"/>
            </a:xfrm>
            <a:custGeom>
              <a:avLst/>
              <a:gdLst/>
              <a:ahLst/>
              <a:rect l="l" t="t" r="r" b="b"/>
              <a:pathLst>
                <a:path w="168" h="208">
                  <a:moveTo>
                    <a:pt x="0" y="120"/>
                  </a:moveTo>
                  <a:lnTo>
                    <a:pt x="0" y="120"/>
                  </a:lnTo>
                  <a:lnTo>
                    <a:pt x="88" y="208"/>
                  </a:lnTo>
                  <a:lnTo>
                    <a:pt x="168" y="120"/>
                  </a:lnTo>
                  <a:lnTo>
                    <a:pt x="128" y="120"/>
                  </a:lnTo>
                  <a:lnTo>
                    <a:pt x="128" y="0"/>
                  </a:lnTo>
                  <a:lnTo>
                    <a:pt x="48" y="0"/>
                  </a:lnTo>
                  <a:lnTo>
                    <a:pt x="48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7fa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0800" y="4381560"/>
              <a:ext cx="266760" cy="330120"/>
            </a:xfrm>
            <a:custGeom>
              <a:avLst/>
              <a:gdLst/>
              <a:ahLst/>
              <a:rect l="l" t="t" r="r" b="b"/>
              <a:pathLst>
                <a:path w="168" h="208">
                  <a:moveTo>
                    <a:pt x="0" y="120"/>
                  </a:moveTo>
                  <a:lnTo>
                    <a:pt x="0" y="120"/>
                  </a:lnTo>
                  <a:lnTo>
                    <a:pt x="88" y="208"/>
                  </a:lnTo>
                  <a:lnTo>
                    <a:pt x="88" y="208"/>
                  </a:lnTo>
                  <a:lnTo>
                    <a:pt x="88" y="208"/>
                  </a:lnTo>
                  <a:lnTo>
                    <a:pt x="168" y="120"/>
                  </a:lnTo>
                  <a:lnTo>
                    <a:pt x="168" y="120"/>
                  </a:lnTo>
                  <a:lnTo>
                    <a:pt x="168" y="120"/>
                  </a:lnTo>
                  <a:lnTo>
                    <a:pt x="128" y="120"/>
                  </a:lnTo>
                  <a:lnTo>
                    <a:pt x="128" y="120"/>
                  </a:lnTo>
                  <a:lnTo>
                    <a:pt x="128" y="12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48" y="120"/>
                  </a:lnTo>
                  <a:lnTo>
                    <a:pt x="0" y="120"/>
                  </a:lnTo>
                  <a:lnTo>
                    <a:pt x="0" y="120"/>
                  </a:lnTo>
                  <a:lnTo>
                    <a:pt x="0" y="120"/>
                  </a:lnTo>
                  <a:lnTo>
                    <a:pt x="0" y="120"/>
                  </a:lnTo>
                  <a:lnTo>
                    <a:pt x="0" y="120"/>
                  </a:lnTo>
                  <a:lnTo>
                    <a:pt x="0" y="120"/>
                  </a:lnTo>
                  <a:lnTo>
                    <a:pt x="88" y="208"/>
                  </a:lnTo>
                  <a:lnTo>
                    <a:pt x="168" y="120"/>
                  </a:lnTo>
                  <a:lnTo>
                    <a:pt x="128" y="120"/>
                  </a:lnTo>
                  <a:lnTo>
                    <a:pt x="128" y="0"/>
                  </a:lnTo>
                  <a:lnTo>
                    <a:pt x="48" y="0"/>
                  </a:lnTo>
                  <a:lnTo>
                    <a:pt x="48" y="120"/>
                  </a:lnTo>
                  <a:lnTo>
                    <a:pt x="0" y="120"/>
                  </a:lnTo>
                  <a:close/>
                </a:path>
              </a:pathLst>
            </a:custGeom>
            <a:noFill/>
            <a:ln w="12600">
              <a:solidFill>
                <a:srgbClr val="005e3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512640" y="2413080"/>
            <a:ext cx="279360" cy="342720"/>
          </a:xfrm>
          <a:custGeom>
            <a:avLst/>
            <a:gdLst/>
            <a:ahLst/>
            <a:rect l="l" t="t" r="r" b="b"/>
            <a:pathLst>
              <a:path w="176" h="216">
                <a:moveTo>
                  <a:pt x="0" y="112"/>
                </a:moveTo>
                <a:lnTo>
                  <a:pt x="0" y="112"/>
                </a:lnTo>
                <a:lnTo>
                  <a:pt x="88" y="216"/>
                </a:lnTo>
                <a:lnTo>
                  <a:pt x="176" y="112"/>
                </a:lnTo>
                <a:lnTo>
                  <a:pt x="128" y="112"/>
                </a:lnTo>
                <a:lnTo>
                  <a:pt x="128" y="0"/>
                </a:lnTo>
                <a:lnTo>
                  <a:pt x="48" y="0"/>
                </a:lnTo>
                <a:lnTo>
                  <a:pt x="48" y="112"/>
                </a:lnTo>
                <a:lnTo>
                  <a:pt x="0" y="112"/>
                </a:lnTo>
                <a:close/>
              </a:path>
            </a:pathLst>
          </a:custGeom>
          <a:solidFill>
            <a:srgbClr val="7fa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12640" y="2413080"/>
            <a:ext cx="279360" cy="355680"/>
          </a:xfrm>
          <a:custGeom>
            <a:avLst/>
            <a:gdLst/>
            <a:ahLst/>
            <a:rect l="l" t="t" r="r" b="b"/>
            <a:pathLst>
              <a:path w="176" h="224">
                <a:moveTo>
                  <a:pt x="0" y="112"/>
                </a:moveTo>
                <a:lnTo>
                  <a:pt x="0" y="112"/>
                </a:lnTo>
                <a:lnTo>
                  <a:pt x="88" y="224"/>
                </a:lnTo>
                <a:lnTo>
                  <a:pt x="88" y="224"/>
                </a:lnTo>
                <a:lnTo>
                  <a:pt x="88" y="224"/>
                </a:lnTo>
                <a:lnTo>
                  <a:pt x="176" y="112"/>
                </a:lnTo>
                <a:lnTo>
                  <a:pt x="176" y="112"/>
                </a:lnTo>
                <a:lnTo>
                  <a:pt x="176" y="112"/>
                </a:lnTo>
                <a:lnTo>
                  <a:pt x="128" y="112"/>
                </a:lnTo>
                <a:lnTo>
                  <a:pt x="128" y="112"/>
                </a:lnTo>
                <a:lnTo>
                  <a:pt x="128" y="112"/>
                </a:lnTo>
                <a:lnTo>
                  <a:pt x="128" y="0"/>
                </a:lnTo>
                <a:lnTo>
                  <a:pt x="128" y="0"/>
                </a:lnTo>
                <a:lnTo>
                  <a:pt x="128" y="0"/>
                </a:lnTo>
                <a:lnTo>
                  <a:pt x="48" y="0"/>
                </a:lnTo>
                <a:lnTo>
                  <a:pt x="48" y="0"/>
                </a:lnTo>
                <a:lnTo>
                  <a:pt x="48" y="0"/>
                </a:lnTo>
                <a:lnTo>
                  <a:pt x="48" y="112"/>
                </a:lnTo>
                <a:lnTo>
                  <a:pt x="48" y="112"/>
                </a:lnTo>
                <a:lnTo>
                  <a:pt x="48" y="112"/>
                </a:lnTo>
                <a:lnTo>
                  <a:pt x="0" y="112"/>
                </a:lnTo>
                <a:lnTo>
                  <a:pt x="0" y="112"/>
                </a:lnTo>
                <a:lnTo>
                  <a:pt x="0" y="112"/>
                </a:lnTo>
                <a:lnTo>
                  <a:pt x="0" y="112"/>
                </a:lnTo>
                <a:lnTo>
                  <a:pt x="0" y="112"/>
                </a:lnTo>
                <a:lnTo>
                  <a:pt x="0" y="112"/>
                </a:lnTo>
                <a:lnTo>
                  <a:pt x="88" y="216"/>
                </a:lnTo>
                <a:lnTo>
                  <a:pt x="176" y="112"/>
                </a:lnTo>
                <a:lnTo>
                  <a:pt x="128" y="112"/>
                </a:lnTo>
                <a:lnTo>
                  <a:pt x="128" y="0"/>
                </a:lnTo>
                <a:lnTo>
                  <a:pt x="48" y="0"/>
                </a:lnTo>
                <a:lnTo>
                  <a:pt x="48" y="112"/>
                </a:lnTo>
                <a:lnTo>
                  <a:pt x="0" y="112"/>
                </a:lnTo>
                <a:close/>
              </a:path>
            </a:pathLst>
          </a:custGeom>
          <a:noFill/>
          <a:ln w="12600">
            <a:solidFill>
              <a:srgbClr val="005e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911720" y="1739880"/>
            <a:ext cx="886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EIA </a:t>
            </a:r>
            <a:br>
              <a:rPr sz="1200"/>
            </a:b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nije potreb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070480" y="2158920"/>
            <a:ext cx="605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EIA </a:t>
            </a:r>
            <a:br>
              <a:rPr sz="1200"/>
            </a:b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potreb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iroslav Chodak</dc:creator>
  <dc:description/>
  <dc:language>en-US</dc:language>
  <cp:lastModifiedBy>Agata Miazga</cp:lastModifiedBy>
  <cp:lastPrinted>2002-04-02T12:21:41Z</cp:lastPrinted>
  <dcterms:modified xsi:type="dcterms:W3CDTF">2004-03-31T11:30:02Z</dcterms:modified>
  <cp:revision>475</cp:revision>
  <dc:subject/>
  <dc:title>No Slide Title</dc:title>
</cp:coreProperties>
</file>