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jkis" initials="j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03-12-29T09:58:08.921000000" idx="1">
    <p:pos x="10" y="10"/>
    <p:text>ponovno podnosenje
redizajniranje
nije odobreno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2CA5-C621-4EEF-B251-EB8DCE35E80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UČEŠĆE JAV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0720" y="101520"/>
            <a:ext cx="5410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Ć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848720" y="135000"/>
            <a:ext cx="984240" cy="925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25520" y="614520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7680" y="7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28028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8488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38760" y="4717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č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ć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 ja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1419120"/>
            <a:ext cx="384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EIA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3080" y="672840"/>
            <a:ext cx="7657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Uobičajena opravdanja koja se iznose kao razlozi za izbegavanje učešć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2467080"/>
            <a:ext cx="365760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suviše je rano primeniti ga u početnoj fazi postupk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rajaće predugo i koštaće previše.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amo će izazvati protivljenj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2" name=""/>
          <p:cNvSpPr/>
          <p:nvPr/>
        </p:nvSpPr>
        <p:spPr>
          <a:xfrm>
            <a:off x="4952880" y="2468520"/>
            <a:ext cx="27082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ebata će biti jendostr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više očekivanj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Ljudi neće razumeti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48320" y="2362320"/>
            <a:ext cx="0" cy="1600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36240" y="666360"/>
            <a:ext cx="751212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Učešće javnosti kod procene dejstava n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ivotnu sredinu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ključne odredbe Arhuske konvencij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6934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dredbe Arhuske konvencije sada su u potpunosti odražene u Direktivi Evropskog saveta o 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ŽS (koja je doneta posle izmena i dopuna putem Direktive 2003 / 35 / EC)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600" y="685800"/>
            <a:ext cx="8121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Arhuska konvencija:</a:t>
            </a:r>
            <a:br>
              <a:rPr sz="2800"/>
            </a:b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definiranje pojmov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"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javnosti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"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I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"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zainteresovane javnosti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"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46348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800000"/>
                </a:solidFill>
                <a:latin typeface="Arial"/>
              </a:rPr>
              <a:t>Pojam 'javnost' (član 2.4) podrazumev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jedno ili više pravnih lica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jihove asocijacije, organizacije ili grupe, a u skladu sa nacionalnim zakonodavstvom ili uobičajenom praksom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jam 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“</a:t>
            </a:r>
            <a:r>
              <a:rPr b="0" lang="sr-Latn-C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Zainteresovana javnost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” (</a:t>
            </a:r>
            <a:r>
              <a:rPr b="0" lang="sr-Latn-C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član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. 2.5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) </a:t>
            </a:r>
            <a:r>
              <a:rPr b="0" lang="sr-Latn-CS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drazumeva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ne subjekte na koje deluje, ili na koje može delovati, odlučivanje u oblasti životne sredine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ne subjekte koji imaju interesa za odlučivanje u oblasti životne sredine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ne nevladine organizacije koje se zalažu za zaštitu životne sredine i ispunjavanje uslova koje predviđa nacionalno pravo, a za koje se smatra da imaju interesa u ovoj stvari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6240" y="685440"/>
            <a:ext cx="735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huska konvencija: klju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čni uslovi u sferi učešć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46348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o, tj. blagovremeno i efektivno obaveštavanje, a pored toga i elementi koji se odnose na dokumenat o obaveštavanju (član 6.2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zumni rokovi  u kojima se odvija efektivno učešće (član 6.3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ano (blagovremeno) učešće javnosti, još dok su otvorene sve opcije i kad delotvorno učešće  može da se ostvari (član 6.4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lobodan pristup informacijama – čim one postanu dostupne (član 6.6)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stupci učestvovanja javnosti kojima se omogućuje iznošenje komentara u pisanom obliku, ili na javnim ispitivanjima ili prilikom istraga (član 6.8)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90720" y="10540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019400" y="1060560"/>
            <a:ext cx="92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dentifikacij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r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41720" y="1589040"/>
            <a:ext cx="84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tvr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22280" y="2035080"/>
            <a:ext cx="956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nicijalno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spitivanje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ivotne sre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532840" y="1557360"/>
            <a:ext cx="9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Nije potrebn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3440" y="3413160"/>
            <a:ext cx="113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339933"/>
                </a:solidFill>
                <a:latin typeface="Arial"/>
                <a:ea typeface="Arial"/>
              </a:rPr>
              <a:t>Učešće jav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22840" y="374508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češće javnosti se obično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javlja pri ovim koracim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oze se pojaviti i na bilo ko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drugom koraku u procesu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57000" y="158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potreb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9280" y="20480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okv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0640" y="259092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03360" y="3013200"/>
            <a:ext cx="1095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blazavanje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ticaja i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menađzment utica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3080" y="5397480"/>
            <a:ext cx="106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acij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12600" y="50846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ja iz ovog proces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doprinosi efektivnosti EIA proc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45080" y="454644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je 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3800" y="40640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edizajnir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39040" y="3454560"/>
            <a:ext cx="83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novno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no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š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11000" y="35686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Izveš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73400" y="405144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Pregled izvešt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443320" y="444492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noše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58160" y="504684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6934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Ključni ciljevi učešć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94960" y="2403000"/>
            <a:ext cx="3809880" cy="26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Uzimanje u obzir gledišta i problema ključnih zainteresovanih subjekat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Preduzimanje mera da ne dođe do previđanja značajnih dejstav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Smanjenje mogućnosti nastanka konflikata putem blagovremene identifikacije spornih pitanja.</a:t>
            </a:r>
            <a:r>
              <a:rPr b="1" lang="sl-SI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"/>
          <p:cNvSpPr/>
          <p:nvPr/>
        </p:nvSpPr>
        <p:spPr>
          <a:xfrm>
            <a:off x="4933800" y="2413080"/>
            <a:ext cx="38102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Poboljšati transparentnost i povećati javno poverenje u P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S proc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Upotrebiti lokalne podatke za dizajniranje alternativa i mera za ubla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avanje štetnog utic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251460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93000" y="6342120"/>
            <a:ext cx="183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457200" y="816120"/>
            <a:ext cx="6858000" cy="54324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280" y="749160"/>
            <a:ext cx="4140360" cy="3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Nivoi učešća javnost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481644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Jednostran vid komunikacije sa onim stranama na koje predlog projekta ima uticaja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05520" y="373392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Dvostrana razmena informacija stvorena da pribilje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Arial"/>
              </a:rPr>
              <a:t>ž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Arial"/>
              </a:rPr>
              <a:t>i stavove svih interesnih grupa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  na predlog projekta i njegov uticaj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26384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Više interaktivan proces uključivanja javnosti u pronala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Arial"/>
              </a:rPr>
              <a:t>ž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Arial"/>
              </a:rPr>
              <a:t>enju problema, uspostavljanju područja slaganja i neslaganja i pokušaj uspostavljanja najčešćih pozicija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6400" y="2125800"/>
            <a:ext cx="416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327320"/>
            <a:ext cx="495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Alternativn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i mehanizam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 re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šenja nesuglasica baziran na pronađenim činjenicama, izgradnji koncenzusa i obostranog prilagođavanja različitih interesa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9440" y="469116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Inform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12480" y="3657600"/>
            <a:ext cx="22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Konsulti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60040" y="283536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U</a:t>
            </a:r>
            <a:r>
              <a:rPr b="1" lang="en-U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č</a:t>
            </a:r>
            <a:r>
              <a:rPr b="1" lang="sr-Latn-C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estvov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85560" y="118584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Pregova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74400" y="7300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Tko su učesnici u ovom procesu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2459160"/>
            <a:ext cx="380988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Predlagač i korisnici proje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Odgovorne vladine agenci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452680"/>
            <a:ext cx="368316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Oni koji su direktno ili indirektni pogođeni predlogo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HU"/>
              </a:rPr>
              <a:t>Oni koji su zainteresirani za predlog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npr. NVO, privatni sektor, akademske institucije itd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2590920"/>
            <a:ext cx="0" cy="9903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44240" y="729720"/>
            <a:ext cx="73911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Načela koja se primenjuju u postupku vezanom za učešće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006640"/>
            <a:ext cx="40388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Ovaj postupak treba da znači sledeće</a:t>
            </a: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"/>
          <p:cNvSpPr/>
          <p:nvPr/>
        </p:nvSpPr>
        <p:spPr>
          <a:xfrm>
            <a:off x="4870440" y="2465280"/>
            <a:ext cx="38098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šte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proveden nepristrasno i bez posebne naklonosti prema bilo kojoj interesnoj grupi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edusretljiv za potrebe interesnih grupa i njihovog inpu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erodostoja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posoban podstaknuti pouzdanje i poverenj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2478240"/>
            <a:ext cx="381024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ključiv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kriva sve interesne grup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tvoren i transparenta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azumljivi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aci i aktivnosti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elevanta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okusiranje na v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e tem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819520" y="18288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3300"/>
                </a:solidFill>
                <a:latin typeface="ArialHU"/>
                <a:ea typeface="Times New Roman"/>
              </a:rPr>
              <a:t>Osigurati da su najznačajnija pitanja identificirana, informacije vezane za projekat prikupljene, razmatrane altern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2362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Izbeći odstupanja/netačnosti u analizama, identificirati lokalne vrednosti/prioritete; asistirati u razmatranju mera za ubla</a:t>
            </a: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ž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avanje štetnog uticaja; pronaći najbolju alternativ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3040" y="4324320"/>
            <a:ext cx="582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ff0000"/>
                </a:solidFill>
                <a:latin typeface="ArialHU"/>
                <a:ea typeface="Times New Roman"/>
              </a:rPr>
              <a:t>Razmotriti i komentirati PD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Arial"/>
              </a:rPr>
              <a:t>Ž</a:t>
            </a:r>
            <a:r>
              <a:rPr b="0" lang="sr-Latn-CS" sz="1400" spc="-1" strike="noStrike">
                <a:solidFill>
                  <a:srgbClr val="ff0000"/>
                </a:solidFill>
                <a:latin typeface="Arial"/>
                <a:ea typeface="Arial"/>
              </a:rPr>
              <a:t>S Izvešta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19520" y="5421240"/>
            <a:ext cx="5029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Vršiti monitoring implementacije preporuka P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  <a:ea typeface="Arial"/>
              </a:rPr>
              <a:t>S Izveštaja </a:t>
            </a: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i uslova odluk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19520" y="12952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Konsultirati ljude koji će najverovatnije biti pogođeni predlogo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5680" y="682560"/>
            <a:ext cx="735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če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č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 javnosti u glavnim fazama PD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90720" y="1308240"/>
            <a:ext cx="1023840" cy="4559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78920" y="128268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Utvr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2440" y="189216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Utvr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obi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0680" y="2502000"/>
            <a:ext cx="605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Analiz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HU"/>
              </a:rPr>
              <a:t>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6200" y="3089160"/>
            <a:ext cx="12110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HU"/>
              </a:rPr>
              <a:t>Ubla</a:t>
            </a:r>
            <a:r>
              <a:rPr b="0" lang="en-US" sz="800" spc="-1" strike="noStrike">
                <a:solidFill>
                  <a:srgbClr val="000000"/>
                </a:solidFill>
                <a:latin typeface="ArialHU"/>
                <a:ea typeface="Arial"/>
              </a:rPr>
              <a:t>ž</a:t>
            </a:r>
            <a:r>
              <a:rPr b="0" lang="sr-Latn-CS" sz="800" spc="-1" strike="noStrike">
                <a:solidFill>
                  <a:srgbClr val="000000"/>
                </a:solidFill>
                <a:latin typeface="ArialHU"/>
                <a:ea typeface="Arial"/>
              </a:rPr>
              <a:t>avanje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HU"/>
                <a:ea typeface="Arial"/>
              </a:rPr>
              <a:t>štetnog uticaja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HU"/>
                <a:ea typeface="Arial"/>
              </a:rPr>
              <a:t>i menađ</a:t>
            </a:r>
            <a:r>
              <a:rPr b="0" lang="en-US" sz="800" spc="-1" strike="noStrike">
                <a:solidFill>
                  <a:srgbClr val="000000"/>
                </a:solidFill>
                <a:latin typeface="ArialHU"/>
                <a:ea typeface="Arial"/>
              </a:rPr>
              <a:t>ž</a:t>
            </a:r>
            <a:r>
              <a:rPr b="0" lang="sr-Latn-CS" sz="800" spc="-1" strike="noStrike">
                <a:solidFill>
                  <a:srgbClr val="000000"/>
                </a:solidFill>
                <a:latin typeface="ArialHU"/>
                <a:ea typeface="Arial"/>
              </a:rPr>
              <a:t>ment utica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6320" y="3759120"/>
            <a:ext cx="91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Izvešta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89080" y="4362480"/>
            <a:ext cx="63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04840" y="4876920"/>
            <a:ext cx="817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Donoše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odl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60840" y="5486400"/>
            <a:ext cx="1105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Implementacij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HU"/>
                <a:ea typeface="Arial"/>
              </a:rPr>
              <a:t>i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64008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Izrada programa učešć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94960" y="2414520"/>
            <a:ext cx="360036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olaženje do ključnih pitanja o kojima treba raspravljati;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dentifikovanje zainteresovane  javnosti, kao i one podložne dejstvim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zbor odgovarajuće tehnike (uz uzimanje u obzir budžetskih mogućnosti i elemenat vremena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4" name=""/>
          <p:cNvSpPr/>
          <p:nvPr/>
        </p:nvSpPr>
        <p:spPr>
          <a:xfrm>
            <a:off x="4937040" y="2406600"/>
            <a:ext cx="35211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izirati inpu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ipremit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feedback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u cilju izgradnje poverenja i pouzdanj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362320"/>
            <a:ext cx="0" cy="9903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55320" y="679320"/>
            <a:ext cx="72644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Načela uspešne primene tehnike učešć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5680" y="2451240"/>
            <a:ext cx="383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užanje pravih informacija u pravo vrem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bezbeđivanje dovoljnog vremena radi kritičkog razmatranja i relevantnog reagovanja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8" name=""/>
          <p:cNvSpPr/>
          <p:nvPr/>
        </p:nvSpPr>
        <p:spPr>
          <a:xfrm>
            <a:off x="4886280" y="2448000"/>
            <a:ext cx="37497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iti odgovarajuće mogućnosti i sredstva za učešće interesnih grup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dabrati odgovarajuća mesta od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avanja sastanka, i oderditi raspored sastanaka koji odgovara interesnim grupam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362320"/>
            <a:ext cx="0" cy="2209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4-02-03T08:33:13Z</cp:lastPrinted>
  <dcterms:modified xsi:type="dcterms:W3CDTF">2004-03-31T11:28:08Z</dcterms:modified>
  <cp:revision>453</cp:revision>
  <dc:subject/>
  <dc:title>No Slide Title</dc:title>
</cp:coreProperties>
</file>