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AC05E-44F1-4AE2-BED8-1F2024591EED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46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Uloga EIA i dono</a:t>
            </a:r>
            <a:r>
              <a:rPr b="1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š</a:t>
            </a:r>
            <a:r>
              <a:rPr b="1" lang="en-US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nje odlu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2520" y="1000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6146640"/>
            <a:ext cx="28195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EIA OBUKA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OM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Ć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 PRIRU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IK 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ZA JUGOISTO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Č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NU EVRO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62000"/>
            <a:ext cx="900000" cy="89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9040" y="6134040"/>
            <a:ext cx="3124440" cy="68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1200" y="54000"/>
            <a:ext cx="57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Finansira Program Evropske Unije za Obnovu i Ph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61320" y="61642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65800" y="6162840"/>
            <a:ext cx="49068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70400" y="615456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6760" y="1457640"/>
            <a:ext cx="3752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A OBUKA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 PRIRU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IK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ZA JUGOISTO</a:t>
            </a: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 EVROP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3440" y="427500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Uloga EIA i don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odlu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5827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977760" y="1041480"/>
            <a:ext cx="7482240" cy="4878000"/>
            <a:chOff x="977760" y="1041480"/>
            <a:chExt cx="7482240" cy="4878000"/>
          </a:xfrm>
        </p:grpSpPr>
        <p:sp>
          <p:nvSpPr>
            <p:cNvPr id="100" name=""/>
            <p:cNvSpPr/>
            <p:nvPr/>
          </p:nvSpPr>
          <p:spPr>
            <a:xfrm>
              <a:off x="4483080" y="5207040"/>
              <a:ext cx="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768760" y="16257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977760" y="1041480"/>
              <a:ext cx="6324840" cy="47498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3" name=""/>
            <p:cNvGrpSpPr/>
            <p:nvPr/>
          </p:nvGrpSpPr>
          <p:grpSpPr>
            <a:xfrm>
              <a:off x="5548320" y="3701880"/>
              <a:ext cx="2911680" cy="617400"/>
              <a:chOff x="5548320" y="3701880"/>
              <a:chExt cx="2911680" cy="617400"/>
            </a:xfrm>
          </p:grpSpPr>
          <p:sp>
            <p:nvSpPr>
              <p:cNvPr id="104" name=""/>
              <p:cNvSpPr/>
              <p:nvPr/>
            </p:nvSpPr>
            <p:spPr>
              <a:xfrm>
                <a:off x="5548320" y="3701880"/>
                <a:ext cx="2911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*Do uklju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č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a javnosti uglavnom dolazi u ovoj faz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Do njega m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im m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ž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e do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ć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 bilo kojoj drugoj fazi procesa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549760" y="3816360"/>
                <a:ext cx="18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18160" y="393048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549760" y="4044960"/>
                <a:ext cx="18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68720" y="404496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" name=""/>
            <p:cNvSpPr/>
            <p:nvPr/>
          </p:nvSpPr>
          <p:spPr>
            <a:xfrm>
              <a:off x="4477680" y="5092560"/>
              <a:ext cx="2388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je dobijene u ovom procesu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oprinose efikasnosti bud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h proces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981400" y="5207040"/>
              <a:ext cx="3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758920" y="1650960"/>
              <a:ext cx="45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ez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92400" y="2063880"/>
              <a:ext cx="898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č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tn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pitivanje u odnosu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ts val="8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a okoli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88320" y="1625760"/>
              <a:ext cx="84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treba za E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1880" y="5019840"/>
              <a:ext cx="988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odobr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73240" y="4486320"/>
              <a:ext cx="7200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 ni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dobre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49840" y="4006800"/>
              <a:ext cx="764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edefinis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15920" y="3479760"/>
              <a:ext cx="9907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novno 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odno</a:t>
              </a:r>
              <a:r>
                <a:rPr b="0" lang="hr-HR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nj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jedlog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4133880" y="1054080"/>
              <a:ext cx="633240" cy="376200"/>
              <a:chOff x="4133880" y="1054080"/>
              <a:chExt cx="633240" cy="376200"/>
            </a:xfrm>
          </p:grpSpPr>
          <p:sp>
            <p:nvSpPr>
              <p:cNvPr id="119" name=""/>
              <p:cNvSpPr/>
              <p:nvPr/>
            </p:nvSpPr>
            <p:spPr>
              <a:xfrm>
                <a:off x="4133880" y="1054080"/>
                <a:ext cx="63324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tvr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đ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vanj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ijedlog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305240" y="115560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5625360" y="3403440"/>
              <a:ext cx="97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U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č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šć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e javnost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09320" y="1635120"/>
              <a:ext cx="934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vjera potreb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03520" y="2108160"/>
              <a:ext cx="633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tvr</a:t>
              </a:r>
              <a:r>
                <a:rPr b="0" lang="hr-HR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đ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van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jelokrug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24680" y="257796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za utica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2187720" y="3067200"/>
              <a:ext cx="1270080" cy="477720"/>
              <a:chOff x="2187720" y="3067200"/>
              <a:chExt cx="1270080" cy="477720"/>
            </a:xfrm>
          </p:grpSpPr>
          <p:sp>
            <p:nvSpPr>
              <p:cNvPr id="126" name=""/>
              <p:cNvSpPr/>
              <p:nvPr/>
            </p:nvSpPr>
            <p:spPr>
              <a:xfrm>
                <a:off x="2413080" y="3067200"/>
                <a:ext cx="1044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bla</a:t>
                </a:r>
                <a:r>
                  <a:rPr b="0" lang="hr-HR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ž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vanje posljedic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kontrola uticaja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2251080" y="3168720"/>
                <a:ext cx="180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187720" y="3270240"/>
                <a:ext cx="14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2571480" y="3594240"/>
              <a:ext cx="695880" cy="152640"/>
              <a:chOff x="2571480" y="3594240"/>
              <a:chExt cx="695880" cy="152640"/>
            </a:xfrm>
          </p:grpSpPr>
          <p:sp>
            <p:nvSpPr>
              <p:cNvPr id="130" name=""/>
              <p:cNvSpPr/>
              <p:nvPr/>
            </p:nvSpPr>
            <p:spPr>
              <a:xfrm>
                <a:off x="2571480" y="3594240"/>
                <a:ext cx="695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zvje</a:t>
                </a:r>
                <a:r>
                  <a:rPr b="0" lang="hr-HR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š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aj E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774520" y="359424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2705040" y="4054320"/>
              <a:ext cx="43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egl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576160" y="4489560"/>
              <a:ext cx="683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Dono</a:t>
              </a:r>
              <a:r>
                <a:rPr b="1" lang="hr-HR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š</a:t>
              </a: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enje </a:t>
              </a:r>
              <a:br>
                <a:rPr sz="1000"/>
              </a:br>
              <a:r>
                <a:rPr b="1" lang="en-US" sz="10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odluk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487240" y="5442120"/>
              <a:ext cx="848160" cy="477360"/>
              <a:chOff x="2487240" y="5442120"/>
              <a:chExt cx="848160" cy="477360"/>
            </a:xfrm>
          </p:grpSpPr>
          <p:sp>
            <p:nvSpPr>
              <p:cNvPr id="135" name=""/>
              <p:cNvSpPr/>
              <p:nvPr/>
            </p:nvSpPr>
            <p:spPr>
              <a:xfrm>
                <a:off x="2487240" y="5442120"/>
                <a:ext cx="8481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mplementacij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 monitorin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816280" y="5543640"/>
                <a:ext cx="1080" cy="27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625840" y="5645160"/>
                <a:ext cx="108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1280" y="723600"/>
            <a:ext cx="74170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Uloga EIA u kona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nom don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enju odluk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78742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bezbijediti informacije neophodne za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je odluk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ti 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i doprinos da bi se pomoglo u odl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vanju da li je prijedlog prihvatljiv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om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u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vanju okolin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h uslova i rokova za provedbu projekt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36240" y="679320"/>
            <a:ext cx="7359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loga EIA u odlu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č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vanju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6946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ijedlog prih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ijedlog prih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 uz uslove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ijedlog n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kanju, rade se daljne studij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ijedlog vr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 na reviziju i ponovno pod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nj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jedlog odbije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7760" y="725040"/>
            <a:ext cx="74106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zimanje u obzir EIA u don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ju odluka u skladu sa Direktivom Evropske komisije o EIA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444400"/>
            <a:ext cx="7925040" cy="26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ati konsultacija sa jav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i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j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EIA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aju biti uzeti u obzir tokom postupka za odobravanj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7200" indent="-2772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dl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 tijelo onda oba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va javnost o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2320" indent="-3736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d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ju odluke i svim postavljenim uslovima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2320" indent="-37368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avnim razlozima i motivima na kojim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 odluka zasniva, ukl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 i informacije o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 javnosti, kao i opis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glavnih mjera koje su poduzete kako bi se izbjegle, umanjile i, ako je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, neutralizovale mog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tne posljedice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n 9.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8120" y="725040"/>
            <a:ext cx="718200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zimanje u obzir EIA u don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ju odluka u skladu sa procedurom Svjetske bank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244440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i su o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i uslovi kako bi se dala primjerena 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ost rezultatima konsultacija sa jav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 pri do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nju odluka i pri provedbi projekta. 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 20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OP 4.01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280" y="719280"/>
            <a:ext cx="741708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zimanje u obzir EIA u don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ju odluka u skladu sa procedurom Evropske banke za rekonstrukciju i razvoj (EBRD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76320" y="2437920"/>
            <a:ext cx="8382240" cy="33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5532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ponzori projekta trebaju obavijest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ti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davaoce komentara, kao i javnost na koju se to odnosi, o tome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 koji način su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jihovi komentari uzeti u obzir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ncip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 pitanjim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Aneks 2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 3.8)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38080" indent="-35532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 svrhu vlastitog pregleda, EBRD pravi s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tak komentara i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aja o konsultacijama sa jav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. Posebno razmatra: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ve komentare i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čin na koj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 sponzori projekta na njih odgovorili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1320840" indent="-2667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način na koji su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onzori odgovorili na zahtjeve Banke vezano za konsultacije s javn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incip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 pitanjima okol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Aneks 2,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 3.8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1280" y="717120"/>
            <a:ext cx="74170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zimanje u obzir EIA u don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ju odluka u skladu sa Konvencijom Espoo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520" y="2432160"/>
            <a:ext cx="7270920" cy="26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-3654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dlaga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u kon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j odluci o pred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oj aktivnosti, d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 p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j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poklanj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57880" indent="-30924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kumentacij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 EI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57880" indent="-30924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mentarima dobijenim u toku prekograni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ih konsultacija u sklopu utvr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vanja djelokruga i pregleda Izvj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aja EIA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6.1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857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365400" indent="-36540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Predlaga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dostavlja kon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 odluku o predlo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oj aktivnosti drugoj strani zajedno sa razlozima na kojima se ta odluka zasniva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 6.2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31640" y="725040"/>
            <a:ext cx="746784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zimanje u obzir EIA u dono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š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ju odluka u skladu sa Arhus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kom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800000"/>
                </a:solidFill>
                <a:latin typeface="Arial"/>
              </a:rPr>
              <a:t>k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onvencijom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520" y="2203200"/>
            <a:ext cx="7543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vaka strana se obavezuje d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u odluci dati primjerenu va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st rezul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im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ć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vnosti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 6.8</a:t>
            </a:r>
            <a:r>
              <a:rPr b="0" lang="en-GB" sz="1600" spc="-1" strike="noStrike">
                <a:solidFill>
                  <a:srgbClr val="000000"/>
                </a:solidFill>
                <a:latin typeface="Times New Roman BH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vaka strana 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osigurati da vlasti odmah obavijeste javnost da je odluka done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a. Tekst odluke, zajedno sa razlozima i motivima na kojima se ona zasniva, mora biti dostup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 javnosti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hr-HR" sz="16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n 6.9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10:21Z</dcterms:modified>
  <cp:revision>383</cp:revision>
  <dc:subject/>
  <dc:title>No Slide Title</dc:title>
</cp:coreProperties>
</file>