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19920"/>
            <a:ext cx="9144000" cy="85068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24852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39080" y="604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7480-D4C8-4EFD-A70D-9A275F396F74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05320" y="6446880"/>
            <a:ext cx="525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Uvodne napomene o E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76320"/>
            <a:ext cx="525780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Finansira Program Evropske Unije za Obnovu i Ph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7200" y="6134040"/>
            <a:ext cx="28195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OBUKA EIA</a:t>
            </a:r>
            <a:br>
              <a:rPr sz="1200"/>
            </a:b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POMO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Ć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NI PRIRU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Č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NIK ZA JUGOISTO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Č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NU EVRO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848720" y="157320"/>
            <a:ext cx="904680" cy="904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576360" indent="-195480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947880" indent="-1810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19920"/>
            <a:ext cx="9144000" cy="85860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23720" y="6170760"/>
            <a:ext cx="3124440" cy="687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62080" y="5400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1" lang="en-GB" sz="1200" spc="-1" strike="noStrike">
                <a:solidFill>
                  <a:srgbClr val="ffffcc"/>
                </a:solidFill>
                <a:latin typeface="Arial"/>
              </a:rPr>
              <a:t>Finansira Program Evropske Unije za Obnovu i Ph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881840" y="6173640"/>
            <a:ext cx="87156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186680" y="6143760"/>
            <a:ext cx="490320" cy="57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291280" y="6161040"/>
            <a:ext cx="1676160" cy="576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380880" algn="ctr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766800" algn="ctr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138320" algn="ctr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832280" y="4056480"/>
            <a:ext cx="38862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Uvodne napomene o procjeni uticaja na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okoli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š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(</a:t>
            </a:r>
            <a:r>
              <a:rPr b="1" lang="en-GB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E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35600" y="1457640"/>
            <a:ext cx="3827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BUKA EIA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MO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 PRIRU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K ZA JUGOISTO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U EVRO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1498680"/>
            <a:ext cx="3598920" cy="359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80880" y="2438280"/>
            <a:ext cx="7391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tvrditi zn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jne uticaje na okol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jednog velikog razvojnog projekta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misliti mjere za smanjenje ili ubl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vanje posljedica tih uticaj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342720" y="666720"/>
            <a:ext cx="6591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Svrha postojanja i rada EIA 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3080" y="673200"/>
            <a:ext cx="7277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EIA predstavlja sredstvo koje se koristi…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2438280"/>
            <a:ext cx="78742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je don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ja v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h odluka, odnosno dok su j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tvorene sve alternative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 cilju informisanja u svim fazama procesa don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ja odluke, uklj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j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i kon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odobrenje i ispunjavanje uslova za implementaciju projekta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z 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 i konsultacije s javn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; i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 cilju ugr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vanja okolin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h elemenata i z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tnih odredaba u sve faze pripreme, izrade i provedbe projekta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roslav Chodak</dc:creator>
  <dc:description/>
  <dc:language>en-US</dc:language>
  <cp:lastModifiedBy>Agata Miazga</cp:lastModifiedBy>
  <cp:lastPrinted>2002-04-02T12:21:41Z</cp:lastPrinted>
  <dcterms:modified xsi:type="dcterms:W3CDTF">2004-04-02T09:24:17Z</dcterms:modified>
  <cp:revision>249</cp:revision>
  <dc:subject/>
  <dc:title>No Slide Title</dc:title>
</cp:coreProperties>
</file>