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CCD5-F465-4019-ACCD-DFF4E0C7325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81480" y="6485040"/>
            <a:ext cx="358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10800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IODI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98360"/>
            <a:ext cx="901440" cy="86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7800"/>
            <a:ext cx="3124080" cy="68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"/>
                <a:ea typeface="Arial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300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97840" y="618012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208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680" y="1473120"/>
            <a:ext cx="3725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EIA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8840" y="470052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48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8840" y="679320"/>
            <a:ext cx="71629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Monitoring u skladu sa postupkom EB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8153640" cy="21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onitoring u oblasti životne sredine obezbeđuje primenu standarda koji važe za životnu sredinu, kao i primenu komponenata projekta koji se odnose na životnu sredinu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onitoringom se postiže praćenje tekućih uticaja na životnu sredinu i proverava delotvornost mera ublažavanja takvih dejstav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EBRD određuje instrumente monitoringa za svaki pojedini projekat; ove mere primenjuju se sve do vraćanja zajma. (Član 27)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8840" y="679320"/>
            <a:ext cx="72709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Monitoring u skladu sa Konvencijom Espo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444760"/>
            <a:ext cx="8382240" cy="18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interesovane strane određuju potrebu i  opseg svake analize koja se obavlja posle primene projekta. Ovo može obuhvatiti kontrolu (pregled) aktivnosti i utvrđivanje postojanja uticaja koja se prostiru preko granica država.      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(Član 7.1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koliko se analizom obavljenom posle primene projekta ustanovi postojanje znatnih nepovoljnih dejstava, zainteresovane stane treba da se konsultuju o merama potrebnim radi smanjenje ili uklanjanja ovakvih dejstava. (Ćlan 7.2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8840" y="679320"/>
            <a:ext cx="6674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Monitoring u skladu sa Arhuskom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80773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 ovoj Konvenciji nisu predviđeni nikakvi uslovi u vezi sa monitoringo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eđutim, ukoliko javni organi tokom monitoringa dođu do relevantnih podataka, takvi podaci moraju biti dostupni javnosti u skladu sa odredbama članova 4 i 5 Konvenci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0720" y="1054080"/>
            <a:ext cx="6486120" cy="4749840"/>
            <a:chOff x="990720" y="1054080"/>
            <a:chExt cx="6486120" cy="4749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90720" y="1054080"/>
              <a:ext cx="632592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9400" y="1060560"/>
              <a:ext cx="92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dentifikacij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720" y="1589040"/>
              <a:ext cx="844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tvr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2280" y="2035080"/>
              <a:ext cx="956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nicijalno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spitivanje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zivotne sred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32840" y="155736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ije potrebn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3800" y="3413160"/>
              <a:ext cx="106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češće javnos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2840" y="3745080"/>
              <a:ext cx="185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češće javnosti se obično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javlja pri ovim koracim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moze se pojaviti i na bilo ko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drugom koraku u procesu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7000" y="158760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potreb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9280" y="2048040"/>
              <a:ext cx="861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dre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okvi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20640" y="259092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3360" y="3013200"/>
              <a:ext cx="10951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blazavanje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ticaja i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menađzment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80320" y="5397480"/>
              <a:ext cx="1130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339933"/>
                  </a:solidFill>
                  <a:latin typeface="Arial"/>
                  <a:ea typeface="Arial"/>
                </a:rPr>
                <a:t>Implementacija </a:t>
              </a:r>
              <a:br>
                <a:rPr sz="1000"/>
              </a:br>
              <a:r>
                <a:rPr b="1" lang="sr-Latn-CS" sz="1000" spc="-1" strike="noStrike">
                  <a:solidFill>
                    <a:srgbClr val="339933"/>
                  </a:solidFill>
                  <a:latin typeface="Arial"/>
                  <a:ea typeface="Arial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2600" y="5084640"/>
              <a:ext cx="208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a iz ovog proces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prinosi efektivnosti EIA proce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5080" y="454644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je 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3800" y="406404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zajnir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9040" y="349236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novno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dno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še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1000" y="35686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Izvešta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73400" y="4051440"/>
              <a:ext cx="131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gled izvešt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3320" y="444492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oše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8160" y="504684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8640" y="736560"/>
            <a:ext cx="711072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Zašto je potreban monitoring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-19440" y="2450880"/>
            <a:ext cx="7467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77880" indent="-2970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onitoring (nadgledanje ili kontrola sprovođenja) je bitna ali zanemarena komponenta primene i praćenja uticaja dejstava na životnu sredinu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677880" indent="-2970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stale komponente obuhvataju nadzor, reviziju i retrospektivnu ocenu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55680" y="6937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Ciljevi monitorin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67374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bezbeđenje primene uslova koji  su navedeni u odluc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overa da su uticaji onakvi kakvi su predviđeni ili dopušte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tvrda da mere ublažavanja deluju prema očekivanju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duzimanje akcije u cilju upravljanja nepredviđenim promenama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320" y="687240"/>
            <a:ext cx="5994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Kada je potreban monitoring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Monitoring i revizija treba da se preduzmu kada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u eventualni uticaji znatni ili neizvesni; i / il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ere ublažavanja nisu pokušane ili kada je ishod neizvestan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9200" y="681120"/>
            <a:ext cx="64454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Ključne komponetne monitorin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34724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spostavljanje  osnovnih (tj. početnih) uslov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erenje uticaja projekta prema predviđenim parametrim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overa usaglašenosti sa propisanim uslovima i prihvatljivim graničnim vrednostim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spostavljanje veza sa planovima za upravljanje životnom sredino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provođenje periodičnih kontrola i revizija koje vrše treća (tj. objektivna) lica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8840" y="687240"/>
            <a:ext cx="7296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Sastavni elementi monitoringa  uticaja uticaja na ž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413388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Šta se zahteva?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Identifikovanje obima i komponenata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o će obavljati aktivnosti?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pecificirati uloge i odgovornosti (tj. zaduženja)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Kako će se gore navedeno sprovoditi u delo?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odela sredstava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efinisanje postupaka i aranžmana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2463840"/>
            <a:ext cx="36068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Tko ima pristup rezultatima monitoring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amo donosioci odluka i šira publika imaju pristup rezultatima monitorin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00600" y="2362320"/>
            <a:ext cx="0" cy="15238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Monitoring u skladu sa Direktivom EC o uticajima na ž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irektiva EC o PUŽS ne predviđa nikakve uslove za primenu monitoringa ili retrospektivnu kontrolu uticaja na životnu sredinu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4240" y="736560"/>
            <a:ext cx="71881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Monitoring u skladu sa  postupkom Svetske ban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rana koja je pozajmila sredstva od Banke dužna je da podnosi izveštaj o sprovođenju u delo u vezi sa sledećim: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štovanje uslova o kojima  je postignut sporazum sa Svetskom bankom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tanje mera ublažavanja; i    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ključci programa monitoringa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(Član 20 dokumenta OP 4.0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8:02Z</dcterms:modified>
  <cp:revision>379</cp:revision>
  <dc:subject/>
  <dc:title>No Slide Title</dc:title>
</cp:coreProperties>
</file>