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1C36B-9E03-492D-B286-5DC35B9E2A5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4348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reg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889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66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1800" y="152280"/>
            <a:ext cx="903240" cy="9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4520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200" y="414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50240" y="61642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54720" y="6162840"/>
            <a:ext cx="49068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46720" y="615456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159200"/>
            <a:ext cx="38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4800" y="4392720"/>
            <a:ext cx="148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reg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201680"/>
            <a:ext cx="360180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73720" y="52070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59040" y="1625760"/>
            <a:ext cx="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68400" y="1041480"/>
            <a:ext cx="63244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540400" y="3701880"/>
            <a:ext cx="2906280" cy="617400"/>
            <a:chOff x="5540400" y="3701880"/>
            <a:chExt cx="2906280" cy="617400"/>
          </a:xfrm>
        </p:grpSpPr>
        <p:sp>
          <p:nvSpPr>
            <p:cNvPr id="103" name=""/>
            <p:cNvSpPr/>
            <p:nvPr/>
          </p:nvSpPr>
          <p:spPr>
            <a:xfrm>
              <a:off x="5542560" y="3701880"/>
              <a:ext cx="290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Do uklju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a javnosti uglavnom dolazi u ovoj fa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njega m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im m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 bilo kojoj drugoj fazi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40400" y="38163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08800" y="39304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40400" y="40449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59360" y="404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471920" y="5092560"/>
            <a:ext cx="238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 dobijene u ovom proce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efikasnosti bud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ces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71680" y="52070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49560" y="16509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z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83040" y="2063880"/>
            <a:ext cx="89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hr-H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t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spitivanje u odno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 okoli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78960" y="162576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a z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32520" y="501984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odob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63880" y="448632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n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0120" y="400680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s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06560" y="3479760"/>
            <a:ext cx="99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novno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24160" y="1054080"/>
            <a:ext cx="633240" cy="376200"/>
            <a:chOff x="4124160" y="1054080"/>
            <a:chExt cx="633240" cy="376200"/>
          </a:xfrm>
        </p:grpSpPr>
        <p:sp>
          <p:nvSpPr>
            <p:cNvPr id="118" name=""/>
            <p:cNvSpPr/>
            <p:nvPr/>
          </p:nvSpPr>
          <p:spPr>
            <a:xfrm>
              <a:off x="4124160" y="105408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95520" y="11556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23200" y="3403440"/>
            <a:ext cx="95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 jav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0880" y="163512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3800" y="207972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15320" y="257796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78000" y="3067200"/>
            <a:ext cx="1267200" cy="477720"/>
            <a:chOff x="2178000" y="3067200"/>
            <a:chExt cx="1267200" cy="477720"/>
          </a:xfrm>
        </p:grpSpPr>
        <p:sp>
          <p:nvSpPr>
            <p:cNvPr id="125" name=""/>
            <p:cNvSpPr/>
            <p:nvPr/>
          </p:nvSpPr>
          <p:spPr>
            <a:xfrm>
              <a:off x="2406600" y="306720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bla</a:t>
              </a:r>
              <a:r>
                <a:rPr b="0" lang="hr-H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nje poslje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kontrola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41360" y="3168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78000" y="3270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61760" y="3594240"/>
            <a:ext cx="695880" cy="152640"/>
            <a:chOff x="2561760" y="3594240"/>
            <a:chExt cx="695880" cy="152640"/>
          </a:xfrm>
        </p:grpSpPr>
        <p:sp>
          <p:nvSpPr>
            <p:cNvPr id="129" name=""/>
            <p:cNvSpPr/>
            <p:nvPr/>
          </p:nvSpPr>
          <p:spPr>
            <a:xfrm>
              <a:off x="2561760" y="3594240"/>
              <a:ext cx="69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vj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64800" y="3594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681280" y="4054320"/>
            <a:ext cx="46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1440" y="454644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n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je 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77880" y="5442120"/>
            <a:ext cx="848160" cy="477360"/>
            <a:chOff x="2477880" y="5442120"/>
            <a:chExt cx="848160" cy="477360"/>
          </a:xfrm>
        </p:grpSpPr>
        <p:sp>
          <p:nvSpPr>
            <p:cNvPr id="134" name=""/>
            <p:cNvSpPr/>
            <p:nvPr/>
          </p:nvSpPr>
          <p:spPr>
            <a:xfrm>
              <a:off x="2477880" y="5442120"/>
              <a:ext cx="84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ementaci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06920" y="554364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16480" y="56451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1640" y="711000"/>
            <a:ext cx="7035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Arial"/>
              </a:rPr>
              <a:t>Ciljevi pregleda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7920" y="2437920"/>
            <a:ext cx="66294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gled kvaliteta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aja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zeti u obzir komentare javnost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stanoviti da li su informacije dostatn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i nedostatke koji se trebaju ispravit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5520" y="711360"/>
            <a:ext cx="7423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tvari koje se moraju uzeti u obzir tokom pregleda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67920" y="2449440"/>
            <a:ext cx="6946920" cy="21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gled se obavlja u skladu sa mandatom za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aj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je su t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 i teh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i ispravne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mentari javnosti su uzeti u obzi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stoji kompletna i dostatna izjava o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im nalazi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je su jasne i razumljiv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je su dostatne 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je odluk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704880"/>
            <a:ext cx="68580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Ko je odgovoran za pregled EIA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68580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gencija z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- Kanada (ops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 studije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ezavisno vi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(ili medijator/posrednik) – Kanada (javna ispitivanja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alna komisija - Nizozem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agencijski komitet - SAD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ijelo za izradu planova – Velika Brit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Komentari i doprinosi javnosti se moraju uzeti u obzir (Direktiva Evropske komisije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280" y="704880"/>
            <a:ext cx="69598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etode pregleda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2431800"/>
            <a:ext cx="6858000" cy="238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lje navedene stvari se mogu koristiti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a kontrolna lista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ntrolna lista specifikacije projekt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cjenji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i paket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t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jaci i akreditovani ocjenji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avna sa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ja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kvir za efikasan pregled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280" y="704880"/>
            <a:ext cx="74170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ormalni pregled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aja EIA 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imjer iz zemalja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lanica EU - 1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3200" y="24382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rtugal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Ministarstvo za okoli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 ima na raspolaganju 20 radnih dana da izjavi da li je izvje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taj EIA u skladu sa zakonom i da li su potrebne dodatne informacije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Ir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pute (uz prat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Savjetnik) su date da pomognu tijelima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m 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e odluke tokom razmatranja adekvatnosti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ja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ni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j EIA se provjerava u odnosu na uslove precizirane tokom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a djelokruga rada, koji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u i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javnosti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723960"/>
            <a:ext cx="71884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Formalni pregled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aja EIA :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rimjeri iz zemalja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lanica EU -2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2437920"/>
            <a:ext cx="7721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d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egacija za ispitivanje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(unutar ok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h administrativnih odbora i sudova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h za pitanje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) od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e da li EIA ispunjava uslove iz zakonodavstva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Nizozemsk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ezavisna komisija EIA donosi upute o specifikacijama projekta tokom utvr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ivanja djelokruga rada, ocjenjuje adekvatnost izvje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taja EIA i dostavlja svoje mi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ljenje tijelu nadle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om za dono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enje odluk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08:55Z</dcterms:modified>
  <cp:revision>359</cp:revision>
  <dc:subject/>
  <dc:title>No Slide Title</dc:title>
</cp:coreProperties>
</file>