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019920"/>
            <a:ext cx="9144000" cy="85068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6248520"/>
            <a:ext cx="1752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5943600"/>
            <a:ext cx="9144000" cy="7632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839080" y="604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BEB3D-CA5E-427E-8B83-DCFC0E0F1119}" type="slidenum">
              <a:rPr b="0" lang="en-US" sz="10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05320" y="6446880"/>
            <a:ext cx="5257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cc"/>
                </a:solidFill>
                <a:latin typeface="ArialHU"/>
              </a:rPr>
              <a:t>REPORTING IN THE EIA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76320"/>
            <a:ext cx="5257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cc"/>
                </a:solidFill>
                <a:latin typeface="ArialHU"/>
              </a:rPr>
              <a:t>SUPPORTED BY THE EUROPEAN UNION’S OBNOVA AND PHARE PROGRAMM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57200" y="6248520"/>
            <a:ext cx="2819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EIA TRAINING RESOURCE MANUAL FOR SOUTH EASTERN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786800" y="131760"/>
            <a:ext cx="976320" cy="934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Opti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1" marL="190440" indent="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2" marL="576360" indent="-195480">
              <a:spcBef>
                <a:spcPts val="34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3" marL="947880" indent="-18108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Optima"/>
              </a:rPr>
              <a:t>Fourth Outline Level</a:t>
            </a:r>
            <a:endParaRPr b="0" i="1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4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5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6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019920"/>
            <a:ext cx="9144000" cy="85860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943600"/>
            <a:ext cx="9144000" cy="7632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80880" y="6170760"/>
            <a:ext cx="3124440" cy="6872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04920" y="54000"/>
            <a:ext cx="57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en-GB" sz="1000" spc="-1" strike="noStrike">
                <a:solidFill>
                  <a:srgbClr val="ffffcc"/>
                </a:solidFill>
                <a:latin typeface="Arial"/>
              </a:rPr>
              <a:t>SUPPORTED BY THE EUROPEAN UNION’S OBNOVA AND PHARE PROGRAMM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8077320" y="6176880"/>
            <a:ext cx="871560" cy="576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81800" y="6181560"/>
            <a:ext cx="490680" cy="576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5486400" y="6167520"/>
            <a:ext cx="1676520" cy="5763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Optima"/>
              </a:rPr>
              <a:t>Click to edit the outline text format</a:t>
            </a: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1" marL="190440" indent="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2" marL="380880" algn="ctr">
              <a:spcBef>
                <a:spcPts val="34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3" marL="766800" algn="ctr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Optima"/>
              </a:rPr>
              <a:t>Fourth Outline Level</a:t>
            </a:r>
            <a:endParaRPr b="0" i="1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4" marL="1138320" algn="ctr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5" marL="113832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6" marL="113832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33800" y="1477440"/>
            <a:ext cx="37465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IA TRAINING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SOURCE MANUAL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OR SOUTH EASTERN EURO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39840" y="4267080"/>
            <a:ext cx="2904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Reporting in the</a:t>
            </a:r>
            <a:br>
              <a:rPr sz="2800"/>
            </a:b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EIA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90720" y="1506600"/>
            <a:ext cx="3755880" cy="3598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rcRect l="8824" t="24241" r="5882" b="25000"/>
          <a:stretch/>
        </p:blipFill>
        <p:spPr>
          <a:xfrm>
            <a:off x="838080" y="838080"/>
            <a:ext cx="66294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685800"/>
            <a:ext cx="7467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800000"/>
                </a:solidFill>
                <a:latin typeface="ArialHUBold"/>
              </a:rPr>
              <a:t>Different names for the same document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82720" y="2412720"/>
            <a:ext cx="73152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Environmental Impact Assessment Report (EIA Report)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Environmental Impact Statement (EIS)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Environmental Statement (ES)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Environmental Assessment Report (EA Report)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Environmental Effects Statement (EES)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42720" y="685800"/>
            <a:ext cx="75056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00000"/>
                </a:solidFill>
                <a:latin typeface="ArialHUBold"/>
              </a:rPr>
              <a:t>Elements of a successful EIA report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88480" y="2412720"/>
            <a:ext cx="734076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HU"/>
              </a:rPr>
              <a:t>describes the significant impacts of a proposal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HU"/>
              </a:rPr>
              <a:t>identifies the measures to mitigate significant impacts including 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practical actions to be taken by the proponent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HU"/>
              </a:rPr>
              <a:t>provides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 the responsible authority with information relevant to the decision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HU"/>
              </a:rPr>
              <a:t>Is written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 in a way that the public and decision-makers can understand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371600" y="2286000"/>
            <a:ext cx="73915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85840" indent="-285840">
              <a:lnSpc>
                <a:spcPct val="110000"/>
              </a:lnSpc>
              <a:spcBef>
                <a:spcPts val="400"/>
              </a:spcBef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a description of the project;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85840" indent="-285840">
              <a:lnSpc>
                <a:spcPct val="110000"/>
              </a:lnSpc>
              <a:spcBef>
                <a:spcPts val="400"/>
              </a:spcBef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an outline of the main alternatives studied by the developer, and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an indication of the main reasons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for this choice,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85840" indent="-285840">
              <a:lnSpc>
                <a:spcPct val="110000"/>
              </a:lnSpc>
              <a:spcBef>
                <a:spcPts val="400"/>
              </a:spcBef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a description of the aspects of the environment likely to be significantly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affected by the proposed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project;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85840" indent="-285840">
              <a:lnSpc>
                <a:spcPct val="110000"/>
              </a:lnSpc>
              <a:spcBef>
                <a:spcPts val="400"/>
              </a:spcBef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a description of the likely significant 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environmental 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effects of the proposed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project;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85840" indent="-285840">
              <a:lnSpc>
                <a:spcPct val="110000"/>
              </a:lnSpc>
              <a:spcBef>
                <a:spcPts val="400"/>
              </a:spcBef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measures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 to prevent, reduce and possibly offset adverse 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environmental 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effects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85840" indent="-285840">
              <a:lnSpc>
                <a:spcPct val="110000"/>
              </a:lnSpc>
              <a:spcBef>
                <a:spcPts val="400"/>
              </a:spcBef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a non-technical summary;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85840" indent="-285840">
              <a:lnSpc>
                <a:spcPct val="110000"/>
              </a:lnSpc>
              <a:spcBef>
                <a:spcPts val="400"/>
              </a:spcBef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an indication of any difficulties (technical deficiencies or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lack of know-how) encountered while compiling the required information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336240" y="685440"/>
            <a:ext cx="74674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800000"/>
                </a:solidFill>
                <a:latin typeface="ArialHUBold"/>
              </a:rPr>
              <a:t>EIA reporting </a:t>
            </a:r>
            <a:r>
              <a:rPr b="0" lang="en-GB" sz="2800" spc="-1" strike="noStrike">
                <a:solidFill>
                  <a:srgbClr val="800000"/>
                </a:solidFill>
                <a:latin typeface="ArialHUBold"/>
              </a:rPr>
              <a:t>in accordance with </a:t>
            </a:r>
            <a:br>
              <a:rPr sz="2800"/>
            </a:br>
            <a:r>
              <a:rPr b="0" lang="cs-CZ" sz="2800" spc="-1" strike="noStrike">
                <a:solidFill>
                  <a:srgbClr val="800000"/>
                </a:solidFill>
                <a:latin typeface="ArialHUBold"/>
              </a:rPr>
              <a:t>the EC EIA Directive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"/>
          <p:cNvSpPr/>
          <p:nvPr/>
        </p:nvSpPr>
        <p:spPr>
          <a:xfrm>
            <a:off x="692280" y="1981080"/>
            <a:ext cx="482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An EIA Report must contain the follow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36600" y="693720"/>
            <a:ext cx="723888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800000"/>
                </a:solidFill>
                <a:latin typeface="ArialHUBold"/>
              </a:rPr>
              <a:t>Preparing an executive summary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88840" y="2400120"/>
            <a:ext cx="73152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Target the audience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Be brief. 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Be clear and consistent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Avoid jargon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Summarise key findings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9760" y="693720"/>
            <a:ext cx="7518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00000"/>
                </a:solidFill>
                <a:latin typeface="ArialHUBold"/>
              </a:rPr>
              <a:t>An executive summary should outline…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88840" y="2406600"/>
            <a:ext cx="73152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the proposal and its setting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85840" indent="-28584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terms of reference of the EIA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85840" indent="-28584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results of public consultation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85840" indent="-28584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alternatives considered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85840" indent="-28584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major impacts and their significance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85840" indent="-28584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mitigation and management measures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85840" indent="-28584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any other critical matters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36600" y="69228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800000"/>
                </a:solidFill>
                <a:latin typeface="ArialHUBold"/>
              </a:rPr>
              <a:t>Some shortcomings of EIA reports</a:t>
            </a:r>
            <a:r>
              <a:rPr b="0" lang="en-GB" sz="2800" spc="-1" strike="noStrike">
                <a:solidFill>
                  <a:srgbClr val="800000"/>
                </a:solidFill>
                <a:latin typeface="ArialHUBold"/>
              </a:rPr>
              <a:t> </a:t>
            </a:r>
            <a:br>
              <a:rPr sz="2800"/>
            </a:br>
            <a:r>
              <a:rPr b="0" lang="cs-CZ" sz="2800" spc="-1" strike="noStrike">
                <a:solidFill>
                  <a:srgbClr val="800000"/>
                </a:solidFill>
                <a:latin typeface="ArialHUBold"/>
              </a:rPr>
              <a:t>(contents)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82720" y="2412720"/>
            <a:ext cx="4038480" cy="31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74320" indent="-274320">
              <a:lnSpc>
                <a:spcPct val="8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objective of proposal described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too narrowly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74320" indent="-274320">
              <a:lnSpc>
                <a:spcPct val="8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description does not cover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complete activity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74320" indent="-274320">
              <a:lnSpc>
                <a:spcPct val="8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sensitive elements of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environment overlooked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74320" indent="-274320">
              <a:lnSpc>
                <a:spcPct val="8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outdated or ineffective prediction models used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74320" indent="-274320">
              <a:lnSpc>
                <a:spcPct val="8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impacts not compared with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standards or targets 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(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relevant standards and legislation not described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3" name=""/>
          <p:cNvSpPr/>
          <p:nvPr/>
        </p:nvSpPr>
        <p:spPr>
          <a:xfrm>
            <a:off x="4921200" y="2409840"/>
            <a:ext cx="4070520" cy="270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cumulative, indirect and synergistic impacts not mentioned or incorrectly describ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alternative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s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 insufficiently described 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to enable compar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appropriate mitigation measures not conside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incorrect conclusions dra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800600" y="2362320"/>
            <a:ext cx="1440" cy="3352680"/>
          </a:xfrm>
          <a:prstGeom prst="line">
            <a:avLst/>
          </a:prstGeom>
          <a:ln cap="rnd" w="12600">
            <a:solidFill>
              <a:srgbClr val="8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42720" y="693720"/>
            <a:ext cx="750564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800000"/>
                </a:solidFill>
                <a:latin typeface="ArialHUBold"/>
              </a:rPr>
              <a:t>Some shortcomings of EIA reports</a:t>
            </a:r>
            <a:br>
              <a:rPr sz="2800"/>
            </a:br>
            <a:r>
              <a:rPr b="0" lang="cs-CZ" sz="2800" spc="-1" strike="noStrike">
                <a:solidFill>
                  <a:srgbClr val="800000"/>
                </a:solidFill>
                <a:latin typeface="ArialHUBold"/>
              </a:rPr>
              <a:t>(form)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70120" y="2406600"/>
            <a:ext cx="30160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HU"/>
              </a:rPr>
              <a:t>unclear structure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62120" indent="-2793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too long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62120" indent="-2793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not focused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7" name=""/>
          <p:cNvSpPr/>
          <p:nvPr/>
        </p:nvSpPr>
        <p:spPr>
          <a:xfrm>
            <a:off x="4804200" y="2324160"/>
            <a:ext cx="3922200" cy="23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1960" indent="-2919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HU"/>
              </a:rPr>
              <a:t>poor style </a:t>
            </a:r>
            <a:r>
              <a:rPr b="1" lang="cs-CZ" sz="1600" spc="-1" strike="noStrike">
                <a:solidFill>
                  <a:srgbClr val="000000"/>
                </a:solidFill>
                <a:latin typeface="ArialHU"/>
              </a:rPr>
              <a:t>and language</a:t>
            </a:r>
            <a:r>
              <a:rPr b="1" lang="en-GB" sz="1600" spc="-1" strike="noStrike">
                <a:solidFill>
                  <a:srgbClr val="000000"/>
                </a:solidFill>
                <a:latin typeface="ArialHU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793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too technical 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(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reports, as well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as 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non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-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technical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“ 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summaries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793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unclear recommendations and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conclu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793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references mi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24280" y="2362320"/>
            <a:ext cx="1800" cy="2361960"/>
          </a:xfrm>
          <a:prstGeom prst="line">
            <a:avLst/>
          </a:prstGeom>
          <a:ln cap="rnd" w="12600">
            <a:solidFill>
              <a:srgbClr val="8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Miroslav Chodak</dc:creator>
  <dc:description/>
  <dc:language>en-US</dc:language>
  <cp:lastModifiedBy>zsbauer</cp:lastModifiedBy>
  <cp:lastPrinted>2002-04-02T12:21:41Z</cp:lastPrinted>
  <dcterms:modified xsi:type="dcterms:W3CDTF">2003-10-27T08:22:42Z</dcterms:modified>
  <cp:revision>344</cp:revision>
  <dc:subject/>
  <dc:title>No Slide Title</dc:title>
</cp:coreProperties>
</file>