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73B6E-CD8B-4151-854B-164F9C512503}" type="slidenum">
              <a:rPr b="0" lang="en-US" sz="1000" spc="-1" strike="noStrike">
                <a:solidFill>
                  <a:srgbClr val="ffffcc"/>
                </a:solidFill>
                <a:latin typeface="MAC C Swis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648320" y="6508800"/>
            <a:ext cx="4120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MAC C Swiss"/>
              </a:rPr>
              <a:t>ULOGATA NA OV@S VO DONESUVAWETO ODLUK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4600" y="76320"/>
            <a:ext cx="52578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146640"/>
            <a:ext cx="33526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50840"/>
            <a:ext cx="907920" cy="90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1640" y="615168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5680" y="2844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MAC C Swiss"/>
              </a:rPr>
              <a:t>Poddr`ano od EU programate Obnova i F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948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36000" y="6175440"/>
            <a:ext cx="4903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72280" y="6167520"/>
            <a:ext cx="167616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3800" y="1454400"/>
            <a:ext cx="3753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MAC C Swiss"/>
              </a:rPr>
              <a:t>PRIRA^NIK ZA OBUKA ZA OCENKA NA VLIJANIETO VRZ @IVOTNATA SREDINA (OV@S) ZA JUGOISTO^NA EVR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44240" y="4292640"/>
            <a:ext cx="3987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Ulogata na OV@S v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  <a:ea typeface="Times New Roman"/>
              </a:rPr>
              <a:t>donesuvaweto odluk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32592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2585880" y="5486400"/>
            <a:ext cx="653040" cy="366480"/>
            <a:chOff x="2585880" y="5486400"/>
            <a:chExt cx="653040" cy="366480"/>
          </a:xfrm>
        </p:grpSpPr>
        <p:sp>
          <p:nvSpPr>
            <p:cNvPr id="101" name=""/>
            <p:cNvSpPr/>
            <p:nvPr/>
          </p:nvSpPr>
          <p:spPr>
            <a:xfrm>
              <a:off x="2596680" y="5486400"/>
              <a:ext cx="64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Realizacija i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monito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85880" y="5577840"/>
              <a:ext cx="18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662560" y="567252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5359320" y="3753000"/>
            <a:ext cx="1856880" cy="883440"/>
            <a:chOff x="5359320" y="3753000"/>
            <a:chExt cx="1856880" cy="883440"/>
          </a:xfrm>
        </p:grpSpPr>
        <p:sp>
          <p:nvSpPr>
            <p:cNvPr id="105" name=""/>
            <p:cNvSpPr/>
            <p:nvPr/>
          </p:nvSpPr>
          <p:spPr>
            <a:xfrm>
              <a:off x="5388120" y="3753000"/>
              <a:ext cx="1828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klu~uvaweto na javnosta obi~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e slu~uva vo ovie momenti.</a:t>
              </a:r>
              <a:r>
                <a:rPr b="0" lang="en-GB" sz="16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359320" y="39564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06480" y="4159440"/>
              <a:ext cx="1791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oa mo`e da se slu~i i vo neko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druga faza od procesot na OV@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359320" y="4363200"/>
              <a:ext cx="1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67920" y="436320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44920" y="5118120"/>
            <a:ext cx="2419920" cy="388800"/>
            <a:chOff x="4444920" y="5118120"/>
            <a:chExt cx="2419920" cy="388800"/>
          </a:xfrm>
        </p:grpSpPr>
        <p:sp>
          <p:nvSpPr>
            <p:cNvPr id="111" name=""/>
            <p:cNvSpPr/>
            <p:nvPr/>
          </p:nvSpPr>
          <p:spPr>
            <a:xfrm>
              <a:off x="4561560" y="5118120"/>
              <a:ext cx="2303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formaciite od ovoj proc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pridonesuvaat za efikasna OV@S vo idnina</a:t>
              </a: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4920" y="52322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020280" y="52322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5518080" y="1707840"/>
            <a:ext cx="98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treba OV@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006800" y="2082960"/>
            <a:ext cx="879480" cy="422280"/>
            <a:chOff x="4006800" y="2082960"/>
            <a:chExt cx="879480" cy="422280"/>
          </a:xfrm>
        </p:grpSpPr>
        <p:sp>
          <p:nvSpPr>
            <p:cNvPr id="116" name=""/>
            <p:cNvSpPr/>
            <p:nvPr/>
          </p:nvSpPr>
          <p:spPr>
            <a:xfrm>
              <a:off x="4120560" y="2082960"/>
              <a:ext cx="765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nicijaln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spituvawe n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`iv. sred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06800" y="2184840"/>
              <a:ext cx="7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053600" y="2286360"/>
              <a:ext cx="10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543040" y="1636560"/>
            <a:ext cx="736920" cy="152640"/>
            <a:chOff x="2543040" y="1636560"/>
            <a:chExt cx="736920" cy="152640"/>
          </a:xfrm>
        </p:grpSpPr>
        <p:sp>
          <p:nvSpPr>
            <p:cNvPr id="120" name=""/>
            <p:cNvSpPr/>
            <p:nvPr/>
          </p:nvSpPr>
          <p:spPr>
            <a:xfrm>
              <a:off x="2543040" y="163656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Treba 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18000" y="163656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2584800" y="5029200"/>
            <a:ext cx="64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oglasno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01600" y="4495680"/>
            <a:ext cx="84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e e 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oektot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2840" y="4019400"/>
            <a:ext cx="63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dizajni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08080" y="3533760"/>
            <a:ext cx="85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novo da 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odne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107960" y="1012680"/>
            <a:ext cx="724680" cy="376200"/>
            <a:chOff x="4107960" y="1012680"/>
            <a:chExt cx="724680" cy="376200"/>
          </a:xfrm>
        </p:grpSpPr>
        <p:sp>
          <p:nvSpPr>
            <p:cNvPr id="127" name=""/>
            <p:cNvSpPr/>
            <p:nvPr/>
          </p:nvSpPr>
          <p:spPr>
            <a:xfrm>
              <a:off x="4120920" y="101268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07960" y="1114200"/>
              <a:ext cx="72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dentifikaci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na predlogo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562720" y="3429000"/>
            <a:ext cx="1511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*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klu~uvawe na javnost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0600" y="1631880"/>
            <a:ext cx="3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64280" y="2114640"/>
            <a:ext cx="68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dreduvaw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na obemo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92000" y="2565360"/>
            <a:ext cx="642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naliza n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lijani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84360" y="3044880"/>
            <a:ext cx="847080" cy="477720"/>
            <a:chOff x="2484360" y="3044880"/>
            <a:chExt cx="847080" cy="477720"/>
          </a:xfrm>
        </p:grpSpPr>
        <p:sp>
          <p:nvSpPr>
            <p:cNvPr id="134" name=""/>
            <p:cNvSpPr/>
            <p:nvPr/>
          </p:nvSpPr>
          <p:spPr>
            <a:xfrm>
              <a:off x="2593080" y="3044880"/>
              <a:ext cx="73836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Ubla`uvawe i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spravuvawe so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vlijaniet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50240" y="31464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84360" y="324792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595600" y="3552840"/>
            <a:ext cx="634680" cy="304920"/>
            <a:chOff x="2595600" y="3552840"/>
            <a:chExt cx="634680" cy="304920"/>
          </a:xfrm>
        </p:grpSpPr>
        <p:sp>
          <p:nvSpPr>
            <p:cNvPr id="138" name=""/>
            <p:cNvSpPr/>
            <p:nvPr/>
          </p:nvSpPr>
          <p:spPr>
            <a:xfrm>
              <a:off x="2595600" y="3552840"/>
              <a:ext cx="634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Izve{taj za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OV@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38880" y="3552840"/>
              <a:ext cx="34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MAC C Swiss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667600" y="4089240"/>
            <a:ext cx="476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</a:t>
            </a: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vizija</a:t>
            </a:r>
            <a:r>
              <a:rPr b="0" lang="en-GB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441880" y="4498920"/>
            <a:ext cx="1014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D</a:t>
            </a:r>
            <a:r>
              <a:rPr b="1" lang="en-US" sz="12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onesuvaw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MAC C Swiss"/>
                <a:ea typeface="Times New Roman"/>
              </a:rPr>
              <a:t>odlu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1676520"/>
            <a:ext cx="828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lektiraw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280" y="723960"/>
            <a:ext cx="741708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MAC C Swiss"/>
              </a:rPr>
              <a:t>Ulogata na OV@S vo donesuvaweto na kone~nite odluk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463840"/>
            <a:ext cx="83059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Da obezbedi informacii potrebni za donesuvaweto odluk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62440" indent="-2624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Da go obezbedi klu~niot pridones vo odreduvaweto dali eden predlog e prifatliv 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62440" indent="-2624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Da pomogne vo utvrduvaweto na uslovite od aspekt na `ivotnata sredina {to treba da se po~ituvaat pri sproveduvaweto na proekto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36240" y="704880"/>
            <a:ext cx="7359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800000"/>
                </a:solidFill>
                <a:latin typeface="MAC C Swiss"/>
              </a:rPr>
              <a:t>Ulogata na OV@S vo donesuvaweto odluki</a:t>
            </a:r>
            <a:endParaRPr b="1" lang="en-US" sz="24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732816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Predlogot e odobre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Predlogot e odobren so odredeni uslovi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Predlogot e staven vo miruvawe vo o~ekuvawe na dopolnitelno ispituvaw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Predlogot e vraten za revizija i povtorno dostavuvaw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MAC C Swiss"/>
              </a:rPr>
              <a:t>Predlogot e odbie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7760" y="712800"/>
            <a:ext cx="741060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Zemawe predvid na OV@S vo donesuvaweto odluki vo soglasnost so Direktivata za OV@S na EK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2432160"/>
            <a:ext cx="8382240" cy="26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Rezultatite od konsultaciite so javnosta i izve{tajot za OV@S mora da bidat zemeni predvid za vreme na postapkata za davawe soglasnost za proektot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len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8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Potoa, nadle`niot organ }e ja informira javnosta z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76240" indent="-39348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odr`inata na odlukata i nametnatite uslov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76240" indent="-39348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Glavnite pri~ini i razmisluvawa vrz koi e zasnovana odlukat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vklu~uvaj}i gi i informaciite za procesot na u~estvo na javnosta i opis na glavnite merki za izbegnuvawe, namaluvawe i dokolku e mo`no kompenzirawe na pogolemite negativni efekt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~len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9.1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8120" y="725040"/>
            <a:ext cx="7182000" cy="13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Zemawe predvid na OV@S vo donesuvaweto odluki vo soglasnost so pravilata na Svetskata bank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8280" y="2438280"/>
            <a:ext cx="81662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Utvrdeni se op{ti barawa {to predviduvaat rezultatite od konsultaciite so javnosta da bidat zemeni predvid pri donesuvaweto odluki i sproveduvaweto na proektite.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len 20 od Pravilata za rabota 4.01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280" y="705960"/>
            <a:ext cx="74170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Zemawe predvid na OV@S vo donesuvaweto odluki vo soglasnost so Evropskata banka za obnova i razvoj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139680" y="2437920"/>
            <a:ext cx="8902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5532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ponzorite na proektite treba da gi informiraat subjektite koi iska`uvaat komentari, kako i zasegnatata javnost za toa na koj na~in bile zemeni predvid nivnite komentari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olitika za `ivotna sredin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nek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2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len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3.8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35532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Za svoja sopstvena analiza,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EB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OR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zgotvuva rezime vo vrska so komentarite na javnosta i izve{tajot za konsultaciite so javnosta. Rezimeto osobeno se osvrnuva na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1320840" indent="-2667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Komentarite i kako po niv postapile sponzorite na proektite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1320840" indent="-2667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Kako sponzorot postapil po barawata na EBOR za konsultirawe na javnost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r>
              <a:rPr b="1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olitika za `ivotna sredin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anek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2,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len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3.8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1280" y="704520"/>
            <a:ext cx="74170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Zemawe predvid na OV@S vo donesuvaweto odluki vo soglasnost so konvencijata </a:t>
            </a:r>
            <a:r>
              <a:rPr b="1" lang="cs-CZ" sz="2800" spc="-1" strike="noStrike">
                <a:solidFill>
                  <a:srgbClr val="800000"/>
                </a:solidFill>
                <a:latin typeface="MAC C Swiss"/>
              </a:rPr>
              <a:t>Espoo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432160"/>
            <a:ext cx="7696440" cy="26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Pri donesuvawe na kone~nata odluka za predlo`enata aktivnost, strankata od kade poteknuva predlogot treba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da gi zeme predvid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: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57880" indent="-30924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</a:rPr>
              <a:t>Dokumentacijata za OV@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57880" indent="-30924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Komentarite primeni za vreme na prekugrani~nite konsultacii za vreme na odreduvaweto na obemot i revizijata na izve{tajot za OV@S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len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6.1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365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365400" indent="-3654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trankata od kade poteknuva predlogot treba da &amp;  ja dostavi na zasegnatata stranka kone~nata odluka za predlo`enata aktivnost, zaedno so pri~inita za takvta odluk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len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6.2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640" y="712800"/>
            <a:ext cx="7467840" cy="131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MAC C Swiss"/>
              </a:rPr>
              <a:t>Zemawe predvid na OV@S vo donesuvaweto odluki vo soglasnost so Arhuskata konvencij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koja stranka }e go zeme predvid ishodot od u~estvoto na javnosta pri donesuvaweto na odlukat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len 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6.8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)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Sekoja stranka treba da obezbedi vlastite brzo da ja informiraat javnosta za toa deka odredena odluka e donesen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 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Tekstot na odlukata, zaedno so pri~inite i razmisluvawata vrz koi taa e zasnovana, treba da &amp;  bidat dostapni na javnosta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. 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~len</a:t>
            </a:r>
            <a:r>
              <a:rPr b="0" lang="en-GB" sz="1600" spc="-1" strike="noStrike">
                <a:solidFill>
                  <a:srgbClr val="000000"/>
                </a:solidFill>
                <a:latin typeface="MAC C Swiss"/>
                <a:ea typeface="Times New Roman"/>
              </a:rPr>
              <a:t> 6.9</a:t>
            </a:r>
            <a:r>
              <a:rPr b="0" lang="cs-CZ" sz="1600" spc="-1" strike="noStrike">
                <a:solidFill>
                  <a:srgbClr val="000000"/>
                </a:solidFill>
                <a:latin typeface="MAC C Swiss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3-31T11:53:26Z</dcterms:modified>
  <cp:revision>383</cp:revision>
  <dc:subject/>
  <dc:title>No Slide Title</dc:title>
</cp:coreProperties>
</file>