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68D6-68E3-4B3C-9983-01C3968B52C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ffffcc"/>
                </a:solidFill>
                <a:latin typeface="ArialHU"/>
              </a:rPr>
              <a:t>THE ROLE OF EIA AND DECISION-M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48520"/>
            <a:ext cx="2819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IA TRAINING RESOURCE MANUAL FOR SOUTH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23160" y="131760"/>
            <a:ext cx="93996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8088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0492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SUPPORTED BY THE EUROPEAN UNION’S OBNOVA AND PHARE 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07732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8180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48640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83920"/>
            <a:ext cx="3753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TRAINING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SOURCE MANUAL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OR SOUTH EASTER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2720" y="4257720"/>
            <a:ext cx="341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The role of EIA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decision-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61764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rcRect l="8824" t="25000" r="7842" b="25000"/>
          <a:stretch/>
        </p:blipFill>
        <p:spPr>
          <a:xfrm>
            <a:off x="838080" y="9144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1280" y="736200"/>
            <a:ext cx="7417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The role of EIA in final decision-mak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88480" y="2412720"/>
            <a:ext cx="7874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62440" indent="-2624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o provide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information necessary for decision-making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62440" indent="-2624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To provide key input to help determine if a proposal is acceptable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62440" indent="-2624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o help establish environmental terms and </a:t>
            </a: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conditions for </a:t>
            </a:r>
            <a:br>
              <a:rPr sz="1600"/>
            </a:b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ject implementatio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36240" y="691920"/>
            <a:ext cx="73594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The role </a:t>
            </a: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of EIA in </a:t>
            </a:r>
            <a:r>
              <a:rPr b="0" lang="en-AU" sz="2800" spc="-1" strike="noStrike">
                <a:solidFill>
                  <a:srgbClr val="800000"/>
                </a:solidFill>
                <a:latin typeface="ArialHUBold"/>
              </a:rPr>
              <a:t>decision-making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01440" y="2413080"/>
            <a:ext cx="694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posal approv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posal approved with condition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posal put on hold, pending further study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posal returned for revision and resubmission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HU"/>
              </a:rPr>
              <a:t>Proposal rejecte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7760" y="738360"/>
            <a:ext cx="7410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aking account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 of EIA decision-making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the EC EIA Directive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2406240"/>
            <a:ext cx="739152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results of public consultations and the EIA Report must be taken into consideration during the development consent procedure.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 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e competent authority shall then inform the public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of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76240" indent="-3934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ntents of the decision and any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mpose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nditions; an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76240" indent="-3934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main reasons and considerations upon which the decision is based, including information about the public participation process, and a description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of principal measures taken to avoid, reduce and, if possible, offset any major adverse effects. 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Art.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9.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8120" y="738360"/>
            <a:ext cx="71820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aking account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 of EIA in decision</a:t>
            </a:r>
            <a:r>
              <a:rPr b="0" lang="hu-HU" sz="2800" spc="-1" strike="noStrike">
                <a:solidFill>
                  <a:srgbClr val="800000"/>
                </a:solidFill>
                <a:latin typeface="ArialHUBold"/>
              </a:rPr>
              <a:t>-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making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</a:t>
            </a:r>
            <a:r>
              <a:rPr b="0" lang="en-GB" sz="2800" spc="-1" strike="noStrike">
                <a:solidFill>
                  <a:srgbClr val="800000"/>
                </a:solidFill>
                <a:latin typeface="ArialHUBold"/>
              </a:rPr>
              <a:t>World Bank procedu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95320" y="24062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General requirements have been established for taking due account of the results of public consultation in decision-making and in project implementation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. 20 of the OP 4.01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1280" y="73188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aking account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 of EIA in decision</a:t>
            </a:r>
            <a:r>
              <a:rPr b="0" lang="hu-HU" sz="2800" spc="-1" strike="noStrike">
                <a:solidFill>
                  <a:srgbClr val="800000"/>
                </a:solidFill>
                <a:latin typeface="ArialHUBold"/>
              </a:rPr>
              <a:t>-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making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EBR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9960" y="2413080"/>
            <a:ext cx="7467840" cy="33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5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roject sponsors need to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inform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ose commenting, as well as the affected public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of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ow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heir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mments were taken into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ccount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   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Env. Policy, Annex 2, Art. 3.8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35532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For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ts own review, the EBRD summarise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public commen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an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report on public consultation.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It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onsider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especially: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ny comments an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how they have been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ddressed by project sponsors; an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how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sponsor has addressed the Bank’s requirements for public consultation.</a:t>
            </a:r>
            <a:r>
              <a:rPr b="1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Env. Policy, Annex 2, Art. 3.8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1280" y="729720"/>
            <a:ext cx="74170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aking account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 of EIA in decision</a:t>
            </a:r>
            <a:r>
              <a:rPr b="0" lang="hu-HU" sz="2800" spc="-1" strike="noStrike">
                <a:solidFill>
                  <a:srgbClr val="800000"/>
                </a:solidFill>
                <a:latin typeface="ArialHUBold"/>
              </a:rPr>
              <a:t>-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making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the Espoo 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2720" y="2406240"/>
            <a:ext cx="727056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par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y of origin shall,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 the final decision on the proposed activity,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take due account of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66880" indent="-3124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HU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IA documentation; an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66880" indent="-31248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comments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received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during transboundary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consultations during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scoping and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review of EIA repor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6.1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93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9360" indent="-3693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he party of origin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hall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rovide the affected party with the final decision on the proposed activity, along with the reasons upon which it is based.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6.2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31640" y="738360"/>
            <a:ext cx="746784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Taking account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 of EIA in decision</a:t>
            </a:r>
            <a:r>
              <a:rPr b="0" lang="hu-HU" sz="2800" spc="-1" strike="noStrike">
                <a:solidFill>
                  <a:srgbClr val="800000"/>
                </a:solidFill>
                <a:latin typeface="ArialHUBold"/>
              </a:rPr>
              <a:t>-</a:t>
            </a:r>
            <a:r>
              <a:rPr b="0" lang="en-US" sz="2800" spc="-1" strike="noStrike">
                <a:solidFill>
                  <a:srgbClr val="800000"/>
                </a:solidFill>
                <a:latin typeface="ArialHUBold"/>
              </a:rPr>
              <a:t>making </a:t>
            </a:r>
            <a:br>
              <a:rPr sz="2800"/>
            </a:br>
            <a:r>
              <a:rPr b="0" lang="cs-CZ" sz="2800" spc="-1" strike="noStrike">
                <a:solidFill>
                  <a:srgbClr val="800000"/>
                </a:solidFill>
                <a:latin typeface="ArialHUBold"/>
              </a:rPr>
              <a:t>in accordance with the Aarhus Convention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88480" y="2406600"/>
            <a:ext cx="7543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ach party shall ensure due account of the outcome of public participation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in the decision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Courier New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6.8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ach party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shall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ensure that public authorities promptly inform the public when a decision has been taken.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he text of the decision, along with the reasons and considerations upon which it is based,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 needs to be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ublicly accessible.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Art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6.9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zsbauer</cp:lastModifiedBy>
  <cp:lastPrinted>2002-04-02T12:21:41Z</cp:lastPrinted>
  <dcterms:modified xsi:type="dcterms:W3CDTF">2003-10-27T08:46:01Z</dcterms:modified>
  <cp:revision>355</cp:revision>
  <dc:subject/>
  <dc:title>No Slide Title</dc:title>
</cp:coreProperties>
</file>