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9AE6-E18A-4C83-872C-46AD4A4C9BA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INTRODUCTION TO 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27840" y="131760"/>
            <a:ext cx="93528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364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43760"/>
            <a:ext cx="49068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10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32280" y="47109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ntroduction to 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0" y="1483920"/>
            <a:ext cx="3827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895320" y="241272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o identify any significant environmental effect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of a major development projec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to design any mitigation measures necessary to reduc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or remedy those effect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42720" y="679320"/>
            <a:ext cx="6591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HUBold"/>
              </a:rPr>
              <a:t>Purpose of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6858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EIA is a tool that is applied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88480" y="2412720"/>
            <a:ext cx="78742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fore major decisions are taken and when al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ternatives are still open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form all stages of decision making, including final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roval and the establishment of conditions for project implementation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th public participation and consultation; an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integrate environmental considerations an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eguards into all phases of project design, construction and operatio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14:11Z</dcterms:modified>
  <cp:revision>239</cp:revision>
  <dc:subject/>
  <dc:title>No Slide Title</dc:title>
</cp:coreProperties>
</file>