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095880"/>
            <a:ext cx="1752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86200" y="11430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86200" y="11430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839080" y="604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D6192-4F1F-496A-B09E-57226E5FB61B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581280" y="648504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MAC C Swiss"/>
              </a:rPr>
              <a:t>VKLU^UVAWE NA JAVNO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01520"/>
            <a:ext cx="541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MAC C Swiss"/>
              </a:rPr>
              <a:t>Poddr`ano od EU programate Obnova i F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2"/>
          <a:stretch/>
        </p:blipFill>
        <p:spPr>
          <a:xfrm>
            <a:off x="7845480" y="131760"/>
            <a:ext cx="993600" cy="93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1" name=""/>
          <p:cNvSpPr/>
          <p:nvPr/>
        </p:nvSpPr>
        <p:spPr>
          <a:xfrm>
            <a:off x="457200" y="6108840"/>
            <a:ext cx="3429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MAC C Swiss"/>
              </a:rPr>
              <a:t>PRIRA^NIK ZA OBUKA ZA OCENKA NA VLIJANIETO VRZ @IVOTNATA SREDINA (OV@S) ZA JUGOISTO^NA EV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648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5257800"/>
            <a:ext cx="1066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19040" y="6151680"/>
            <a:ext cx="3124440" cy="687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38120" y="58680"/>
            <a:ext cx="571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MAC C Swiss"/>
              </a:rPr>
              <a:t>Poddr`ano od EU programate Obnova i F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975440" y="617688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7362720" y="6180120"/>
            <a:ext cx="490680" cy="576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5486400" y="6167520"/>
            <a:ext cx="1676520" cy="576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838760" y="4300560"/>
            <a:ext cx="388620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  <a:ea typeface="Times New Roman"/>
              </a:rPr>
              <a:t>Vklu~uvawe na javno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44880" y="1419120"/>
            <a:ext cx="384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C C Swiss"/>
              </a:rPr>
              <a:t>PRIRA^NIK ZA OBUKA ZA OCENKA NA VLIJANIETO VRZ @IVOTNATA SREDINA (OV@S) ZA JUGOISTO^NA EVRO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03320" y="1506600"/>
            <a:ext cx="359892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55680" y="736200"/>
            <a:ext cx="68198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800000"/>
                </a:solidFill>
                <a:latin typeface="MAC C Swiss"/>
              </a:rPr>
              <a:t>^esti izgovori {to se davaat za izbegnuvawe na vklu~uvaweto na javnosta</a:t>
            </a:r>
            <a:endParaRPr b="1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44240" y="2451240"/>
            <a:ext cx="4190760" cy="16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Seu{te e rano da se vklu~i javnosta vo procesot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]e odzeme mnogu vreme i skapo }e ~ini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]e predizvika protivewe (opozicija)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9" name=""/>
          <p:cNvSpPr/>
          <p:nvPr/>
        </p:nvSpPr>
        <p:spPr>
          <a:xfrm>
            <a:off x="4922640" y="2463840"/>
            <a:ext cx="387108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Debatata }e bide ednostra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]e pottikneme premnogu o~ekuvaw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Lu|eto nema da razber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648320" y="2362320"/>
            <a:ext cx="0" cy="160020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3080" y="678960"/>
            <a:ext cx="75117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MAC C Swiss"/>
              </a:rPr>
              <a:t>Vklu~uvawe na javnosta vo</a:t>
            </a:r>
            <a:r>
              <a:rPr b="0" lang="cs-CZ" sz="2800" spc="-1" strike="noStrike">
                <a:solidFill>
                  <a:srgbClr val="800000"/>
                </a:solidFill>
                <a:latin typeface="MAC C Swiss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MAC C Swiss"/>
              </a:rPr>
              <a:t>OV@S</a:t>
            </a:r>
            <a:r>
              <a:rPr b="0" lang="cs-CZ" sz="2800" spc="-1" strike="noStrike">
                <a:solidFill>
                  <a:srgbClr val="800000"/>
                </a:solidFill>
                <a:latin typeface="MAC C Swiss"/>
              </a:rPr>
              <a:t>:</a:t>
            </a:r>
            <a:br>
              <a:rPr sz="2800"/>
            </a:br>
            <a:r>
              <a:rPr b="0" lang="cs-CZ" sz="2800" spc="-1" strike="noStrike">
                <a:solidFill>
                  <a:srgbClr val="800000"/>
                </a:solidFill>
                <a:latin typeface="MAC C Swiss"/>
              </a:rPr>
              <a:t>k</a:t>
            </a:r>
            <a:r>
              <a:rPr b="0" lang="en-US" sz="2800" spc="-1" strike="noStrike">
                <a:solidFill>
                  <a:srgbClr val="800000"/>
                </a:solidFill>
                <a:latin typeface="MAC C Swiss"/>
              </a:rPr>
              <a:t>lu~ni odredbi na Arhuskata konvencij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67920" y="2526840"/>
            <a:ext cx="736596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Odredbite od Arhuskata konvencija sega se celosno preto~eni vo  Direktivata za OV@S na Evropskata Komisija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otkako bea vovedeni amandmani so Direktivata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 2003/35/EC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67920" y="698400"/>
            <a:ext cx="7512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MAC C Swiss"/>
              </a:rPr>
              <a:t>Arhuska konvencija</a:t>
            </a:r>
            <a:r>
              <a:rPr b="0" lang="cs-CZ" sz="2800" spc="-1" strike="noStrike">
                <a:solidFill>
                  <a:srgbClr val="800000"/>
                </a:solidFill>
                <a:latin typeface="MAC C Swiss"/>
              </a:rPr>
              <a:t>:</a:t>
            </a:r>
            <a:br>
              <a:rPr sz="2800"/>
            </a:br>
            <a:r>
              <a:rPr b="0" lang="cs-CZ" sz="2800" spc="-1" strike="noStrike">
                <a:solidFill>
                  <a:srgbClr val="800000"/>
                </a:solidFill>
                <a:latin typeface="MAC C Swiss"/>
              </a:rPr>
              <a:t>defini</a:t>
            </a:r>
            <a:r>
              <a:rPr b="0" lang="en-US" sz="2800" spc="-1" strike="noStrike">
                <a:solidFill>
                  <a:srgbClr val="800000"/>
                </a:solidFill>
                <a:latin typeface="MAC C Swiss"/>
              </a:rPr>
              <a:t>rawe na javnost i na konkretna javnos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44240" y="2438280"/>
            <a:ext cx="830556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MAC C Swiss"/>
                <a:ea typeface="Times New Roman"/>
              </a:rPr>
              <a:t>„</a:t>
            </a:r>
            <a:r>
              <a:rPr b="0" lang="en-GB" sz="1600" spc="-1" strike="noStrike">
                <a:solidFill>
                  <a:srgbClr val="800000"/>
                </a:solidFill>
                <a:latin typeface="MAC C Swiss"/>
                <a:ea typeface="Times New Roman"/>
              </a:rPr>
              <a:t>Javnost” </a:t>
            </a:r>
            <a:r>
              <a:rPr b="0" lang="cs-CZ" sz="1600" spc="-1" strike="noStrike">
                <a:solidFill>
                  <a:srgbClr val="800000"/>
                </a:solidFill>
                <a:latin typeface="MAC C Swiss"/>
              </a:rPr>
              <a:t>(</a:t>
            </a:r>
            <a:r>
              <a:rPr b="0" lang="en-US" sz="1600" spc="-1" strike="noStrike">
                <a:solidFill>
                  <a:srgbClr val="800000"/>
                </a:solidFill>
                <a:latin typeface="MAC C Swiss"/>
              </a:rPr>
              <a:t>~len </a:t>
            </a:r>
            <a:r>
              <a:rPr b="0" lang="cs-CZ" sz="1600" spc="-1" strike="noStrike">
                <a:solidFill>
                  <a:srgbClr val="800000"/>
                </a:solidFill>
                <a:latin typeface="MAC C Swiss"/>
              </a:rPr>
              <a:t>2.4) </a:t>
            </a:r>
            <a:r>
              <a:rPr b="0" lang="en-GB" sz="1600" spc="-1" strike="noStrike">
                <a:solidFill>
                  <a:srgbClr val="800000"/>
                </a:solidFill>
                <a:latin typeface="MAC C Swiss"/>
                <a:ea typeface="Times New Roman"/>
              </a:rPr>
              <a:t>ozna~uva</a:t>
            </a:r>
            <a:r>
              <a:rPr b="0" lang="cs-CZ" sz="1600" spc="-1" strike="noStrike">
                <a:solidFill>
                  <a:srgbClr val="800000"/>
                </a:solidFill>
                <a:latin typeface="MAC C Swiss"/>
              </a:rPr>
              <a:t>:</a:t>
            </a:r>
            <a:br>
              <a:rPr sz="1600"/>
            </a:br>
            <a:r>
              <a:rPr b="0" lang="cs-CZ" sz="1600" spc="-1" strike="noStrike">
                <a:solidFill>
                  <a:srgbClr val="800000"/>
                </a:solidFill>
                <a:latin typeface="MAC C Swiss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6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edno ili pove}e fizi~ki ili pravni lica; i,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6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v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 soglasnost so nacionalnoto zakonodavstvo ili praksa, nivni zdru`enija, organizacii ili grupi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MAC C Swiss"/>
                <a:ea typeface="Times New Roman"/>
              </a:rPr>
              <a:t>„</a:t>
            </a:r>
            <a:r>
              <a:rPr b="0" lang="en-GB" sz="1600" spc="-1" strike="noStrike">
                <a:solidFill>
                  <a:srgbClr val="800000"/>
                </a:solidFill>
                <a:latin typeface="MAC C Swiss"/>
                <a:ea typeface="Times New Roman"/>
              </a:rPr>
              <a:t>Konkretna</a:t>
            </a:r>
            <a:r>
              <a:rPr b="0" lang="en-US" sz="1600" spc="-1" strike="noStrike">
                <a:solidFill>
                  <a:srgbClr val="800000"/>
                </a:solidFill>
                <a:latin typeface="MAC C Swiss"/>
                <a:ea typeface="Times New Roman"/>
              </a:rPr>
              <a:t> (zasegnata)</a:t>
            </a:r>
            <a:r>
              <a:rPr b="0" lang="en-GB" sz="1600" spc="-1" strike="noStrike">
                <a:solidFill>
                  <a:srgbClr val="800000"/>
                </a:solidFill>
                <a:latin typeface="MAC C Swiss"/>
                <a:ea typeface="Times New Roman"/>
              </a:rPr>
              <a:t> javnost” (~len 2.5</a:t>
            </a:r>
            <a:r>
              <a:rPr b="0" lang="cs-CZ" sz="1600" spc="-1" strike="noStrike">
                <a:solidFill>
                  <a:srgbClr val="800000"/>
                </a:solidFill>
                <a:latin typeface="MAC C Swiss"/>
              </a:rPr>
              <a:t>) </a:t>
            </a:r>
            <a:r>
              <a:rPr b="0" lang="en-GB" sz="1600" spc="-1" strike="noStrike">
                <a:solidFill>
                  <a:srgbClr val="800000"/>
                </a:solidFill>
                <a:latin typeface="MAC C Swiss"/>
                <a:ea typeface="Times New Roman"/>
              </a:rPr>
              <a:t>se odnesuva na: </a:t>
            </a:r>
            <a:br>
              <a:rPr sz="1600"/>
            </a:br>
            <a:r>
              <a:rPr b="0" lang="en-GB" sz="1600" spc="-1" strike="noStrike">
                <a:solidFill>
                  <a:srgbClr val="800000"/>
                </a:solidFill>
                <a:latin typeface="MAC C Swiss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6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j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avnosta zasegnata (vo momentot ili vo idnina) so donesuvaweto odluki za `ivotnata sredina;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6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javnosta koja ima interes vo donesuvaweto odluki za `ivotnata sredina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; i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6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]e se smeta deka interes imaat i nevladinite organizacii {to ja unapreduvaat za{titata na `ivotnata sredina i {to ispolnuvaat koj i da e uslov postaven vo nacionalniot zakon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55320" y="723600"/>
            <a:ext cx="735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MAC C Swiss"/>
              </a:rPr>
              <a:t>Arhuska konvencija</a:t>
            </a:r>
            <a:r>
              <a:rPr b="0" lang="cs-CZ" sz="2400" spc="-1" strike="noStrike">
                <a:solidFill>
                  <a:srgbClr val="800000"/>
                </a:solidFill>
                <a:latin typeface="MAC C Swiss"/>
              </a:rPr>
              <a:t>:</a:t>
            </a:r>
            <a:br>
              <a:rPr sz="2400"/>
            </a:br>
            <a:r>
              <a:rPr b="0" lang="cs-CZ" sz="2400" spc="-1" strike="noStrike">
                <a:solidFill>
                  <a:srgbClr val="800000"/>
                </a:solidFill>
                <a:latin typeface="MAC C Swiss"/>
              </a:rPr>
              <a:t>k</a:t>
            </a:r>
            <a:r>
              <a:rPr b="0" lang="en-US" sz="2400" spc="-1" strike="noStrike">
                <a:solidFill>
                  <a:srgbClr val="800000"/>
                </a:solidFill>
                <a:latin typeface="MAC C Swiss"/>
              </a:rPr>
              <a:t>lu~ni uslovi vo vrska so u~estvoto na javnosta</a:t>
            </a:r>
            <a:endParaRPr b="1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82044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7200" indent="-27720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Zasegnatata javnost treba da bide informirana na navremen i efikasen na~in, 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plus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 element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i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 o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d dokumentot so koj se izvestuva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~len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 6.2.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7200" indent="-27720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Razumni vremenski ramki za efektivno u~estvo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~len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 6.3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7200" indent="-27720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Navremeno u~estvo na javnosta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koga site opcii se otvoreni i koga mo`e da se realizira efikasno u~estvo na javnosta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~len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 6.4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7200" indent="-27720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Sloboden pristap do informaciite vedna{ {tom toa }e bide mo`no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~len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 6.6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7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7200" indent="-27720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Postapki na u~estvo na javnosta so koi na javnosta &amp;  se ovozmo`uva da dostavuva zabele{ki, informacii, analizi ili mislewa vo pismena forma ili na javna rasprava ili javen uvid 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~len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 6.8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6326280" cy="474984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2738160" y="5486400"/>
            <a:ext cx="653040" cy="366480"/>
            <a:chOff x="2738160" y="5486400"/>
            <a:chExt cx="653040" cy="366480"/>
          </a:xfrm>
        </p:grpSpPr>
        <p:sp>
          <p:nvSpPr>
            <p:cNvPr id="104" name=""/>
            <p:cNvSpPr/>
            <p:nvPr/>
          </p:nvSpPr>
          <p:spPr>
            <a:xfrm>
              <a:off x="2748960" y="5486400"/>
              <a:ext cx="64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Realizacija i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monitor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738160" y="5577840"/>
              <a:ext cx="1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14840" y="567252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511960" y="3753000"/>
            <a:ext cx="1856880" cy="883440"/>
            <a:chOff x="5511960" y="3753000"/>
            <a:chExt cx="1856880" cy="883440"/>
          </a:xfrm>
        </p:grpSpPr>
        <p:sp>
          <p:nvSpPr>
            <p:cNvPr id="108" name=""/>
            <p:cNvSpPr/>
            <p:nvPr/>
          </p:nvSpPr>
          <p:spPr>
            <a:xfrm>
              <a:off x="5540760" y="3753000"/>
              <a:ext cx="1828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Vklu~uvaweto na javnosta obi~n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se slu~uva vo ovie momenti.</a:t>
              </a:r>
              <a:r>
                <a:rPr b="0" lang="en-GB" sz="16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11960" y="3956400"/>
              <a:ext cx="14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58760" y="4159440"/>
              <a:ext cx="1791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Toa mo`e da se slu~i i vo nekoj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druga faza od procesot na OV@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11960" y="4363200"/>
              <a:ext cx="144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19840" y="436320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597560" y="5118120"/>
            <a:ext cx="2419920" cy="388800"/>
            <a:chOff x="4597560" y="5118120"/>
            <a:chExt cx="2419920" cy="388800"/>
          </a:xfrm>
        </p:grpSpPr>
        <p:sp>
          <p:nvSpPr>
            <p:cNvPr id="114" name=""/>
            <p:cNvSpPr/>
            <p:nvPr/>
          </p:nvSpPr>
          <p:spPr>
            <a:xfrm>
              <a:off x="4714200" y="5118120"/>
              <a:ext cx="2303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nformaciite od ovoj proc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pridonesuvaat za efikasna OV@S vo idnina</a:t>
              </a: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97560" y="523224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172200" y="52322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670720" y="1707840"/>
            <a:ext cx="98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Ne treba OV@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4159080" y="2082960"/>
            <a:ext cx="879840" cy="422280"/>
            <a:chOff x="4159080" y="2082960"/>
            <a:chExt cx="879840" cy="422280"/>
          </a:xfrm>
        </p:grpSpPr>
        <p:sp>
          <p:nvSpPr>
            <p:cNvPr id="119" name=""/>
            <p:cNvSpPr/>
            <p:nvPr/>
          </p:nvSpPr>
          <p:spPr>
            <a:xfrm>
              <a:off x="4273200" y="2082960"/>
              <a:ext cx="7657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nicijaln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spituvawe n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`iv. sred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59080" y="2184840"/>
              <a:ext cx="72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05880" y="2286360"/>
              <a:ext cx="108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2695320" y="1636560"/>
            <a:ext cx="736920" cy="152640"/>
            <a:chOff x="2695320" y="1636560"/>
            <a:chExt cx="736920" cy="152640"/>
          </a:xfrm>
        </p:grpSpPr>
        <p:sp>
          <p:nvSpPr>
            <p:cNvPr id="123" name=""/>
            <p:cNvSpPr/>
            <p:nvPr/>
          </p:nvSpPr>
          <p:spPr>
            <a:xfrm>
              <a:off x="2695320" y="1636560"/>
              <a:ext cx="73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Treba OV@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70280" y="163656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2737080" y="5029200"/>
            <a:ext cx="649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Soglasn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53880" y="4495680"/>
            <a:ext cx="84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Ne e odobr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proektot</a:t>
            </a: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65480" y="4019400"/>
            <a:ext cx="63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Da s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redizajni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60360" y="3533760"/>
            <a:ext cx="85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dnovo da s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podne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260240" y="1012680"/>
            <a:ext cx="724680" cy="376200"/>
            <a:chOff x="4260240" y="1012680"/>
            <a:chExt cx="724680" cy="376200"/>
          </a:xfrm>
        </p:grpSpPr>
        <p:sp>
          <p:nvSpPr>
            <p:cNvPr id="130" name=""/>
            <p:cNvSpPr/>
            <p:nvPr/>
          </p:nvSpPr>
          <p:spPr>
            <a:xfrm>
              <a:off x="4273200" y="101268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260240" y="1114200"/>
              <a:ext cx="72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dentifikacij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na predlogo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5791320" y="3467160"/>
            <a:ext cx="1511280" cy="1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339933"/>
                </a:solidFill>
                <a:latin typeface="MAC C Swiss"/>
                <a:ea typeface="Times New Roman"/>
              </a:rPr>
              <a:t>*</a:t>
            </a:r>
            <a:r>
              <a:rPr b="1" lang="en-US" sz="900" spc="-1" strike="noStrike">
                <a:solidFill>
                  <a:srgbClr val="339933"/>
                </a:solidFill>
                <a:latin typeface="MAC C Swiss"/>
                <a:ea typeface="Times New Roman"/>
              </a:rPr>
              <a:t>Vklu~uvawe na javnosta</a:t>
            </a:r>
            <a:r>
              <a:rPr b="1" lang="en-GB" sz="900" spc="-1" strike="noStrike">
                <a:solidFill>
                  <a:srgbClr val="339933"/>
                </a:solidFill>
                <a:latin typeface="MAC C Swiss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1676520"/>
            <a:ext cx="82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Selektiraw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716560" y="2114640"/>
            <a:ext cx="68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dreduvaw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na obemo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744280" y="2565360"/>
            <a:ext cx="64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Analiza n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vlijani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637000" y="3035160"/>
            <a:ext cx="847800" cy="477720"/>
            <a:chOff x="2637000" y="3035160"/>
            <a:chExt cx="847800" cy="477720"/>
          </a:xfrm>
        </p:grpSpPr>
        <p:sp>
          <p:nvSpPr>
            <p:cNvPr id="137" name=""/>
            <p:cNvSpPr/>
            <p:nvPr/>
          </p:nvSpPr>
          <p:spPr>
            <a:xfrm>
              <a:off x="2746440" y="3035160"/>
              <a:ext cx="7383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Ubla`uvawe i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spravuvawe s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vlijanie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02520" y="313668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37000" y="323820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748240" y="3552840"/>
            <a:ext cx="634680" cy="304920"/>
            <a:chOff x="2748240" y="3552840"/>
            <a:chExt cx="634680" cy="304920"/>
          </a:xfrm>
        </p:grpSpPr>
        <p:sp>
          <p:nvSpPr>
            <p:cNvPr id="141" name=""/>
            <p:cNvSpPr/>
            <p:nvPr/>
          </p:nvSpPr>
          <p:spPr>
            <a:xfrm>
              <a:off x="2748240" y="3552840"/>
              <a:ext cx="634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zve{taj z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OV@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91520" y="35528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2820240" y="4089240"/>
            <a:ext cx="47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Re</a:t>
            </a: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vizija</a:t>
            </a: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76240" y="4505400"/>
            <a:ext cx="797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nesuvaw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dluka</a:t>
            </a: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31280" y="774720"/>
            <a:ext cx="6985080" cy="86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MAC C Swiss"/>
                <a:ea typeface="Arial"/>
              </a:rPr>
              <a:t>Klu~nite celi na vklu~uvaweto na javnost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2463480"/>
            <a:ext cx="4248360" cy="29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Da se zemat predvid mislewata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i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 gri`ite na klu~nite za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segnati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 strani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Da ne se napravi previd na odredeni va`ni vlijanija vrz `ivotnata sredina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Da se namalat konfliktite preku rana identifikacija na spornite pra{awa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"/>
          <p:cNvSpPr/>
          <p:nvPr/>
        </p:nvSpPr>
        <p:spPr>
          <a:xfrm>
            <a:off x="4870440" y="2451240"/>
            <a:ext cx="3809880" cy="19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Da se zgolemi transparentnosta i doverbata na javnosta vo procesot na OV@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Da se dobie lokalen pridones vo dizajniraweto alternativi i olesnitelni merk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0600" y="2514600"/>
            <a:ext cx="0" cy="182880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3000" y="6340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816120"/>
            <a:ext cx="6858000" cy="54324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31640" y="736200"/>
            <a:ext cx="782352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MAC C Swiss"/>
                <a:ea typeface="Arial"/>
              </a:rPr>
              <a:t>Nivoa na vklu~uvawe na javnosta 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2" name=""/>
          <p:cNvSpPr/>
          <p:nvPr/>
        </p:nvSpPr>
        <p:spPr>
          <a:xfrm>
            <a:off x="3994200" y="4876920"/>
            <a:ext cx="3809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Ednonaso~na komunikacija so subjektite zasegnati od odreden predlo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48440" y="377208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Dvonaso~na razmena na informacii so cel sogleduvawe na razmisluvawata na zainteresiranite strani za odreden predlog i negovite vlijanij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9200" y="2343240"/>
            <a:ext cx="3689280" cy="15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Eden pointeraktiven proces na anga`irawe na javnosta vo re{avaweto na problemite, utvrduvawe oblasti za koi postoi soglasnost i oblasti na nesoglasuvawe, kako i pravewe obid za usoglasuvawe na stavovite.</a:t>
            </a:r>
            <a:r>
              <a:rPr b="0" lang="en-US" sz="24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146400" y="2125800"/>
            <a:ext cx="416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68280" y="1314360"/>
            <a:ext cx="4952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Alternativen mehanizam za re{avawe sporovi zasnovan na zaedni~ko iznao|awe fakti, gradewe konsenzus i zadovoluvawe na razli~nite interesi so vzaemno pomagaw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464832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Informiraw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68840" y="3733920"/>
            <a:ext cx="22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Konsultira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18720" y="283212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U~estvuva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87080" y="118260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Pregovara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37760" y="743040"/>
            <a:ext cx="367668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MAC C Swiss"/>
                <a:ea typeface="Arial"/>
              </a:rPr>
              <a:t>Koi se u~esnicite?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62" name=""/>
          <p:cNvSpPr/>
          <p:nvPr/>
        </p:nvSpPr>
        <p:spPr>
          <a:xfrm>
            <a:off x="4876920" y="2435400"/>
            <a:ext cx="380988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Investitori i korisnici na proek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Vladini tela so odgovornosti ili politi~ki interesi povrzani so predlog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2435400"/>
            <a:ext cx="4114800" cy="16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Subjektite koi se direktno ili indirektno zasegnati od predlog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Subjektite zainteresirani za predlogot 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na pr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. N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V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O,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privatniot sektor, akademski li~nosti itn.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2362320"/>
            <a:ext cx="0" cy="167616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31640" y="729720"/>
            <a:ext cx="73915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800000"/>
                </a:solidFill>
                <a:latin typeface="MAC C Swiss"/>
              </a:rPr>
              <a:t>Na~ela na vklu~uvaweto na javnost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55320" y="2069640"/>
            <a:ext cx="373356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MAC C Swiss"/>
              </a:rPr>
              <a:t>Procesot treba da bide: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67" name=""/>
          <p:cNvSpPr/>
          <p:nvPr/>
        </p:nvSpPr>
        <p:spPr>
          <a:xfrm>
            <a:off x="4870440" y="2406600"/>
            <a:ext cx="3809880" cy="29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fer (da se sproveduva objektivno i bez pristrasnost vo pogled na bilo koja zainteresirana stran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podgotven da im izleze vo presret na barawata na zainteresiranite strani i otvoren za nivnite pridone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uverliv (sposoben da inspirira doverb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96880" y="2419200"/>
            <a:ext cx="3809880" cy="23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9880" indent="-2779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inkluziven (da gi opfa}a site zainteresirani stran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69880" indent="-2779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otvoren i transparenten (~ekorite i aktivnostite se razbran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69880" indent="-2779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relevanten (da se fokusira na pra{awata {to se bitn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648320" y="2362320"/>
            <a:ext cx="0" cy="228600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819520" y="1828800"/>
            <a:ext cx="4952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MAC C Swiss"/>
                <a:ea typeface="Times New Roman"/>
              </a:rPr>
              <a:t>Da se obezbedi: da bidat identifikuvani zna~ajnite pra{awa; da se soberat informacii vo vrska so proektot; i da se razgledaat alternativ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711520" y="2381400"/>
            <a:ext cx="5867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Da se izbegnat pristrasnosti/nepreciznosti vo analizata; da se identifikuvaat lokalnite vrednosti / sklonosti; da se pomogne vo razgleduvaweto na olesnitelnite merki; da se odbere najdobrata alternativa.</a:t>
            </a:r>
            <a:r>
              <a:rPr b="0" lang="en-US" sz="14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4273560"/>
            <a:ext cx="5829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MAC C Swiss"/>
                <a:ea typeface="Times New Roman"/>
              </a:rPr>
              <a:t>Da se razgleda i iskomentira izve{tajot za OV@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9520" y="5389560"/>
            <a:ext cx="50292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Da se nadgleduva ispolnuvaweto na preporakite od izve{tajot za OV@S i na uslovite utvrdeni vo odluka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129528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Da bidat konsultirani lu|eto za koi postoi verojatnost deka }e bidat zasegnati od predlogo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49200" y="771480"/>
            <a:ext cx="659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MAC C Swiss"/>
                <a:ea typeface="Times New Roman"/>
              </a:rPr>
              <a:t>Vklu~uvawe na javnosta vo glavnite fazi na OV@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1327320" y="1278000"/>
            <a:ext cx="1011240" cy="363600"/>
            <a:chOff x="1327320" y="1278000"/>
            <a:chExt cx="1011240" cy="363600"/>
          </a:xfrm>
        </p:grpSpPr>
        <p:sp>
          <p:nvSpPr>
            <p:cNvPr id="177" name=""/>
            <p:cNvSpPr/>
            <p:nvPr/>
          </p:nvSpPr>
          <p:spPr>
            <a:xfrm>
              <a:off x="1327320" y="1278000"/>
              <a:ext cx="1011240" cy="3636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32000" y="1282680"/>
              <a:ext cx="988920" cy="331920"/>
            </a:xfrm>
            <a:prstGeom prst="rect">
              <a:avLst/>
            </a:prstGeom>
            <a:solidFill>
              <a:srgbClr val="dee4e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521000" y="1332000"/>
            <a:ext cx="59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Skri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327320" y="1870200"/>
            <a:ext cx="1011240" cy="360360"/>
            <a:chOff x="1327320" y="1870200"/>
            <a:chExt cx="1011240" cy="360360"/>
          </a:xfrm>
        </p:grpSpPr>
        <p:sp>
          <p:nvSpPr>
            <p:cNvPr id="181" name=""/>
            <p:cNvSpPr/>
            <p:nvPr/>
          </p:nvSpPr>
          <p:spPr>
            <a:xfrm>
              <a:off x="1327320" y="1876320"/>
              <a:ext cx="1011240" cy="3542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32000" y="1870200"/>
              <a:ext cx="988920" cy="342720"/>
            </a:xfrm>
            <a:prstGeom prst="rect">
              <a:avLst/>
            </a:prstGeom>
            <a:solidFill>
              <a:srgbClr val="ff9c6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458360" y="1890720"/>
            <a:ext cx="76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dreduvaw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na obem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327320" y="2465280"/>
            <a:ext cx="1011240" cy="352440"/>
            <a:chOff x="1327320" y="2465280"/>
            <a:chExt cx="1011240" cy="352440"/>
          </a:xfrm>
        </p:grpSpPr>
        <p:sp>
          <p:nvSpPr>
            <p:cNvPr id="185" name=""/>
            <p:cNvSpPr/>
            <p:nvPr/>
          </p:nvSpPr>
          <p:spPr>
            <a:xfrm>
              <a:off x="1327320" y="2465280"/>
              <a:ext cx="1011240" cy="3524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332000" y="2470320"/>
              <a:ext cx="988920" cy="330120"/>
            </a:xfrm>
            <a:prstGeom prst="rect">
              <a:avLst/>
            </a:prstGeom>
            <a:solidFill>
              <a:srgbClr val="dee4e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1486080" y="2498760"/>
            <a:ext cx="66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Analiza na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vlijanieto</a:t>
            </a:r>
            <a:r>
              <a:rPr b="0" lang="en-GB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327320" y="3052800"/>
            <a:ext cx="1011240" cy="363600"/>
            <a:chOff x="1327320" y="3052800"/>
            <a:chExt cx="1011240" cy="363600"/>
          </a:xfrm>
        </p:grpSpPr>
        <p:sp>
          <p:nvSpPr>
            <p:cNvPr id="189" name=""/>
            <p:cNvSpPr/>
            <p:nvPr/>
          </p:nvSpPr>
          <p:spPr>
            <a:xfrm>
              <a:off x="1327320" y="3052800"/>
              <a:ext cx="1011240" cy="3636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332000" y="3057480"/>
              <a:ext cx="988920" cy="330120"/>
            </a:xfrm>
            <a:prstGeom prst="rect">
              <a:avLst/>
            </a:prstGeom>
            <a:solidFill>
              <a:srgbClr val="dee4e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512720" y="3062160"/>
            <a:ext cx="6271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Ubla`uvaw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i spravuvaw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so vlijanie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327320" y="3645000"/>
            <a:ext cx="1011240" cy="358560"/>
            <a:chOff x="1327320" y="3645000"/>
            <a:chExt cx="1011240" cy="358560"/>
          </a:xfrm>
        </p:grpSpPr>
        <p:sp>
          <p:nvSpPr>
            <p:cNvPr id="193" name=""/>
            <p:cNvSpPr/>
            <p:nvPr/>
          </p:nvSpPr>
          <p:spPr>
            <a:xfrm>
              <a:off x="1327320" y="3651120"/>
              <a:ext cx="1011240" cy="3524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332000" y="3645000"/>
              <a:ext cx="988920" cy="342720"/>
            </a:xfrm>
            <a:prstGeom prst="rect">
              <a:avLst/>
            </a:prstGeom>
            <a:solidFill>
              <a:srgbClr val="dee4e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558440" y="3678120"/>
            <a:ext cx="540360" cy="274680"/>
            <a:chOff x="1558440" y="3678120"/>
            <a:chExt cx="540360" cy="274680"/>
          </a:xfrm>
        </p:grpSpPr>
        <p:sp>
          <p:nvSpPr>
            <p:cNvPr id="196" name=""/>
            <p:cNvSpPr/>
            <p:nvPr/>
          </p:nvSpPr>
          <p:spPr>
            <a:xfrm>
              <a:off x="1558440" y="3678120"/>
              <a:ext cx="540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zve{taj z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OV@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692360" y="3678120"/>
              <a:ext cx="31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1327320" y="4238640"/>
            <a:ext cx="1011240" cy="353880"/>
            <a:chOff x="1327320" y="4238640"/>
            <a:chExt cx="1011240" cy="353880"/>
          </a:xfrm>
        </p:grpSpPr>
        <p:sp>
          <p:nvSpPr>
            <p:cNvPr id="199" name=""/>
            <p:cNvSpPr/>
            <p:nvPr/>
          </p:nvSpPr>
          <p:spPr>
            <a:xfrm>
              <a:off x="1327320" y="4238640"/>
              <a:ext cx="1011240" cy="353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332000" y="4243320"/>
              <a:ext cx="988920" cy="331920"/>
            </a:xfrm>
            <a:prstGeom prst="rect">
              <a:avLst/>
            </a:prstGeom>
            <a:solidFill>
              <a:srgbClr val="ff9c6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1542600" y="4305240"/>
            <a:ext cx="573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Re</a:t>
            </a:r>
            <a:r>
              <a:rPr b="0" lang="en-US" sz="12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vizija</a:t>
            </a:r>
            <a:r>
              <a:rPr b="0" lang="en-GB" sz="12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327320" y="4827600"/>
            <a:ext cx="1011240" cy="363600"/>
            <a:chOff x="1327320" y="4827600"/>
            <a:chExt cx="1011240" cy="363600"/>
          </a:xfrm>
        </p:grpSpPr>
        <p:sp>
          <p:nvSpPr>
            <p:cNvPr id="203" name=""/>
            <p:cNvSpPr/>
            <p:nvPr/>
          </p:nvSpPr>
          <p:spPr>
            <a:xfrm>
              <a:off x="1327320" y="4827600"/>
              <a:ext cx="1011240" cy="3636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332000" y="4832280"/>
              <a:ext cx="988920" cy="330120"/>
            </a:xfrm>
            <a:prstGeom prst="rect">
              <a:avLst/>
            </a:prstGeom>
            <a:solidFill>
              <a:srgbClr val="dee4e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1459440" y="4848120"/>
            <a:ext cx="76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Donesuvaw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dluk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327320" y="5419800"/>
            <a:ext cx="1011240" cy="358560"/>
            <a:chOff x="1327320" y="5419800"/>
            <a:chExt cx="1011240" cy="358560"/>
          </a:xfrm>
        </p:grpSpPr>
        <p:sp>
          <p:nvSpPr>
            <p:cNvPr id="207" name=""/>
            <p:cNvSpPr/>
            <p:nvPr/>
          </p:nvSpPr>
          <p:spPr>
            <a:xfrm>
              <a:off x="1327320" y="5425920"/>
              <a:ext cx="1011240" cy="3524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332000" y="5419800"/>
              <a:ext cx="988920" cy="342720"/>
            </a:xfrm>
            <a:prstGeom prst="rect">
              <a:avLst/>
            </a:prstGeom>
            <a:solidFill>
              <a:srgbClr val="dee4e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1417680" y="5425920"/>
            <a:ext cx="749520" cy="368640"/>
            <a:chOff x="1417680" y="5425920"/>
            <a:chExt cx="749520" cy="368640"/>
          </a:xfrm>
        </p:grpSpPr>
        <p:sp>
          <p:nvSpPr>
            <p:cNvPr id="210" name=""/>
            <p:cNvSpPr/>
            <p:nvPr/>
          </p:nvSpPr>
          <p:spPr>
            <a:xfrm>
              <a:off x="1486800" y="5425920"/>
              <a:ext cx="680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Realizacija 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monitor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417680" y="5519880"/>
              <a:ext cx="31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1703520" y="1606680"/>
            <a:ext cx="247680" cy="258480"/>
          </a:xfrm>
          <a:custGeom>
            <a:avLst/>
            <a:gdLst/>
            <a:ahLst/>
            <a:rect l="l" t="t" r="r" b="b"/>
            <a:pathLst>
              <a:path w="156" h="163">
                <a:moveTo>
                  <a:pt x="0" y="104"/>
                </a:moveTo>
                <a:lnTo>
                  <a:pt x="0" y="104"/>
                </a:lnTo>
                <a:lnTo>
                  <a:pt x="37" y="133"/>
                </a:lnTo>
                <a:lnTo>
                  <a:pt x="82" y="163"/>
                </a:lnTo>
                <a:lnTo>
                  <a:pt x="82" y="163"/>
                </a:lnTo>
                <a:lnTo>
                  <a:pt x="119" y="133"/>
                </a:lnTo>
                <a:lnTo>
                  <a:pt x="156" y="104"/>
                </a:lnTo>
                <a:lnTo>
                  <a:pt x="156" y="104"/>
                </a:lnTo>
                <a:lnTo>
                  <a:pt x="133" y="104"/>
                </a:lnTo>
                <a:lnTo>
                  <a:pt x="119" y="104"/>
                </a:lnTo>
                <a:lnTo>
                  <a:pt x="119" y="104"/>
                </a:lnTo>
                <a:lnTo>
                  <a:pt x="119" y="52"/>
                </a:lnTo>
                <a:lnTo>
                  <a:pt x="119" y="0"/>
                </a:lnTo>
                <a:lnTo>
                  <a:pt x="119" y="0"/>
                </a:lnTo>
                <a:lnTo>
                  <a:pt x="82" y="0"/>
                </a:lnTo>
                <a:lnTo>
                  <a:pt x="45" y="0"/>
                </a:lnTo>
                <a:lnTo>
                  <a:pt x="45" y="0"/>
                </a:lnTo>
                <a:lnTo>
                  <a:pt x="45" y="52"/>
                </a:lnTo>
                <a:lnTo>
                  <a:pt x="45" y="104"/>
                </a:lnTo>
                <a:lnTo>
                  <a:pt x="45" y="104"/>
                </a:lnTo>
                <a:lnTo>
                  <a:pt x="22" y="104"/>
                </a:lnTo>
                <a:lnTo>
                  <a:pt x="0" y="104"/>
                </a:lnTo>
                <a:lnTo>
                  <a:pt x="0" y="104"/>
                </a:lnTo>
                <a:lnTo>
                  <a:pt x="0" y="104"/>
                </a:lnTo>
                <a:lnTo>
                  <a:pt x="0" y="104"/>
                </a:lnTo>
                <a:lnTo>
                  <a:pt x="0" y="104"/>
                </a:lnTo>
                <a:close/>
              </a:path>
            </a:pathLst>
          </a:custGeom>
          <a:solidFill>
            <a:srgbClr val="7faf9f"/>
          </a:solidFill>
          <a:ln w="11160">
            <a:solidFill>
              <a:srgbClr val="005e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03520" y="2206800"/>
            <a:ext cx="247680" cy="245880"/>
          </a:xfrm>
          <a:custGeom>
            <a:avLst/>
            <a:gdLst/>
            <a:ahLst/>
            <a:rect l="l" t="t" r="r" b="b"/>
            <a:pathLst>
              <a:path w="156" h="155">
                <a:moveTo>
                  <a:pt x="0" y="96"/>
                </a:moveTo>
                <a:lnTo>
                  <a:pt x="0" y="96"/>
                </a:lnTo>
                <a:lnTo>
                  <a:pt x="37" y="126"/>
                </a:lnTo>
                <a:lnTo>
                  <a:pt x="82" y="155"/>
                </a:lnTo>
                <a:lnTo>
                  <a:pt x="82" y="155"/>
                </a:lnTo>
                <a:lnTo>
                  <a:pt x="119" y="126"/>
                </a:lnTo>
                <a:lnTo>
                  <a:pt x="156" y="96"/>
                </a:lnTo>
                <a:lnTo>
                  <a:pt x="156" y="96"/>
                </a:lnTo>
                <a:lnTo>
                  <a:pt x="133" y="96"/>
                </a:lnTo>
                <a:lnTo>
                  <a:pt x="119" y="96"/>
                </a:lnTo>
                <a:lnTo>
                  <a:pt x="119" y="96"/>
                </a:lnTo>
                <a:lnTo>
                  <a:pt x="119" y="44"/>
                </a:lnTo>
                <a:lnTo>
                  <a:pt x="119" y="0"/>
                </a:lnTo>
                <a:lnTo>
                  <a:pt x="119" y="0"/>
                </a:lnTo>
                <a:lnTo>
                  <a:pt x="82" y="0"/>
                </a:lnTo>
                <a:lnTo>
                  <a:pt x="45" y="0"/>
                </a:lnTo>
                <a:lnTo>
                  <a:pt x="45" y="0"/>
                </a:lnTo>
                <a:lnTo>
                  <a:pt x="45" y="44"/>
                </a:lnTo>
                <a:lnTo>
                  <a:pt x="45" y="96"/>
                </a:lnTo>
                <a:lnTo>
                  <a:pt x="45" y="96"/>
                </a:lnTo>
                <a:lnTo>
                  <a:pt x="22" y="96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close/>
              </a:path>
            </a:pathLst>
          </a:custGeom>
          <a:solidFill>
            <a:srgbClr val="7faf9f"/>
          </a:solidFill>
          <a:ln w="11160">
            <a:solidFill>
              <a:srgbClr val="005e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03520" y="2793960"/>
            <a:ext cx="247680" cy="258840"/>
          </a:xfrm>
          <a:custGeom>
            <a:avLst/>
            <a:gdLst/>
            <a:ahLst/>
            <a:rect l="l" t="t" r="r" b="b"/>
            <a:pathLst>
              <a:path w="156" h="163">
                <a:moveTo>
                  <a:pt x="0" y="104"/>
                </a:moveTo>
                <a:lnTo>
                  <a:pt x="0" y="104"/>
                </a:lnTo>
                <a:lnTo>
                  <a:pt x="37" y="133"/>
                </a:lnTo>
                <a:lnTo>
                  <a:pt x="82" y="163"/>
                </a:lnTo>
                <a:lnTo>
                  <a:pt x="82" y="163"/>
                </a:lnTo>
                <a:lnTo>
                  <a:pt x="119" y="133"/>
                </a:lnTo>
                <a:lnTo>
                  <a:pt x="156" y="104"/>
                </a:lnTo>
                <a:lnTo>
                  <a:pt x="156" y="104"/>
                </a:lnTo>
                <a:lnTo>
                  <a:pt x="133" y="104"/>
                </a:lnTo>
                <a:lnTo>
                  <a:pt x="119" y="104"/>
                </a:lnTo>
                <a:lnTo>
                  <a:pt x="119" y="104"/>
                </a:lnTo>
                <a:lnTo>
                  <a:pt x="119" y="52"/>
                </a:lnTo>
                <a:lnTo>
                  <a:pt x="119" y="0"/>
                </a:lnTo>
                <a:lnTo>
                  <a:pt x="119" y="0"/>
                </a:lnTo>
                <a:lnTo>
                  <a:pt x="82" y="0"/>
                </a:lnTo>
                <a:lnTo>
                  <a:pt x="45" y="0"/>
                </a:lnTo>
                <a:lnTo>
                  <a:pt x="45" y="0"/>
                </a:lnTo>
                <a:lnTo>
                  <a:pt x="45" y="52"/>
                </a:lnTo>
                <a:lnTo>
                  <a:pt x="45" y="104"/>
                </a:lnTo>
                <a:lnTo>
                  <a:pt x="45" y="104"/>
                </a:lnTo>
                <a:lnTo>
                  <a:pt x="22" y="104"/>
                </a:lnTo>
                <a:lnTo>
                  <a:pt x="0" y="104"/>
                </a:lnTo>
                <a:lnTo>
                  <a:pt x="0" y="104"/>
                </a:lnTo>
                <a:lnTo>
                  <a:pt x="0" y="104"/>
                </a:lnTo>
                <a:lnTo>
                  <a:pt x="0" y="104"/>
                </a:lnTo>
                <a:lnTo>
                  <a:pt x="0" y="104"/>
                </a:lnTo>
                <a:close/>
              </a:path>
            </a:pathLst>
          </a:custGeom>
          <a:solidFill>
            <a:srgbClr val="7faf9f"/>
          </a:solidFill>
          <a:ln w="11160">
            <a:solidFill>
              <a:srgbClr val="005e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03520" y="3381480"/>
            <a:ext cx="247680" cy="258480"/>
          </a:xfrm>
          <a:custGeom>
            <a:avLst/>
            <a:gdLst/>
            <a:ahLst/>
            <a:rect l="l" t="t" r="r" b="b"/>
            <a:pathLst>
              <a:path w="156" h="163">
                <a:moveTo>
                  <a:pt x="0" y="104"/>
                </a:moveTo>
                <a:lnTo>
                  <a:pt x="0" y="104"/>
                </a:lnTo>
                <a:lnTo>
                  <a:pt x="37" y="133"/>
                </a:lnTo>
                <a:lnTo>
                  <a:pt x="82" y="163"/>
                </a:lnTo>
                <a:lnTo>
                  <a:pt x="82" y="163"/>
                </a:lnTo>
                <a:lnTo>
                  <a:pt x="119" y="133"/>
                </a:lnTo>
                <a:lnTo>
                  <a:pt x="156" y="104"/>
                </a:lnTo>
                <a:lnTo>
                  <a:pt x="156" y="104"/>
                </a:lnTo>
                <a:lnTo>
                  <a:pt x="133" y="104"/>
                </a:lnTo>
                <a:lnTo>
                  <a:pt x="119" y="104"/>
                </a:lnTo>
                <a:lnTo>
                  <a:pt x="119" y="104"/>
                </a:lnTo>
                <a:lnTo>
                  <a:pt x="119" y="52"/>
                </a:lnTo>
                <a:lnTo>
                  <a:pt x="119" y="0"/>
                </a:lnTo>
                <a:lnTo>
                  <a:pt x="119" y="0"/>
                </a:lnTo>
                <a:lnTo>
                  <a:pt x="82" y="0"/>
                </a:lnTo>
                <a:lnTo>
                  <a:pt x="45" y="0"/>
                </a:lnTo>
                <a:lnTo>
                  <a:pt x="45" y="0"/>
                </a:lnTo>
                <a:lnTo>
                  <a:pt x="45" y="52"/>
                </a:lnTo>
                <a:lnTo>
                  <a:pt x="45" y="104"/>
                </a:lnTo>
                <a:lnTo>
                  <a:pt x="45" y="104"/>
                </a:lnTo>
                <a:lnTo>
                  <a:pt x="22" y="104"/>
                </a:lnTo>
                <a:lnTo>
                  <a:pt x="0" y="104"/>
                </a:lnTo>
                <a:lnTo>
                  <a:pt x="0" y="104"/>
                </a:lnTo>
                <a:lnTo>
                  <a:pt x="0" y="104"/>
                </a:lnTo>
                <a:lnTo>
                  <a:pt x="0" y="104"/>
                </a:lnTo>
                <a:lnTo>
                  <a:pt x="0" y="104"/>
                </a:lnTo>
                <a:close/>
              </a:path>
            </a:pathLst>
          </a:custGeom>
          <a:solidFill>
            <a:srgbClr val="7faf9f"/>
          </a:solidFill>
          <a:ln w="11160">
            <a:solidFill>
              <a:srgbClr val="005e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03520" y="3981600"/>
            <a:ext cx="247680" cy="257040"/>
          </a:xfrm>
          <a:custGeom>
            <a:avLst/>
            <a:gdLst/>
            <a:ahLst/>
            <a:rect l="l" t="t" r="r" b="b"/>
            <a:pathLst>
              <a:path w="156" h="162">
                <a:moveTo>
                  <a:pt x="0" y="103"/>
                </a:moveTo>
                <a:lnTo>
                  <a:pt x="0" y="103"/>
                </a:lnTo>
                <a:lnTo>
                  <a:pt x="37" y="133"/>
                </a:lnTo>
                <a:lnTo>
                  <a:pt x="82" y="162"/>
                </a:lnTo>
                <a:lnTo>
                  <a:pt x="82" y="162"/>
                </a:lnTo>
                <a:lnTo>
                  <a:pt x="119" y="133"/>
                </a:lnTo>
                <a:lnTo>
                  <a:pt x="156" y="103"/>
                </a:lnTo>
                <a:lnTo>
                  <a:pt x="156" y="103"/>
                </a:lnTo>
                <a:lnTo>
                  <a:pt x="133" y="103"/>
                </a:lnTo>
                <a:lnTo>
                  <a:pt x="119" y="103"/>
                </a:lnTo>
                <a:lnTo>
                  <a:pt x="119" y="103"/>
                </a:lnTo>
                <a:lnTo>
                  <a:pt x="119" y="51"/>
                </a:lnTo>
                <a:lnTo>
                  <a:pt x="119" y="0"/>
                </a:lnTo>
                <a:lnTo>
                  <a:pt x="119" y="0"/>
                </a:lnTo>
                <a:lnTo>
                  <a:pt x="82" y="0"/>
                </a:lnTo>
                <a:lnTo>
                  <a:pt x="45" y="0"/>
                </a:lnTo>
                <a:lnTo>
                  <a:pt x="45" y="0"/>
                </a:lnTo>
                <a:lnTo>
                  <a:pt x="45" y="51"/>
                </a:lnTo>
                <a:lnTo>
                  <a:pt x="45" y="103"/>
                </a:lnTo>
                <a:lnTo>
                  <a:pt x="45" y="103"/>
                </a:lnTo>
                <a:lnTo>
                  <a:pt x="22" y="103"/>
                </a:lnTo>
                <a:lnTo>
                  <a:pt x="0" y="103"/>
                </a:lnTo>
                <a:lnTo>
                  <a:pt x="0" y="103"/>
                </a:lnTo>
                <a:lnTo>
                  <a:pt x="0" y="103"/>
                </a:lnTo>
                <a:lnTo>
                  <a:pt x="0" y="103"/>
                </a:lnTo>
                <a:lnTo>
                  <a:pt x="0" y="103"/>
                </a:lnTo>
                <a:close/>
              </a:path>
            </a:pathLst>
          </a:custGeom>
          <a:solidFill>
            <a:srgbClr val="7faf9f"/>
          </a:solidFill>
          <a:ln w="11160">
            <a:solidFill>
              <a:srgbClr val="005e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03520" y="4568760"/>
            <a:ext cx="247680" cy="246240"/>
          </a:xfrm>
          <a:custGeom>
            <a:avLst/>
            <a:gdLst/>
            <a:ahLst/>
            <a:rect l="l" t="t" r="r" b="b"/>
            <a:pathLst>
              <a:path w="156" h="155">
                <a:moveTo>
                  <a:pt x="0" y="103"/>
                </a:moveTo>
                <a:lnTo>
                  <a:pt x="0" y="103"/>
                </a:lnTo>
                <a:lnTo>
                  <a:pt x="37" y="126"/>
                </a:lnTo>
                <a:lnTo>
                  <a:pt x="82" y="155"/>
                </a:lnTo>
                <a:lnTo>
                  <a:pt x="82" y="155"/>
                </a:lnTo>
                <a:lnTo>
                  <a:pt x="119" y="126"/>
                </a:lnTo>
                <a:lnTo>
                  <a:pt x="156" y="103"/>
                </a:lnTo>
                <a:lnTo>
                  <a:pt x="156" y="103"/>
                </a:lnTo>
                <a:lnTo>
                  <a:pt x="133" y="103"/>
                </a:lnTo>
                <a:lnTo>
                  <a:pt x="119" y="103"/>
                </a:lnTo>
                <a:lnTo>
                  <a:pt x="119" y="103"/>
                </a:lnTo>
                <a:lnTo>
                  <a:pt x="119" y="52"/>
                </a:lnTo>
                <a:lnTo>
                  <a:pt x="119" y="0"/>
                </a:lnTo>
                <a:lnTo>
                  <a:pt x="119" y="0"/>
                </a:lnTo>
                <a:lnTo>
                  <a:pt x="82" y="0"/>
                </a:lnTo>
                <a:lnTo>
                  <a:pt x="45" y="0"/>
                </a:lnTo>
                <a:lnTo>
                  <a:pt x="45" y="0"/>
                </a:lnTo>
                <a:lnTo>
                  <a:pt x="45" y="52"/>
                </a:lnTo>
                <a:lnTo>
                  <a:pt x="45" y="103"/>
                </a:lnTo>
                <a:lnTo>
                  <a:pt x="45" y="103"/>
                </a:lnTo>
                <a:lnTo>
                  <a:pt x="22" y="103"/>
                </a:lnTo>
                <a:lnTo>
                  <a:pt x="0" y="103"/>
                </a:lnTo>
                <a:lnTo>
                  <a:pt x="0" y="103"/>
                </a:lnTo>
                <a:lnTo>
                  <a:pt x="0" y="103"/>
                </a:lnTo>
                <a:lnTo>
                  <a:pt x="0" y="103"/>
                </a:lnTo>
                <a:lnTo>
                  <a:pt x="0" y="103"/>
                </a:lnTo>
                <a:close/>
              </a:path>
            </a:pathLst>
          </a:custGeom>
          <a:solidFill>
            <a:srgbClr val="7faf9f"/>
          </a:solidFill>
          <a:ln w="11160">
            <a:solidFill>
              <a:srgbClr val="005e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03520" y="5167440"/>
            <a:ext cx="247680" cy="247680"/>
          </a:xfrm>
          <a:custGeom>
            <a:avLst/>
            <a:gdLst/>
            <a:ahLst/>
            <a:rect l="l" t="t" r="r" b="b"/>
            <a:pathLst>
              <a:path w="156" h="156">
                <a:moveTo>
                  <a:pt x="0" y="96"/>
                </a:moveTo>
                <a:lnTo>
                  <a:pt x="0" y="96"/>
                </a:lnTo>
                <a:lnTo>
                  <a:pt x="37" y="126"/>
                </a:lnTo>
                <a:lnTo>
                  <a:pt x="82" y="156"/>
                </a:lnTo>
                <a:lnTo>
                  <a:pt x="82" y="156"/>
                </a:lnTo>
                <a:lnTo>
                  <a:pt x="119" y="126"/>
                </a:lnTo>
                <a:lnTo>
                  <a:pt x="156" y="96"/>
                </a:lnTo>
                <a:lnTo>
                  <a:pt x="156" y="96"/>
                </a:lnTo>
                <a:lnTo>
                  <a:pt x="133" y="96"/>
                </a:lnTo>
                <a:lnTo>
                  <a:pt x="119" y="96"/>
                </a:lnTo>
                <a:lnTo>
                  <a:pt x="119" y="96"/>
                </a:lnTo>
                <a:lnTo>
                  <a:pt x="119" y="45"/>
                </a:lnTo>
                <a:lnTo>
                  <a:pt x="119" y="0"/>
                </a:lnTo>
                <a:lnTo>
                  <a:pt x="119" y="0"/>
                </a:lnTo>
                <a:lnTo>
                  <a:pt x="82" y="0"/>
                </a:lnTo>
                <a:lnTo>
                  <a:pt x="45" y="0"/>
                </a:lnTo>
                <a:lnTo>
                  <a:pt x="45" y="0"/>
                </a:lnTo>
                <a:lnTo>
                  <a:pt x="45" y="45"/>
                </a:lnTo>
                <a:lnTo>
                  <a:pt x="45" y="96"/>
                </a:lnTo>
                <a:lnTo>
                  <a:pt x="45" y="96"/>
                </a:lnTo>
                <a:lnTo>
                  <a:pt x="22" y="96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close/>
              </a:path>
            </a:pathLst>
          </a:custGeom>
          <a:solidFill>
            <a:srgbClr val="7faf9f"/>
          </a:solidFill>
          <a:ln w="11160">
            <a:solidFill>
              <a:srgbClr val="005e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31280" y="729720"/>
            <a:ext cx="46738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MAC C Swiss"/>
                <a:ea typeface="Arial"/>
              </a:rPr>
              <a:t>Izgotvuvawe programa za vklu~uvawe na javnost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3840" y="2440080"/>
            <a:ext cx="403848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Da se odredat klu~nite pra{awa za koi treba da se diskutira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Da se identifikuva zasegnatata i zainteresiranata javnost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Da se odberat soodvetni tehniki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pritoa da se zemat predvid buxetite i rokovite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)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1" name=""/>
          <p:cNvSpPr/>
          <p:nvPr/>
        </p:nvSpPr>
        <p:spPr>
          <a:xfrm>
            <a:off x="4873680" y="2432160"/>
            <a:ext cx="3521160" cy="16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Da se analizira pridonesot (</a:t>
            </a: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inputot) od javnosta.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Da se obezbedi povratna informacija zaradi gradewe doverba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2362320"/>
            <a:ext cx="0" cy="175248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43080" y="679320"/>
            <a:ext cx="65023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800000"/>
                </a:solidFill>
                <a:latin typeface="MAC C Swiss"/>
              </a:rPr>
              <a:t>Na~ela za uspe{na primena na </a:t>
            </a:r>
            <a:br>
              <a:rPr sz="2800"/>
            </a:br>
            <a:r>
              <a:rPr b="0" lang="en-AU" sz="2800" spc="-1" strike="noStrike">
                <a:solidFill>
                  <a:srgbClr val="800000"/>
                </a:solidFill>
                <a:latin typeface="MAC C Swiss"/>
              </a:rPr>
              <a:t>tehnikite za vklu~uvawe na javnost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67920" y="2451240"/>
            <a:ext cx="4267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Da se obezbedat vistinskite informacii vo vistinskiot moment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Da se ovozmo`i dovolno vreme za analiza i odgovor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5" name=""/>
          <p:cNvSpPr/>
          <p:nvPr/>
        </p:nvSpPr>
        <p:spPr>
          <a:xfrm>
            <a:off x="4873680" y="2409840"/>
            <a:ext cx="39654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Da se obezbedat soodvetni mo`nosti i sredstva za vklu~uvawe na zainteresiranite stran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Da se odberat soodvetni lokacii/prostorii za sredbi so javnosta, a pri zaka`uvawe na nastanite da se zemat predvid onie termini {to im odgovaraat na zainteresiranite strani</a:t>
            </a: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76920" y="2362320"/>
            <a:ext cx="0" cy="335268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Agata Miazga</cp:lastModifiedBy>
  <cp:lastPrinted>2002-04-02T12:21:41Z</cp:lastPrinted>
  <dcterms:modified xsi:type="dcterms:W3CDTF">2004-03-31T11:47:43Z</dcterms:modified>
  <cp:revision>434</cp:revision>
  <dc:subject/>
  <dc:title>No Slide Title</dc:title>
</cp:coreProperties>
</file>