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85081-D173-4C2E-A21D-A50C0B23C8A2}" type="slidenum">
              <a:rPr b="0" lang="en-US" sz="1000" spc="-1" strike="noStrike">
                <a:solidFill>
                  <a:srgbClr val="ffffcc"/>
                </a:solidFill>
                <a:latin typeface="MAC C Swis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11440" y="649116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MAC C Swiss"/>
              </a:rPr>
              <a:t>UBLA@UVAWE  NA VLIJANI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4600" y="76320"/>
            <a:ext cx="52578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69800" y="6140520"/>
            <a:ext cx="36576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46160"/>
            <a:ext cx="909360" cy="90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5520" y="6151680"/>
            <a:ext cx="312408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9200" y="5400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9300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16920" y="6180120"/>
            <a:ext cx="49032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46720" y="617364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40280" y="1473480"/>
            <a:ext cx="38354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51360" y="4286160"/>
            <a:ext cx="51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Ubla`uva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na vlijani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41480" y="148104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6325920" cy="474984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2585880" y="5486400"/>
            <a:ext cx="653040" cy="366480"/>
            <a:chOff x="2585880" y="5486400"/>
            <a:chExt cx="653040" cy="366480"/>
          </a:xfrm>
        </p:grpSpPr>
        <p:sp>
          <p:nvSpPr>
            <p:cNvPr id="101" name=""/>
            <p:cNvSpPr/>
            <p:nvPr/>
          </p:nvSpPr>
          <p:spPr>
            <a:xfrm>
              <a:off x="2596680" y="5486400"/>
              <a:ext cx="64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Realizacija i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monito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85880" y="5577840"/>
              <a:ext cx="1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62560" y="56725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359320" y="3753000"/>
            <a:ext cx="1856880" cy="883440"/>
            <a:chOff x="5359320" y="3753000"/>
            <a:chExt cx="1856880" cy="883440"/>
          </a:xfrm>
        </p:grpSpPr>
        <p:sp>
          <p:nvSpPr>
            <p:cNvPr id="105" name=""/>
            <p:cNvSpPr/>
            <p:nvPr/>
          </p:nvSpPr>
          <p:spPr>
            <a:xfrm>
              <a:off x="5388120" y="3753000"/>
              <a:ext cx="1828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Vklu~uvaweto na javnosta obi~n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se slu~uva vo ovie momenti.</a:t>
              </a:r>
              <a:r>
                <a:rPr b="0" lang="en-GB" sz="16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59320" y="3956400"/>
              <a:ext cx="1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06480" y="4159440"/>
              <a:ext cx="1791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Toa mo`e da se slu~i i vo nekoj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druga faza od procesot na OV@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59320" y="4363200"/>
              <a:ext cx="1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67920" y="43632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44920" y="5118120"/>
            <a:ext cx="2419920" cy="388800"/>
            <a:chOff x="4444920" y="5118120"/>
            <a:chExt cx="2419920" cy="388800"/>
          </a:xfrm>
        </p:grpSpPr>
        <p:sp>
          <p:nvSpPr>
            <p:cNvPr id="111" name=""/>
            <p:cNvSpPr/>
            <p:nvPr/>
          </p:nvSpPr>
          <p:spPr>
            <a:xfrm>
              <a:off x="4561560" y="5118120"/>
              <a:ext cx="2303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nformaciite od ovoj proc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pridonesuvaat za efikasna OV@S vo idnina</a:t>
              </a: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44920" y="523224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20280" y="52322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518080" y="1707840"/>
            <a:ext cx="98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treba OV@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006800" y="2082960"/>
            <a:ext cx="879480" cy="422280"/>
            <a:chOff x="4006800" y="2082960"/>
            <a:chExt cx="879480" cy="422280"/>
          </a:xfrm>
        </p:grpSpPr>
        <p:sp>
          <p:nvSpPr>
            <p:cNvPr id="116" name=""/>
            <p:cNvSpPr/>
            <p:nvPr/>
          </p:nvSpPr>
          <p:spPr>
            <a:xfrm>
              <a:off x="4120560" y="2082960"/>
              <a:ext cx="7657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nicijaln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spituvawe n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`iv. sred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06800" y="2184840"/>
              <a:ext cx="7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53600" y="2286360"/>
              <a:ext cx="10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543040" y="1636560"/>
            <a:ext cx="736920" cy="152640"/>
            <a:chOff x="2543040" y="1636560"/>
            <a:chExt cx="736920" cy="152640"/>
          </a:xfrm>
        </p:grpSpPr>
        <p:sp>
          <p:nvSpPr>
            <p:cNvPr id="120" name=""/>
            <p:cNvSpPr/>
            <p:nvPr/>
          </p:nvSpPr>
          <p:spPr>
            <a:xfrm>
              <a:off x="2543040" y="163656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Treba OV@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18000" y="16365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584800" y="5029200"/>
            <a:ext cx="64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oglasn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01600" y="4495680"/>
            <a:ext cx="84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e odobr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oektot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2840" y="4019400"/>
            <a:ext cx="63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a 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dizajni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08080" y="3533760"/>
            <a:ext cx="85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novo da 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odne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107960" y="1012680"/>
            <a:ext cx="724680" cy="376200"/>
            <a:chOff x="4107960" y="1012680"/>
            <a:chExt cx="724680" cy="376200"/>
          </a:xfrm>
        </p:grpSpPr>
        <p:sp>
          <p:nvSpPr>
            <p:cNvPr id="127" name=""/>
            <p:cNvSpPr/>
            <p:nvPr/>
          </p:nvSpPr>
          <p:spPr>
            <a:xfrm>
              <a:off x="4120920" y="101268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07960" y="111420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dentifikacij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na predlogo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562720" y="3429000"/>
            <a:ext cx="1511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klu~uvawe na javnost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86800" y="1631880"/>
            <a:ext cx="805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64280" y="2114640"/>
            <a:ext cx="68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reduvaw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a obem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2000" y="2565360"/>
            <a:ext cx="64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Analiza n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lijani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475000" y="3081240"/>
            <a:ext cx="914040" cy="477720"/>
            <a:chOff x="2475000" y="3081240"/>
            <a:chExt cx="914040" cy="477720"/>
          </a:xfrm>
        </p:grpSpPr>
        <p:sp>
          <p:nvSpPr>
            <p:cNvPr id="134" name=""/>
            <p:cNvSpPr/>
            <p:nvPr/>
          </p:nvSpPr>
          <p:spPr>
            <a:xfrm>
              <a:off x="2513520" y="3081240"/>
              <a:ext cx="87552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9933"/>
                  </a:solidFill>
                  <a:latin typeface="MAC C Swiss"/>
                  <a:ea typeface="Times New Roman"/>
                </a:rPr>
                <a:t>Ubla`uvawe i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9933"/>
                  </a:solidFill>
                  <a:latin typeface="MAC C Swiss"/>
                  <a:ea typeface="Times New Roman"/>
                </a:rPr>
                <a:t>spravuvawe s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9933"/>
                  </a:solidFill>
                  <a:latin typeface="MAC C Swiss"/>
                  <a:ea typeface="Times New Roman"/>
                </a:rPr>
                <a:t>vlijanie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40520" y="318276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75000" y="32842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95600" y="3552840"/>
            <a:ext cx="634680" cy="304920"/>
            <a:chOff x="2595600" y="3552840"/>
            <a:chExt cx="634680" cy="304920"/>
          </a:xfrm>
        </p:grpSpPr>
        <p:sp>
          <p:nvSpPr>
            <p:cNvPr id="138" name=""/>
            <p:cNvSpPr/>
            <p:nvPr/>
          </p:nvSpPr>
          <p:spPr>
            <a:xfrm>
              <a:off x="2595600" y="3552840"/>
              <a:ext cx="634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zve{taj z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OV@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38880" y="35528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667600" y="4089240"/>
            <a:ext cx="47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izij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22160" y="4505400"/>
            <a:ext cx="79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nesuvaw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luk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1676520"/>
            <a:ext cx="82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elektiraw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9200" y="706320"/>
            <a:ext cx="7346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800000"/>
                </a:solidFill>
                <a:latin typeface="MAC C Swiss"/>
              </a:rPr>
              <a:t>Celi na merkite za ubla`uvawe na vlijanieto</a:t>
            </a:r>
            <a:endParaRPr b="1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38280"/>
            <a:ext cx="61722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lvl="2" marL="673200" indent="-292320">
              <a:lnSpc>
                <a:spcPct val="115000"/>
              </a:lnSpc>
              <a:spcBef>
                <a:spcPts val="1400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Izbegnuvawe, minimizirawe ili sanirawe na negativnite vlijani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-292320">
              <a:lnSpc>
                <a:spcPct val="115000"/>
              </a:lnSpc>
              <a:spcBef>
                <a:spcPts val="1400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Obezbeduvawe rezidualnite vlijanija da bidat vo ramkite na prifatlivite nivo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73200" indent="-292320">
              <a:lnSpc>
                <a:spcPct val="115000"/>
              </a:lnSpc>
              <a:spcBef>
                <a:spcPts val="1400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Zgolemuvawe na ekolo{kite i socijalnite pridobivk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3520" y="698400"/>
            <a:ext cx="7202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MAC C Swiss"/>
              </a:rPr>
              <a:t>Ramka za ubla`uvawe na vlijanieto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6" name=""/>
          <p:cNvSpPr/>
          <p:nvPr/>
        </p:nvSpPr>
        <p:spPr>
          <a:xfrm>
            <a:off x="1293840" y="2031840"/>
            <a:ext cx="177840" cy="2857680"/>
          </a:xfrm>
          <a:custGeom>
            <a:avLst/>
            <a:gdLst/>
            <a:ahLst/>
            <a:rect l="l" t="t" r="r" b="b"/>
            <a:pathLst>
              <a:path w="112" h="1800">
                <a:moveTo>
                  <a:pt x="0" y="1576"/>
                </a:moveTo>
                <a:lnTo>
                  <a:pt x="0" y="1576"/>
                </a:lnTo>
                <a:lnTo>
                  <a:pt x="32" y="1576"/>
                </a:lnTo>
                <a:lnTo>
                  <a:pt x="32" y="880"/>
                </a:lnTo>
                <a:lnTo>
                  <a:pt x="32" y="216"/>
                </a:lnTo>
                <a:lnTo>
                  <a:pt x="0" y="216"/>
                </a:lnTo>
                <a:lnTo>
                  <a:pt x="56" y="0"/>
                </a:lnTo>
                <a:lnTo>
                  <a:pt x="112" y="216"/>
                </a:lnTo>
                <a:lnTo>
                  <a:pt x="80" y="216"/>
                </a:lnTo>
                <a:lnTo>
                  <a:pt x="80" y="920"/>
                </a:lnTo>
                <a:lnTo>
                  <a:pt x="80" y="1576"/>
                </a:lnTo>
                <a:lnTo>
                  <a:pt x="112" y="1576"/>
                </a:lnTo>
                <a:lnTo>
                  <a:pt x="56" y="1800"/>
                </a:lnTo>
                <a:lnTo>
                  <a:pt x="0" y="1576"/>
                </a:lnTo>
                <a:close/>
              </a:path>
            </a:pathLst>
          </a:custGeom>
          <a:solidFill>
            <a:srgbClr val="005e3e"/>
          </a:solidFill>
          <a:ln w="1260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38360" y="1523880"/>
            <a:ext cx="3824280" cy="1295640"/>
          </a:xfrm>
          <a:custGeom>
            <a:avLst/>
            <a:gdLst/>
            <a:ahLst/>
            <a:rect l="l" t="t" r="r" b="b"/>
            <a:pathLst>
              <a:path w="2409" h="816">
                <a:moveTo>
                  <a:pt x="408" y="816"/>
                </a:moveTo>
                <a:lnTo>
                  <a:pt x="408" y="816"/>
                </a:lnTo>
                <a:lnTo>
                  <a:pt x="0" y="0"/>
                </a:lnTo>
                <a:lnTo>
                  <a:pt x="2409" y="0"/>
                </a:lnTo>
                <a:lnTo>
                  <a:pt x="2001" y="816"/>
                </a:lnTo>
                <a:lnTo>
                  <a:pt x="408" y="816"/>
                </a:lnTo>
                <a:close/>
              </a:path>
            </a:pathLst>
          </a:custGeom>
          <a:solidFill>
            <a:srgbClr val="4c8e7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21040" y="4127400"/>
            <a:ext cx="1258920" cy="1270080"/>
          </a:xfrm>
          <a:custGeom>
            <a:avLst/>
            <a:gdLst/>
            <a:ahLst/>
            <a:rect l="l" t="t" r="r" b="b"/>
            <a:pathLst>
              <a:path w="793" h="800">
                <a:moveTo>
                  <a:pt x="400" y="800"/>
                </a:moveTo>
                <a:lnTo>
                  <a:pt x="400" y="800"/>
                </a:lnTo>
                <a:lnTo>
                  <a:pt x="0" y="0"/>
                </a:lnTo>
                <a:lnTo>
                  <a:pt x="793" y="0"/>
                </a:lnTo>
                <a:lnTo>
                  <a:pt x="400" y="800"/>
                </a:lnTo>
                <a:close/>
              </a:path>
            </a:pathLst>
          </a:custGeom>
          <a:solidFill>
            <a:srgbClr val="79b2a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86000" y="2819520"/>
            <a:ext cx="2529000" cy="1307880"/>
          </a:xfrm>
          <a:custGeom>
            <a:avLst/>
            <a:gdLst/>
            <a:ahLst/>
            <a:rect l="l" t="t" r="r" b="b"/>
            <a:pathLst>
              <a:path w="1593" h="824">
                <a:moveTo>
                  <a:pt x="400" y="824"/>
                </a:moveTo>
                <a:lnTo>
                  <a:pt x="400" y="824"/>
                </a:lnTo>
                <a:lnTo>
                  <a:pt x="0" y="0"/>
                </a:lnTo>
                <a:lnTo>
                  <a:pt x="1593" y="0"/>
                </a:lnTo>
                <a:lnTo>
                  <a:pt x="1193" y="824"/>
                </a:lnTo>
                <a:lnTo>
                  <a:pt x="400" y="824"/>
                </a:lnTo>
                <a:close/>
              </a:path>
            </a:pathLst>
          </a:custGeom>
          <a:solidFill>
            <a:srgbClr val="47937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489720" y="1536840"/>
            <a:ext cx="2133720" cy="1440"/>
          </a:xfrm>
          <a:prstGeom prst="line">
            <a:avLst/>
          </a:prstGeom>
          <a:ln w="255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89720" y="2819520"/>
            <a:ext cx="2133720" cy="1440"/>
          </a:xfrm>
          <a:prstGeom prst="line">
            <a:avLst/>
          </a:prstGeom>
          <a:ln w="255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489720" y="4267080"/>
            <a:ext cx="2133720" cy="1800"/>
          </a:xfrm>
          <a:prstGeom prst="line">
            <a:avLst/>
          </a:prstGeom>
          <a:ln w="255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89720" y="5560920"/>
            <a:ext cx="2133720" cy="1800"/>
          </a:xfrm>
          <a:prstGeom prst="line">
            <a:avLst/>
          </a:prstGeom>
          <a:ln w="255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6760" y="1650960"/>
            <a:ext cx="146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^esto (po`elno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4952880"/>
            <a:ext cx="1728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tko (nepo`elno)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87360" y="1727280"/>
            <a:ext cx="200160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Alternativ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i mesta ili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tehnologija za da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elimin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ra zaguba 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`iveali{t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74680" y="2895480"/>
            <a:ext cx="235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ejstvija za vreme n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izajniraweto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zgradbata I raboteweto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o cel da se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Minimi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zir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li eliminir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zaguba 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`iveali{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91520" y="37083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59920" y="4419720"/>
            <a:ext cx="2013840" cy="9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e koristi kak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osledna solucij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za kompenzirawe n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zaguba na `iveali{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99200" y="4699080"/>
            <a:ext cx="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734640" y="2019240"/>
            <a:ext cx="1433160" cy="274680"/>
            <a:chOff x="3734640" y="2019240"/>
            <a:chExt cx="1433160" cy="274680"/>
          </a:xfrm>
        </p:grpSpPr>
        <p:sp>
          <p:nvSpPr>
            <p:cNvPr id="162" name=""/>
            <p:cNvSpPr/>
            <p:nvPr/>
          </p:nvSpPr>
          <p:spPr>
            <a:xfrm>
              <a:off x="3734640" y="2019240"/>
              <a:ext cx="1433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zbegnuvaw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885840" y="20192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816000" y="3340080"/>
            <a:ext cx="1254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Ubla`uva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77040" y="4648320"/>
            <a:ext cx="155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Kompenzacija</a:t>
            </a:r>
            <a:r>
              <a:rPr b="0" lang="en-GB" sz="18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3-31T11:51:23Z</dcterms:modified>
  <cp:revision>347</cp:revision>
  <dc:subject/>
  <dc:title>No Slide Title</dc:title>
</cp:coreProperties>
</file>