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46E2-41C3-4E22-8D78-3BCF879E63EA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7856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fffcc"/>
                </a:solidFill>
                <a:latin typeface="ArialHU"/>
              </a:rPr>
              <a:t>UVOD U PD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1" lang="sr-Latn-CS" sz="1200" spc="-1" strike="noStrike">
                <a:solidFill>
                  <a:srgbClr val="ffffcc"/>
                </a:solidFill>
                <a:latin typeface="Arial"/>
                <a:ea typeface="Arial"/>
              </a:rPr>
              <a:t>S (E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PODR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ŽANO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0720" y="628668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RESURSNI VODI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</a:rPr>
              <a:t>Č ZA PD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  <a:ea typeface="Arial"/>
              </a:rPr>
              <a:t>S (EIA) ZA JUGOISTOČ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46160"/>
            <a:ext cx="91440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5520" y="6151680"/>
            <a:ext cx="312408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028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  <a:ea typeface="Times New Roman"/>
              </a:rPr>
              <a:t>PODR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  <a:ea typeface="Times New Roman"/>
              </a:rPr>
              <a:t>ŽANO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93000" y="617364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197840" y="6168960"/>
            <a:ext cx="49032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02080" y="616104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832280" y="3841200"/>
            <a:ext cx="3886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Uvod u procene uticaja na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životnu sredin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5600" y="1476000"/>
            <a:ext cx="382752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SURSNI VOD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 ZA P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 (EIA) ZA JUGOISTOČNU EVRO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61800" y="245088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HU"/>
              </a:rPr>
              <a:t>identifikovanje značajnijih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uticaja</a:t>
            </a:r>
            <a:r>
              <a:rPr b="0" lang="sl-SI" sz="1600" spc="-1" strike="noStrike">
                <a:solidFill>
                  <a:srgbClr val="000000"/>
                </a:solidFill>
                <a:latin typeface="ArialHU"/>
              </a:rPr>
              <a:t> koje na životnu sredinu može imati veliki razvojni projeka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HU"/>
              </a:rPr>
              <a:t>određivanje mera ublažavanja  potrebnih za smanjenje ili otklanjanje takvih dejstava.</a:t>
            </a:r>
            <a:r>
              <a:rPr b="1" lang="sl-SI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42720" y="678960"/>
            <a:ext cx="65912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HUBold"/>
              </a:rPr>
              <a:t>Svrha procene uticaja na </a:t>
            </a:r>
            <a:r>
              <a:rPr b="1" lang="en-US" sz="2800" spc="-1" strike="noStrike">
                <a:solidFill>
                  <a:srgbClr val="800000"/>
                </a:solidFill>
                <a:latin typeface="ArialHUBold"/>
              </a:rPr>
              <a:t>životnu sredinu</a:t>
            </a:r>
            <a:r>
              <a:rPr b="1" lang="en-GB" sz="2800" spc="-1" strike="noStrike">
                <a:solidFill>
                  <a:srgbClr val="800000"/>
                </a:solidFill>
                <a:latin typeface="ArialHUBold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65988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HU"/>
              </a:rPr>
              <a:t>Procena uticaja na životnu sredinu (PU</a:t>
            </a:r>
            <a:r>
              <a:rPr b="1" lang="en-US" sz="2800" spc="-1" strike="noStrike">
                <a:solidFill>
                  <a:srgbClr val="800000"/>
                </a:solidFill>
                <a:latin typeface="ArialHU"/>
                <a:ea typeface="Arial"/>
              </a:rPr>
              <a:t>ŽS)</a:t>
            </a:r>
            <a:r>
              <a:rPr b="1" lang="en-US" sz="2800" spc="-1" strike="noStrike">
                <a:solidFill>
                  <a:srgbClr val="800000"/>
                </a:solidFill>
                <a:latin typeface="ArialHU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HU"/>
              </a:rPr>
              <a:t>jeste instrument koji se primenjuje…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68280" y="2450880"/>
            <a:ext cx="787392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HU"/>
              </a:rPr>
              <a:t>pre donošenja velikih odluka i dok su još sve alternative otvorene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HU"/>
              </a:rPr>
              <a:t>u cilju dobijanja informacija u svim fazama procesa odlučivanja, uključujući i konačno odobrenje projekta i određivanje uslova za njegovo sprovođenje u život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HU"/>
              </a:rPr>
              <a:t>uz učešće i konsultovanje javnosti; 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HU"/>
              </a:rPr>
              <a:t>da bi se, u svim fazama izrade projekta, izgradnje i rada projektovanog postrojenja, u potpunosti uzeli u obzir elementi i mere sigurnosti koji  su od značaja za životnu sredinu.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sylvia</cp:lastModifiedBy>
  <cp:lastPrinted>2002-04-02T12:21:41Z</cp:lastPrinted>
  <dcterms:modified xsi:type="dcterms:W3CDTF">2004-02-04T09:04:01Z</dcterms:modified>
  <cp:revision>247</cp:revision>
  <dc:subject/>
  <dc:title>No Slide Title</dc:title>
</cp:coreProperties>
</file>