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41E-7782-4612-B8DA-6DC80B420FC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1144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ODREĐIVANJE OKVI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108000"/>
            <a:ext cx="52578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68120"/>
            <a:ext cx="907920" cy="892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  <a:ea typeface="Arial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30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97840" y="6186600"/>
            <a:ext cx="49032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208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82480"/>
            <a:ext cx="3746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S (EIA) ZA JUGOISTOČNU EVR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9040" y="4708440"/>
            <a:ext cx="37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Određivanje okvi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7130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Određivanje okvira u skladu s Direktivom Evropske komisij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7620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s određivanja okvira mora biti unutrašnji i dobrovolj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lan 5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mpetentni autoritet iz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va mišljenje (donosi odluku) na sa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j Izveštaja procene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 ukoliko predlagač tako zahtev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emlje članice mogu  pot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ati da kompentetan autoritet izda mišljenje (donese odluku) bez obzira na zahtev predlagač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7207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Određivanje okvira u skladu s prosedurom Svets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432160"/>
            <a:ext cx="815364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avno određivanje okvira je potrebno za projekte Kategorije 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(OP 4.01,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1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zajmljivač (korisnik pozajmice ili kredita) mora konsultovati javnost koja je zainteresovana za proces i to ubrzo po procesu utvrđivanja potreba i pre nego što je opis posla za procenu uticaja otpoče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 ovu inicijalnu kosultaciju, pozajmljiv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je obavezan da pri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sa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j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ih projektnih ciljeva, opise i potencijalne negativne uticaje predloženog projekta na životnu sredin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692280"/>
            <a:ext cx="7054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Određivanje okvira u skladu s procedurom EBRD-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443320"/>
            <a:ext cx="792504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litika u oblas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e sredin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nek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an. 3.3) zahteva uključenje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javnosti za proces određivanja okvira za projekte Kategorije 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j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itanja su identifikovana tako što su uzeti u obzir komentari zainteresovane javnosti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 uklj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je kontakte s predstavnicima zainteresovane javnosti, vladinim agencijama, lokalnim autoritetima i drugim organizacij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zulta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isa pos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za proces procene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ivotnu sredinu i kroz konsultacije javnosti i objavljivanje planova specificira svako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eno učešće javnosti u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 proces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8840" y="693360"/>
            <a:ext cx="6991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Određivanje okvira u skladu s Arhuskom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457000"/>
            <a:ext cx="76964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vaka strana je obavezna obezbediti rano učešće javnosti (npr. kad su sve opcije otvorene i efektivno učešće javnosti 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 uzeti mest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Č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Javno određivanje okvira pom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 ispunjenju tih obavez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8840" y="692280"/>
            <a:ext cx="6991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Određivanje okvira u skladu s Espoo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38862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cija zahteva određivanje okvira za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e projekte koji mogu imati negativnih uticaja u prekogra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m kontekst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ov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3.5, 3.6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lag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nformiše zainteresovanu stranu 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 a)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noj aktivnost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b) o njegovom mogućem pregraničnom uticaju i c) primenjivoj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procedur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(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3.5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"/>
          <p:cNvSpPr/>
          <p:nvPr/>
        </p:nvSpPr>
        <p:spPr>
          <a:xfrm>
            <a:off x="4876920" y="2457360"/>
            <a:ext cx="380988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interesovana strana obezbeđuje infomacije predlag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o potencijalnom negativnom uticaju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otnu sredinu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Čl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3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be strane se trebaju pobrinuti da  zainteresovana javnost m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 u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ti komentare ili primedbe na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nu aktivnost ili  proje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3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362320"/>
            <a:ext cx="0" cy="24382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9200" y="693720"/>
            <a:ext cx="72835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redlo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ni elementi za efektivno određivanje okvira u zemljama Jugoistočne Evrop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463840"/>
            <a:ext cx="8382240" cy="33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emlje Jugoist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 Evrope mogu ustanoviti proceduru obaveznog određivanje okvira ko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mogućavaju kompetentnom autoritetu da izda mišljenje o sa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ju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Izveštaja (EU Direktiv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s otpočinje kada se sve opcije otvorene i kada su ostvarene mogućnosti za efektivno učešće javnosti (Arhuska Konvencija)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e javlja odmah nakon utvrđivanja potreba i pre utvrđivanja i finaliziranja „Opisa posla „ z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proces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vetska bank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sigurati da su sva viđenja kompetentnih autoriteta i pogledi zainteresovane javnosti uzete u obzir kada su se identifikovala ključna pitanj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EBRD)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zimaju u obzir određivanje okvira za prekograni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oo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cij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0540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19400" y="1060560"/>
            <a:ext cx="92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dentifikacij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r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62520" y="1600200"/>
            <a:ext cx="923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tvr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22280" y="2035080"/>
            <a:ext cx="956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nicijalno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spitivanje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ivotne sre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32840" y="1557360"/>
            <a:ext cx="9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Nije potrebn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563800" y="341316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Učešće jav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22840" y="374508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češće javnosti se obično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javlja pri ovim koracim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oze se pojaviti i na bilo ko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drugom koraku u procesu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57000" y="158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potreb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95160" y="2048040"/>
            <a:ext cx="912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</a:rPr>
              <a:t>Odre</a:t>
            </a:r>
            <a:r>
              <a:rPr b="1" lang="sr-Latn-CS" sz="1000" spc="-1" strike="noStrike">
                <a:solidFill>
                  <a:srgbClr val="339933"/>
                </a:solidFill>
                <a:latin typeface="Arial"/>
              </a:rPr>
              <a:t>đivanje</a:t>
            </a:r>
            <a:br>
              <a:rPr sz="1000"/>
            </a:br>
            <a:r>
              <a:rPr b="1" lang="sr-Latn-CS" sz="1000" spc="-1" strike="noStrike">
                <a:solidFill>
                  <a:srgbClr val="339933"/>
                </a:solidFill>
                <a:latin typeface="Arial"/>
              </a:rPr>
              <a:t>okv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0640" y="259092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03360" y="3013200"/>
            <a:ext cx="1095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blazavanje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ticaja i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menađzment utica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13080" y="5397480"/>
            <a:ext cx="106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acij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2600" y="50846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ja iz ovog proces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doprinosi efektivnosti EIA proc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45080" y="454644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je 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3800" y="40640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edizajnir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39040" y="3492360"/>
            <a:ext cx="83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novno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no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š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11000" y="35686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Izveš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73400" y="405144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Pregled izvešt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43320" y="444492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noše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58160" y="504684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19040" y="729720"/>
            <a:ext cx="64389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Što je određivanje okvir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464920"/>
            <a:ext cx="746784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j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ji korak u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na faza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EIA) proces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po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je onda kada je utvrđivanje potreba završeno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ira klju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itanja i uticaje koji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se razmatrat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tanovljuje sa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j i okvir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nova efektivnog procesa, štedi novac i vreme, smanjuje konflikt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9960" y="699840"/>
            <a:ext cx="668664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Vrste određivanja okvir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46384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Zatvoreno određivanje okvir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 kome je sa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j i obim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izveštaj određen zakonom i modificiran sprovođenjem konsultacija između predlagača i nad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 instituci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tvoreno ili javno određivanje okvira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nsparentan proces baziran na konsultacijama s javnošć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685800"/>
            <a:ext cx="6591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Elementi određivanja okvir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2462040"/>
            <a:ext cx="35816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efinisati parametre Studije za PUŽ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dentifikovati i informisati interesne grup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dentifikovati interesovanja interesnih grup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ogovoriti se o sredstvima učešća javnosti i metodama analiz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362320"/>
            <a:ext cx="0" cy="1600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2467080"/>
            <a:ext cx="358128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dentifikovati glavne uticaje i probleme koji će biti razmatr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motriti izvodljivost i praktične altern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tanovit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pis posl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z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685800"/>
            <a:ext cx="6838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Koraci u procesu 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određivanja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okvir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464920"/>
            <a:ext cx="3886200" cy="25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premiti pregled okvi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ti pregled kroz neformalne konslutacije sa autoritetima na polju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e sredine i zdravstv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činiti pregled dostupni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staviti širu listu tema koje se obrađuj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ceniti relevantne teme koje se obrađuju i ustanoviti ključna pitanj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"/>
          <p:cNvSpPr/>
          <p:nvPr/>
        </p:nvSpPr>
        <p:spPr>
          <a:xfrm>
            <a:off x="4863960" y="2462040"/>
            <a:ext cx="3899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rganizovati ključna pitanja u kategorije uticaja (studijska list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meniti i dopuniti pregled da bi se obuhvatile gore navedene informacij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vit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Term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ference’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l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pis posl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nitoring napretka prema uspostavljenom opisu posla uključujući i reviziju ukoliko je potreb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2362320"/>
            <a:ext cx="0" cy="3124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6991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Tko sve u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č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stvuje u određivanju okvir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2464920"/>
            <a:ext cx="3810240" cy="19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dlagač -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nvestito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nsultant za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-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izradjivač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gencija ili Nadležni organ uprave z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– </a:t>
            </a:r>
            <a:r>
              <a:rPr b="0" i="1" lang="sr-Latn-CS" sz="1600" spc="-1" strike="noStrike">
                <a:solidFill>
                  <a:srgbClr val="000000"/>
                </a:solidFill>
                <a:latin typeface="Arial"/>
              </a:rPr>
              <a:t>donosilac odlu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ruge odgovorne agenci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(po potrebi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4" name=""/>
          <p:cNvSpPr/>
          <p:nvPr/>
        </p:nvSpPr>
        <p:spPr>
          <a:xfrm>
            <a:off x="4883040" y="2451240"/>
            <a:ext cx="3727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gođena javnost  -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zainteresovana javnos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vladine organizacije -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NV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362320"/>
            <a:ext cx="0" cy="9903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29760" y="691920"/>
            <a:ext cx="6908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Vode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č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 principi za određivanje okvir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446200"/>
            <a:ext cx="3962520" cy="24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dređivanje okvira je proces, to nije aktivnost ili događaj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izajnirati proces određivanja okvira za svaki predlog projekt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četi rano tj. čim to dozvole raspo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e informaci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premiti paket informacijia o onome što se očeku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"/>
          <p:cNvSpPr/>
          <p:nvPr/>
        </p:nvSpPr>
        <p:spPr>
          <a:xfrm>
            <a:off x="4876920" y="2432160"/>
            <a:ext cx="335268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pecificirati ulogu javnosti u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 proces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okumetovati rezultate radi usmeravanja pripreme za procenu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eagovati na nove informacije i pitanj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362320"/>
            <a:ext cx="0" cy="2209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8840" y="692280"/>
            <a:ext cx="685188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‘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Opis posl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’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 za proces P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S uključen u pregle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59160"/>
            <a:ext cx="3886200" cy="19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dređeno područje studije i njene grani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lternative koje treba ispitat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ticaji i pitanja koja treba izučit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stup koji treba primenit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slovi monitoringa i sprečavanja ili ub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vanja negativnih uticaj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438280"/>
            <a:ext cx="373356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nformacije i podaci koji se uključuju u izveštaj o proceni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spored aktivnosti, rokovi i uslovi izvršenja procene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ogućnosti za uključivanje šire jav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2:03Z</dcterms:modified>
  <cp:revision>411</cp:revision>
  <dc:subject/>
  <dc:title>No Slide Title</dc:title>
</cp:coreProperties>
</file>