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1B7-5794-446F-AA46-AD124ABB9012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594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MAC C Swiss"/>
              </a:rPr>
              <a:t>VOVED VO OV@S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0720" y="7632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08840"/>
            <a:ext cx="3429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91440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040" y="615168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00" y="1908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9480" y="617364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78760" y="617544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8560" y="61610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32280" y="472284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Voved vo OV@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5600" y="1473480"/>
            <a:ext cx="38275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47636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45088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Da se identifikuvaat pozna~ajnite posledici vrz `ivotnata sredina od pogolemite razvojni proekti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Da se dizajniraat olesnitelni merki potrebni za namaluvawe ili sanirawe na posledicit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42720" y="679320"/>
            <a:ext cx="6591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Celi na OV@S</a:t>
            </a:r>
            <a:r>
              <a:rPr b="1" lang="en-GB" sz="2800" spc="-1" strike="noStrike">
                <a:solidFill>
                  <a:srgbClr val="800000"/>
                </a:solidFill>
                <a:latin typeface="MAC C Swiss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08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OV@S e instrument {to se primenuvaÈ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7874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red da se donesat va`ni odluki i dodeka se seu{te otvoreni site alternativi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aradi informirawe vo site fazi od procesot na donesuvawe odluki, vklu~uvaj}i go i krajnata soglasnost i sozdavaweto uslovi za implementacija na proektot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so u~estvo i konsultirawe na javnosta; 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a da se vklu~at aspektite na `ivotnata sredina i nejzinata za{tita vo site fazi, po~nuvaj}i od dizajniraweto na proektot, preku izgradbata pa se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 do samoto rabotewe na postrojkat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0T13:44:22Z</dcterms:modified>
  <cp:revision>256</cp:revision>
  <dc:subject/>
  <dc:title>No Slide Title</dc:title>
</cp:coreProperties>
</file>