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365F-A3B5-441C-ADE4-5910D8BC432B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05320" y="648504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HU"/>
              </a:rPr>
              <a:t>MONITOR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108000"/>
            <a:ext cx="525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HU"/>
              </a:rPr>
              <a:t>MBESHTETUR NGA PROGRAMET OBNOVA DHE PHARE TE BASHKIMIT EVROP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7200" y="6286680"/>
            <a:ext cx="3657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MANUAL BURIMOR PER TRAJNIM MBI VNM-n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PER EVROPEN JUGLIND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901440" cy="914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31640" y="6151680"/>
            <a:ext cx="312444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61800" y="60480"/>
            <a:ext cx="57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HU"/>
              </a:rPr>
              <a:t>MBESHTETUR NGA PROGRAMET OBNOVA DHE PHARE TE BASHKIMIT EVROP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89948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203960" y="6180120"/>
            <a:ext cx="49068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308560" y="617364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4680" y="1476000"/>
            <a:ext cx="37256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INIM PER VNM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UAL BURIMOR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 EVROPEN JUGLIND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60720" y="4700520"/>
            <a:ext cx="19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Monitori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359892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8840" y="66672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Monitori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i në përputhje me 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rocedurat e BERZH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246348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mi mjedisor siguron përputhshmërinë e standarteve mjedisore të zbatuara me komponentët mjedisorë të projekteve.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mi regjistron ecurinë e ndikimeve mjedisore dhe verifikon efektivitetin e masave zbutëse.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ERZHi specifikon mjetet e monitorimit për çdo projekt dhe që duhet të zbatohen derisa huaja të jetë shlyer tërësisht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Neni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7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92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Monitori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i në përputhje me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 </a:t>
            </a:r>
            <a:br>
              <a:rPr sz="2800"/>
            </a:b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Konventën e Espoos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2450880"/>
            <a:ext cx="83822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alët e interesuara përcaktojnë nevojën dhe shkallën e çdo analize pas zbatimit të projektit. Kjo përfshin vëzhgimin e ecurisë së aktivitetit dhe të përcaktimin e çdo ndikimi negativ ndërkufitar.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Neni 7.1)  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ëse analizat pas përfundimit të projektit paraqesin ndikime ndërkufitare negative të rëndësishme, palët e interesuara duhet të konsultohen për masat e nevojshme që të zvogëlojnë ose shmangin tërësisht këtë ndikim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ni 7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55320" y="666720"/>
            <a:ext cx="7512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Monitori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i në përputhje me 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Konventën e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Aarhusi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2463480"/>
            <a:ext cx="83822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Konventa nuk parashikon ndonjë kërkesë të veçantë lidhur me monitorimin.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egjithatë, nëse autoriteti publik merr të dhëna gjatë monitorimit, ata duhet t’i bëjnë ato publike në përputhje më dispozitat e Neneve 4 dhe 5 të Konventës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77760" y="1054080"/>
            <a:ext cx="6326280" cy="4749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409000" y="3733920"/>
            <a:ext cx="28598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Përfshirja e publikut duh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eçanërisht në këto faz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egjithatë publiku mund të përfshihet ed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ë secilën prej fazave të tjera tëprocesit të VNM-s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494240" y="5118120"/>
            <a:ext cx="3265200" cy="266760"/>
            <a:chOff x="4494240" y="5118120"/>
            <a:chExt cx="3265200" cy="266760"/>
          </a:xfrm>
        </p:grpSpPr>
        <p:sp>
          <p:nvSpPr>
            <p:cNvPr id="102" name=""/>
            <p:cNvSpPr/>
            <p:nvPr/>
          </p:nvSpPr>
          <p:spPr>
            <a:xfrm>
              <a:off x="4494600" y="5118120"/>
              <a:ext cx="151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formacioni nga ky pro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94240" y="5232240"/>
              <a:ext cx="3265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dihmon në procese më efektive të VNMsë në të ardhm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5562720" y="16765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uk duhet VN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43440" y="20700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lerësimi paraprak mjedis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5067360"/>
            <a:ext cx="52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iratoh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55960" y="4559400"/>
            <a:ext cx="78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uk miratoh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70440" y="4051440"/>
            <a:ext cx="64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ipërgatit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70440" y="3581280"/>
            <a:ext cx="61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iparaqit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3880" y="1108080"/>
            <a:ext cx="101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ërcaktimi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jekt-propozim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88640" y="3429000"/>
            <a:ext cx="1157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Përfshirja e publik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43240" y="1612800"/>
            <a:ext cx="66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ërzgjedh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ër V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62040" y="2095560"/>
            <a:ext cx="97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ërcaktim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 përmbajtj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14880" y="2666880"/>
            <a:ext cx="102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 e ndikime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3880" y="3054240"/>
            <a:ext cx="8557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Zbut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he menaxhi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 ndikime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58440" y="3613320"/>
            <a:ext cx="919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aporti i VNMs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7600" y="40575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ishiki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35480" y="457200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endimmarr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508120" y="5448240"/>
            <a:ext cx="8571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Arial"/>
                <a:ea typeface="Times New Roman"/>
              </a:rPr>
              <a:t>Zbatimi d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Arial"/>
                <a:ea typeface="Times New Roman"/>
              </a:rPr>
              <a:t>monitori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25360" y="5511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90840" y="16891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ërkohet V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5680" y="711000"/>
            <a:ext cx="7110360" cy="4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ërse nevojitet monitorimi</a:t>
            </a: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2444760"/>
            <a:ext cx="87631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lvl="2" marL="589680" indent="-258120">
              <a:lnSpc>
                <a:spcPct val="15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nitorimi është një komponent i domosdoshëm, por i lënë mënjanë gjatë zbatimit dhe vazhdimësisë së VNMsë.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2" marL="589680" indent="-258120">
              <a:lnSpc>
                <a:spcPct val="15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Komponentet e tjera përfshijnë supervizionin, auditimin dhe vlerësimin  bazuar në rezultatet e arritura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5680" y="6555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Qëllimet e monitorimi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246384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5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ë sigurojë zbatimin e kushteve të përcaktuara në një vendim të marr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5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ë verifikojë ndikimet e parashikuara apo ato të lejuar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5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ë konfirmojë se masat zbutëse kanë vepruar sic ishte parashikuar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5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Të marrë masat e nevojshme për të menaxhuar cdo ndryshim të papritur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5680" y="67464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800000"/>
                </a:solidFill>
                <a:latin typeface="Arial"/>
              </a:rPr>
              <a:t>Kur është i nevojshëm monitorimi?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2450880"/>
            <a:ext cx="822960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nitorimi dhe auditimi duhen ndërmarë kur :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dikimet e mundshme janë të konsiderueshme apo të paqart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h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/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uk janë parashikuar masa zbutëse dhe rezultatet janë të paqarta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9200" y="66816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800000"/>
                </a:solidFill>
                <a:latin typeface="Arial"/>
              </a:rPr>
              <a:t>Komponentet kryesorë të monitorimi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2463840"/>
            <a:ext cx="8382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caktimi i kushteve bazë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tja e ndikimeve t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ë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ktit pas ndërtimit të tij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erifikimi i përmbushjes së kushteve të vendosura brenda kufijve të pranuar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endosja e lidhjeve me planet e menaxhimit mjedisor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dërmarrja e kontrolleve periodike dhe auditimit nga palët e treta.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8840" y="674640"/>
            <a:ext cx="72961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Konsiderata për hartimin e planit të monitorimit të VNMsë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2463840"/>
            <a:ext cx="4133880" cy="32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Çfarë kërkohet?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ërcaktoni qëllimin dhe komponentët e tij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Kush do t’i kryejë aktivitetet?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pecifikoni rolet dhe përgjegjësitë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i do të zbatohen aktivitetet?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Veçoni burimet e nevojshme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8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ërcaktoni procedurat dhe masat e duhura.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2" name=""/>
          <p:cNvSpPr/>
          <p:nvPr/>
        </p:nvSpPr>
        <p:spPr>
          <a:xfrm>
            <a:off x="4851360" y="2463840"/>
            <a:ext cx="391176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1960" indent="-291960">
              <a:lnSpc>
                <a:spcPct val="9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Kush do t’i përdorë rezultatet e monitorimi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79360">
              <a:lnSpc>
                <a:spcPct val="9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zultatet e monitorimit duhet t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ërdoren vetëm nga vendimmarrësit dhe publiku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2362320"/>
            <a:ext cx="0" cy="1752480"/>
          </a:xfrm>
          <a:prstGeom prst="line">
            <a:avLst/>
          </a:prstGeom>
          <a:ln cap="rnd" w="12600">
            <a:solidFill>
              <a:srgbClr val="8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49200" y="67284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Monitori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i në përputhje me 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Direktivën e KEsë për VNMnë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245124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rektiva e KEsë për VNMnë nuk parashikon ndonjë kërkesë për monitorimin ose vazhdimësinë e punës pas kryerjes së VNMsë.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44600" y="7239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800000"/>
                </a:solidFill>
                <a:latin typeface="Arial"/>
              </a:rPr>
              <a:t>Monitori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mi në përputhje me </a:t>
            </a:r>
            <a:br>
              <a:rPr sz="2800"/>
            </a:b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procedurat e Bankës Botëror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520" y="245124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ozuesit të projektit (huamarrësit) i kërkohet të raportojë gjatë zbatimit të projektit pë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zbatimin në përputhje me kushtet e miratuara nga Banka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curinë e masave zbutës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; dhe 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  <a:p>
            <a:pPr lvl="1" marL="762120" indent="-279360">
              <a:lnSpc>
                <a:spcPct val="110000"/>
              </a:lnSpc>
              <a:spcBef>
                <a:spcPts val="400"/>
              </a:spcBef>
              <a:buClr>
                <a:srgbClr val="8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ërfundimet e programeve të monitorimi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Neni. 20 i PO 4.01)</a:t>
            </a:r>
            <a:endParaRPr b="0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4-02T10:34:16Z</dcterms:modified>
  <cp:revision>389</cp:revision>
  <dc:subject/>
  <dc:title>No Slide Title</dc:title>
</cp:coreProperties>
</file>