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72F9-7BA9-4E98-9AAE-9B880B0BD445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17920" y="6375240"/>
            <a:ext cx="525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HU"/>
              </a:rPr>
              <a:t>PERCAKTIMI I PERMBAJTJES </a:t>
            </a:r>
            <a:br>
              <a:rPr sz="1200"/>
            </a:br>
            <a:r>
              <a:rPr b="1" lang="en-GB" sz="1200" spc="-1" strike="noStrike">
                <a:solidFill>
                  <a:srgbClr val="ffffcc"/>
                </a:solidFill>
                <a:latin typeface="ArialHU"/>
              </a:rPr>
              <a:t>SE RAPORTIT TE VNM-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10800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MBESHTETUR NGA PROGRAMET OBNOVA DHE PHARE TE BASHKIMIT EVR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0720" y="6170760"/>
            <a:ext cx="35816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MANUAL BURIMOR</a:t>
            </a:r>
            <a:br>
              <a:rPr sz="1200"/>
            </a:b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PER TRAINIM MBI VNM </a:t>
            </a:r>
            <a:br>
              <a:rPr sz="1200"/>
            </a:br>
            <a:r>
              <a:rPr b="1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PER EVROPEN JUGLIND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10560" y="131760"/>
            <a:ext cx="952560" cy="93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31640" y="615168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5680" y="5400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MBESHTETUR NGA PROGRAMET OBNOVA DHE PHARE TE BASHKIMIT EVR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9948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203960" y="6186600"/>
            <a:ext cx="490680" cy="57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08560" y="616752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933800" y="1490040"/>
            <a:ext cx="3746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UAL BURIMO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 TRAINIM MBI VNM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 EVROPEN JUGLIND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3800" y="4289400"/>
            <a:ext cx="427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Përcaktimi i përmbajt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së Raportit të VNMs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06600"/>
            <a:ext cx="3598920" cy="3605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36240" y="679320"/>
            <a:ext cx="7512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ërcaktimi i përmbajtjes së VNMsë në përputhje me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irektivën e BEsë për VNMnë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2451240"/>
            <a:ext cx="8382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i i përcaktimit të përmbajtjes së VNMsë duhet të jetë proces i brendshëm dhe vullneta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en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5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riteti përgjegjës jep gjykimin e tij rreth përmbajtjes së raportit të VNMsë nëse kjo gjë kërkohet nga propozuesi i projektit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det anëtare mund ti kërkojnë autoritetit përgjegjës të japë opinionin e tij, pavarësisht nëse propozuesi e kërkon apo jo këtë gjë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36240" y="679320"/>
            <a:ext cx="7467480" cy="106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ërcaktimi i përmbajtjes së VNMsë në përputhje me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rocedurat e Bankës Botëror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65280"/>
            <a:ext cx="8382240" cy="22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ërcaktimi publik i përmabjtjes së VNMsë kërkohet për Kategorinë A të projektev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PO 4.01, Neni 15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uamarrësi (propozuesi i projektit) duhet të konsultojë publikun e ndikuar shumë shpejt pasi është kryer përzgjedhja paraprake mjedisore dhe përpara përfundimit të termave të referencës për vlerësimin mjediso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ër këtë konsultim fillestar, huamarrësi (propozuesi i projektit) duhet të paraqesë një përmbledhje të objektivave të projektit të propozuar, përshkrimin dhe ndikimet e mundsh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36600" y="678960"/>
            <a:ext cx="72388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ërcaktimi i përmbajtjes së VNMsë në përputhje me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rocedurat e BERZH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2455920"/>
            <a:ext cx="838224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litika Mjedisor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tojc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n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3.3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ërkon përcaktimin publik të përmbajtjes së VNMsë për projektet e Kategorisë 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Çështjet kryesore përcaktohen nëpërmjet konsultimit me publikun e ndikuar dhe marrjen në konsideratë të vërejtjeve të tyre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i përfshin kontaktet me përfaqësuesit e publikut të ndikuar, institucioneve qeveritare, pushtetit vendor dhe organizatave të tje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ultatet 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mave të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ferencë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ë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NMn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e Planit të Konsultimeve Publike dhe Informimi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versioni paraprak i PKPI)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qet në mënyrë të veçantë çdo aktivitet të pjesëmarrjes së publikut gjatë gjithë procesit të VNMs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36240" y="667800"/>
            <a:ext cx="74674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ërcaktimi i përmbajtjes së VNMsë në përputhje me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Konventën e Aarhusi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2457000"/>
            <a:ext cx="83822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Çdo Palë duhet të sigurojë pjesëmarrje publike të hershme (p.sh. kur të gjitha mundësitë janë të hapura dhe kur mund të kemi pjesëmarrje publike efektive)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Neni 6.4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jesëmarrja publike gajtë përcaktimit të përmbajtjes së VNMsë ndihmon të zbatohet ky detyrim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36600" y="678960"/>
            <a:ext cx="73915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ërcaktimi i përmbajtjes së VNMsë në përputhje me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Konventën e E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spoo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2451240"/>
            <a:ext cx="38102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2960" indent="-282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nventa kërkon përcaktimin e përmbajtjes për projektet ndërkufitare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Nenet 3.5, 3.6 dhe 3.8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2960" indent="-282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ala e origjinës informon palën e prekur rreth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:  a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jektit të propozua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; b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dikimeve të mundshme ndërkufitar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c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batimin e procedurës së VNMsë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 (Neni 3.5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8" name=""/>
          <p:cNvSpPr/>
          <p:nvPr/>
        </p:nvSpPr>
        <p:spPr>
          <a:xfrm>
            <a:off x="4876920" y="2451240"/>
            <a:ext cx="3809880" cy="23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ala e ndikuar i jep palës së origjinës informacionin rreth mjedisit të ndikuar. 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Neni 3.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ë dy palët sigurojnë që publiku i ndikuar të paraqesë vërejtjet dhe kundërshtitë për projektin e propozua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Neni 3.8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0" y="2362320"/>
            <a:ext cx="0" cy="236196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36240" y="681120"/>
            <a:ext cx="8426520" cy="13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Elemente të sugjeruara për një përcaktim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të përmbajtjes së VNMsë sa më të frytshëm në vendet e Procesit të Stabilizim-Asocimit (PSA)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2412720"/>
            <a:ext cx="85345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endet e PSA mund të mendojnë për të miratuar një procedurë përcaktimi të përmbajtjes së VNMsë të detyrueshme që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52560" indent="-380880"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ë ndihmojë autoritetet të japin mendimin e tyre rreth përmbajtjes së raportit të VNMsë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Direktiva e KEsë);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52560" indent="-380880"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ë ndodhë kur të gjitha mundësitë janë ende të hapura dhe kur mund të kemi një pjesëmarrje publike të frytshm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Konventa e Aarhusit);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52560" indent="-380880"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ë ndodhë menjëherë pas përzgjedhjes paraprake dhe përpara përfundimit të përgatitjes së To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Banka Botërore);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52560" indent="-380880"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ë sigurojë që të merren në konsideratë të gjithë mendimet e autoriteteve përgjegjëse dhe të publikut të ndikuar dhe atij të interesuar kur janë përcaktuar çështjet kryesor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BERZH); dhe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952560" indent="-380880"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Të lehtësojë përcaktimin ndërkufitar për VNMtë ndërkufitar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nventa 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spoo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6325920" cy="4749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421960" y="3746520"/>
            <a:ext cx="2859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Përfshirja e publikut duh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eçanërisht në këto faz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gjithatë publiku mund të përfshihet ed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ë secilën prej fazave të tjera tëprocesit të VNM-s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507200" y="5130720"/>
            <a:ext cx="3265200" cy="266760"/>
            <a:chOff x="4507200" y="5130720"/>
            <a:chExt cx="3265200" cy="266760"/>
          </a:xfrm>
        </p:grpSpPr>
        <p:sp>
          <p:nvSpPr>
            <p:cNvPr id="103" name=""/>
            <p:cNvSpPr/>
            <p:nvPr/>
          </p:nvSpPr>
          <p:spPr>
            <a:xfrm>
              <a:off x="4507560" y="5130720"/>
              <a:ext cx="151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ormacioni nga ky pro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07200" y="5244840"/>
              <a:ext cx="3265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dihmon në procese më efektive të VNMsë në të ardhm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575320" y="16891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uk duhet VN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56040" y="208296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lerësimi paraprak mjedi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79840" y="5079960"/>
            <a:ext cx="52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iratoh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68560" y="4572000"/>
            <a:ext cx="78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uk miratoh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83040" y="4064040"/>
            <a:ext cx="64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ipërgatit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83040" y="3594240"/>
            <a:ext cx="61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iparaqit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66480" y="1120680"/>
            <a:ext cx="101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caktimi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jekt-propozim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01600" y="3441600"/>
            <a:ext cx="1157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Përfshirja e publik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57640" y="1587600"/>
            <a:ext cx="66672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zgjedh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 V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75000" y="2108160"/>
            <a:ext cx="9716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33"/>
                </a:solidFill>
                <a:latin typeface="Arial"/>
                <a:ea typeface="Times New Roman"/>
              </a:rPr>
              <a:t>Përcaktimi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39933"/>
                </a:solidFill>
                <a:latin typeface="Arial"/>
                <a:ea typeface="Times New Roman"/>
              </a:rPr>
              <a:t>i përmbajtj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7840" y="2679840"/>
            <a:ext cx="102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 e ndikime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26480" y="3067200"/>
            <a:ext cx="855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Zbut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he menaxhi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 ndikime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71400" y="3625920"/>
            <a:ext cx="91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aporti i VNMs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680200" y="407052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ishiki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48080" y="458460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endimmarr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18280" y="5486400"/>
            <a:ext cx="65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Zbatimi d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37960" y="55245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03440" y="1701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ërkohet V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18680" y="717120"/>
            <a:ext cx="720108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Çfarë është përcaktimi i përmbajtjes së raprotit të VNMsë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2450880"/>
            <a:ext cx="838224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jë fazë e hershme e procesit të VNMsë që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illon kur ka përfunduar procesi i përzgjedhjes paraprak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ërcakton çështjet dhe ndikimet kryesore që duhen marrë në konsideratë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ërcakton përmbajtjen dhe qëllimin e raportit të VNMsë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është hapi më i rëndësishëm i VNMsë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endos bazën për një proces të frytshëm, kursen kohë dhe fonde dhe zvogëlon konfliktet e mundshm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939960"/>
            <a:ext cx="7086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Llojet e përcaktimit të përmabjtjes së VNMsë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67920" y="243792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ërcaktim i përmbajtjes i mbyllu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në çdo rast kur përmbajtja dhe qëllimi i raportit të VNMsë janë të paracaktuara me ligj dhe mund të modifikohen përmes konsultimeve të ngushta ndërmjet propozuesit të projektit dhe autoritetit përgjegjë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ërcaktimi i përmbajtjes i hapur ose publik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 një proces transparent i bazuar në konsultimet publik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7" name=""/>
          <p:cNvSpPr/>
          <p:nvPr/>
        </p:nvSpPr>
        <p:spPr>
          <a:xfrm>
            <a:off x="2438280" y="762120"/>
            <a:ext cx="0" cy="30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3080" y="673200"/>
            <a:ext cx="7200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Elementet e përcaktimit të përmbajtjes së VNMsë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2474640"/>
            <a:ext cx="3962520" cy="18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ërcakton treguesit e studimit të VNMsë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ërcakton dhe informon aktorët e ndryshëm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ërcakton aktorët e interesuar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ie dakort për mjetet e përfshirjes së publikut dhe metodikën e analizav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2362320"/>
            <a:ext cx="0" cy="19810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2463840"/>
            <a:ext cx="358128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ërcakton cështjet dhe ndikimet kryesore që duhen studiu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onsideron alternativat e mundshme dhe prakt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rton ‘Termat e References’ për VNMn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9200" y="673200"/>
            <a:ext cx="7220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Hapat për procesin e përcaktimit të përmbajtjes së VNMsë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2450880"/>
            <a:ext cx="396252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ërgatitja e një kuadri përcaktues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zhvillon kuadrin përcaktues përmes konsultimeve jozyrtare me autoritetet e mjedisit dhe shëndetësisë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uadri përcaktues bëhet i disponueshëm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rton një listë të zgjeruar të çështjeve që duhen analizuar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lerëson çështjet kryesore për të përcaktuar ato më thelbësore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4" name=""/>
          <p:cNvSpPr/>
          <p:nvPr/>
        </p:nvSpPr>
        <p:spPr>
          <a:xfrm>
            <a:off x="4863960" y="2444760"/>
            <a:ext cx="3899160" cy="24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rganizon cështjet kryesore në trajtën e kategorive të ndikimeve (lista e studime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ërmirëson kuadrin përcaktues në bazë të komente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zhvillon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‘Termat e references’ (ToR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nitoron ecurinë kundrejt ToR, duke i rishikuar nëse është e nevojsh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0" y="2362320"/>
            <a:ext cx="0" cy="27432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6240" y="678960"/>
            <a:ext cx="721980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Kush duhet të përfshihet për përcaktimin e përmabjtjes së VNMsë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2449080"/>
            <a:ext cx="3353040" cy="144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pozuesi i projekti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onsulenti i VNMsë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oriteti mbikqyrës për VNMnë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gjenci të tjera përgjegjës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8" name=""/>
          <p:cNvSpPr/>
          <p:nvPr/>
        </p:nvSpPr>
        <p:spPr>
          <a:xfrm>
            <a:off x="4857840" y="2451240"/>
            <a:ext cx="3352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ku i ndikua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ku i interesua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362320"/>
            <a:ext cx="0" cy="8380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3080" y="678960"/>
            <a:ext cx="71625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Parimet udhëzuese për përcaktimin e përmbajtjes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2449080"/>
            <a:ext cx="4038840" cy="24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ërcaktimi i përmbajtjes është një proces, jo një aktivitet apo një ngjarj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artoni një proces për përcaktimin e përmabjtjes për çdo projekt-propozim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loni sa më herët, ose atëherë kur e lejon informacioni i grumbulluar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ërgatisni një paketë informacioni rreth çfarë pritet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451240"/>
            <a:ext cx="388620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pecifikoni rolin e publikut në procesin e VNMs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kumentoni rezultatet për të drejtuar përgatitjen e VNMs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ërgjigjuni informacioneve dhe çështjeve të reja nëse është e nevojshm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362320"/>
            <a:ext cx="0" cy="20574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0680" y="678960"/>
            <a:ext cx="723924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‘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Term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t e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 Referencës’ për VNMnë që duhen përfshirë në përmbajtj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520" y="2444400"/>
            <a:ext cx="3962520" cy="19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Zona e studimit dhe kufijtë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ternativat për t’u vlerësuar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dikimet dhe çështjet që duhen studiuar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ënyra e trajtimi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Kërkesat për masat zbutëse dhe monitorimin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2448000"/>
            <a:ext cx="38862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formacioni dhe të dhënat që duhen përfshirë në raportin e VNMs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fatet kohore dhe kërkesat për përmbushjen e procesit të VNMs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ndësitë për përfshirjen më të gjerë të publik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0" y="2362320"/>
            <a:ext cx="0" cy="17524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4-02T10:25:19Z</dcterms:modified>
  <cp:revision>398</cp:revision>
  <dc:subject/>
  <dc:title>No Slide Title</dc:title>
</cp:coreProperties>
</file>