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0EB2-3971-4197-9D1E-138C12F2A77C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105520" y="6485040"/>
            <a:ext cx="37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cc"/>
                </a:solidFill>
                <a:latin typeface="ArialHU"/>
              </a:rPr>
              <a:t>ANALIZA UTICA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HU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29280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RESUSURSNI VODI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Č ZA PU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) ZA JUGOISTOČ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24680" y="150840"/>
            <a:ext cx="909720" cy="90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1640" y="614520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0880" y="2844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HU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754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80280" y="617220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84880" y="6205680"/>
            <a:ext cx="1676160" cy="57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5600" y="1471680"/>
            <a:ext cx="3801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RSNI VOD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 ZA P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 (EIA) ZA JUGOISTOČ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28320" y="47005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Analiza uti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90720" y="1054080"/>
            <a:ext cx="6486120" cy="4749840"/>
            <a:chOff x="990720" y="1054080"/>
            <a:chExt cx="6486120" cy="4749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990720" y="1054080"/>
              <a:ext cx="632592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019400" y="1060560"/>
              <a:ext cx="924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Identifikacija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r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41720" y="1589040"/>
              <a:ext cx="8445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Utvrđiva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potre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022280" y="2035080"/>
              <a:ext cx="95652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Inicijalno</a:t>
              </a:r>
              <a:br>
                <a:rPr sz="900"/>
              </a:b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ispitivanje</a:t>
              </a:r>
              <a:br>
                <a:rPr sz="900"/>
              </a:br>
              <a:r>
                <a:rPr b="0" lang="sr-Latn-CS" sz="900" spc="-1" strike="noStrike">
                  <a:solidFill>
                    <a:srgbClr val="000000"/>
                  </a:solidFill>
                  <a:latin typeface="Arial"/>
                </a:rPr>
                <a:t>zivotne sred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32840" y="1557360"/>
              <a:ext cx="965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Nije potrebn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63800" y="3413160"/>
              <a:ext cx="1067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Učešće javnost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22840" y="3745080"/>
              <a:ext cx="185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Učešće javnosti se obično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javlja pri ovim koracima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moze se pojaviti i na bilo ko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drugom koraku u procesu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57000" y="1587600"/>
              <a:ext cx="916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 potreb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9280" y="2048040"/>
              <a:ext cx="86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d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điva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okvi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418480" y="259092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000" spc="-1" strike="noStrike">
                  <a:solidFill>
                    <a:srgbClr val="339933"/>
                  </a:solidFill>
                  <a:latin typeface="Arial"/>
                </a:rPr>
                <a:t>Analiza utic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403360" y="3013200"/>
              <a:ext cx="10951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Ublazavanje </a:t>
              </a:r>
              <a:br>
                <a:rPr sz="800"/>
              </a:b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uticaja i </a:t>
              </a:r>
              <a:br>
                <a:rPr sz="800"/>
              </a:br>
              <a:r>
                <a:rPr b="0" lang="sr-Latn-CS" sz="800" spc="-1" strike="noStrike">
                  <a:solidFill>
                    <a:srgbClr val="000000"/>
                  </a:solidFill>
                  <a:latin typeface="Arial"/>
                </a:rPr>
                <a:t>menađzment uticaj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414880" y="5397480"/>
              <a:ext cx="1063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plementacij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512600" y="5084640"/>
              <a:ext cx="2084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formacija iz ovog procesa 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prinosi efektivnosti EIA proces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45080" y="4546440"/>
              <a:ext cx="965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je odobr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63800" y="406404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edizajnir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39040" y="3492360"/>
              <a:ext cx="833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novno </a:t>
              </a:r>
              <a:br>
                <a:rPr sz="1000"/>
              </a:b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odno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še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11000" y="3568680"/>
              <a:ext cx="8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</a:rPr>
                <a:t>EIA Izveštaj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73400" y="4051440"/>
              <a:ext cx="131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gled izvešt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43320" y="4444920"/>
              <a:ext cx="992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ošenje</a:t>
              </a:r>
              <a:br>
                <a:rPr sz="1000"/>
              </a:b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lu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58160" y="5046840"/>
              <a:ext cx="74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2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Odobr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1000" y="7250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Metode za identifikaciju uticaja n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ivotnu sredin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2457360"/>
            <a:ext cx="556272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upitnic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atrice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folije i geografski informacijski sistem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(GI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ekspertski sistemi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ofesionalno iskustvo/rasuđivanj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9200" y="679320"/>
            <a:ext cx="7238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Kriterijumi za odabir metode PU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S (EIA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678204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ip i veličina predloga projekt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tipovi alternativnih rešenja koja su razmatran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riroda i obim mogućeg uticaja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ostupnost metode za identifikaciju utica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skustvo tima za procenu uticaja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votnu sredinu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dostupni resursi (troškovi, informacije, vreme, projektni tim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34:11Z</dcterms:modified>
  <cp:revision>337</cp:revision>
  <dc:subject/>
  <dc:title>No Slide Title</dc:title>
</cp:coreProperties>
</file>