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00AE-A35E-48E9-833C-34CCF1468112}" type="slidenum">
              <a:rPr b="0" lang="en-US" sz="1000" spc="-1" strike="noStrike">
                <a:solidFill>
                  <a:srgbClr val="ffffcc"/>
                </a:solidFill>
                <a:latin typeface="MAC C Swis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7856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MAC C Swiss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4600" y="76320"/>
            <a:ext cx="52578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127920"/>
            <a:ext cx="38098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92240"/>
            <a:ext cx="901440" cy="86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8120" y="6157800"/>
            <a:ext cx="3124080" cy="687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5680" y="2232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0560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48600" y="6180120"/>
            <a:ext cx="49032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78400" y="617364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1720" y="1465560"/>
            <a:ext cx="3726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25520" y="4735440"/>
            <a:ext cx="217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033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9200" y="666720"/>
            <a:ext cx="7499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Monitoring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ot vo soglasnost so pravilata na Evropskata banka za obnova i razvoj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nitoring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t na `ivotnata sredina obezbeduva po~ituvawe na va`e~kite ekolo{ki standardi i ekolo{kite komponenti na proektite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Monitoring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t gi sledi tekovnite vlijanija vrz `ivotnata sredina i ja proveruva efikasnosta na olesnitelnite merk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EB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R gi propi{uva instrumentite za monitoring za sekoj proekt koi{to treba da se primenuvaat 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è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do otplatata na zaemot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~len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27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61440" y="666360"/>
            <a:ext cx="70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Monitoring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ot vo soglasnost so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konvencijata </a:t>
            </a:r>
            <a:r>
              <a:rPr b="1" lang="en-GB" sz="2800" spc="-1" strike="noStrike">
                <a:solidFill>
                  <a:srgbClr val="800000"/>
                </a:solidFill>
                <a:latin typeface="MAC C Swiss"/>
              </a:rPr>
              <a:t>Espo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2450880"/>
            <a:ext cx="8382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asegnatite stranki odlu~uvaat dali ima potreba od bilo kakva post-proektna analiza i, ako ima, za obemot na istata. Ova mo`e da opfati nadzor nad dejnosta i odreduvawe na eventualnite negativni prekugrani~ni vlijanij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(~len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7.1)  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okolku post-proektnata analiza otkrie zna~itelno negativno prekugrani~no vlijanie, zasegnatite stranki treba da izvr{at konsultacii okolu potrebnite merki za namaluvawe ili eliminirawe na takvoto vlijanie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(~len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7.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8840" y="666720"/>
            <a:ext cx="7512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Monitoring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ot vo soglasnost so </a:t>
            </a:r>
            <a:r>
              <a:rPr b="1" lang="en-GB" sz="2800" spc="-1" strike="noStrike">
                <a:solidFill>
                  <a:srgbClr val="800000"/>
                </a:solidFill>
                <a:latin typeface="MAC C Swiss"/>
              </a:rPr>
              <a:t>Arhus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kata konvencij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2476080"/>
            <a:ext cx="8382240" cy="16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3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Konvencijata ne propi{uva barawa za vr{ewe monitoring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3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pak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okolku vlastite dobijat odredeni podatoci za vreme na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monitoring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t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tie podatoci mora da stanat dostapni za javnosta vo soglasnost so odredbite od ~lenovite 4 i 5 na konvencijat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32592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2475720" y="5460840"/>
            <a:ext cx="933480" cy="339480"/>
            <a:chOff x="2475720" y="5460840"/>
            <a:chExt cx="933480" cy="339480"/>
          </a:xfrm>
        </p:grpSpPr>
        <p:sp>
          <p:nvSpPr>
            <p:cNvPr id="101" name=""/>
            <p:cNvSpPr/>
            <p:nvPr/>
          </p:nvSpPr>
          <p:spPr>
            <a:xfrm>
              <a:off x="2475720" y="5460840"/>
              <a:ext cx="9334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33"/>
                  </a:solidFill>
                  <a:latin typeface="MAC C Swiss"/>
                  <a:ea typeface="Times New Roman"/>
                </a:rPr>
                <a:t>Realizacija 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33"/>
                  </a:solidFill>
                  <a:latin typeface="MAC C Swiss"/>
                  <a:ea typeface="Times New Roman"/>
                </a:rPr>
                <a:t>monitor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611440" y="5552640"/>
              <a:ext cx="180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88120" y="5645880"/>
              <a:ext cx="34200" cy="1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359320" y="3753000"/>
            <a:ext cx="1856880" cy="883440"/>
            <a:chOff x="5359320" y="3753000"/>
            <a:chExt cx="1856880" cy="883440"/>
          </a:xfrm>
        </p:grpSpPr>
        <p:sp>
          <p:nvSpPr>
            <p:cNvPr id="105" name=""/>
            <p:cNvSpPr/>
            <p:nvPr/>
          </p:nvSpPr>
          <p:spPr>
            <a:xfrm>
              <a:off x="5388120" y="3753000"/>
              <a:ext cx="1828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klu~uvaweto na javnosta obi~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e slu~uva vo ovie momenti.</a:t>
              </a:r>
              <a:r>
                <a:rPr b="0" lang="en-GB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59320" y="39564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06480" y="4159440"/>
              <a:ext cx="179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oa mo`e da se slu~i i vo neko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ruga faza od procesot na OV@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9320" y="43632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67920" y="4363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44920" y="5118120"/>
            <a:ext cx="2419920" cy="388800"/>
            <a:chOff x="4444920" y="5118120"/>
            <a:chExt cx="2419920" cy="388800"/>
          </a:xfrm>
        </p:grpSpPr>
        <p:sp>
          <p:nvSpPr>
            <p:cNvPr id="111" name=""/>
            <p:cNvSpPr/>
            <p:nvPr/>
          </p:nvSpPr>
          <p:spPr>
            <a:xfrm>
              <a:off x="4561560" y="5118120"/>
              <a:ext cx="2303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formaciite od ovoj proc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pridonesuvaat za efikasna OV@S vo idnina</a:t>
              </a: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4920" y="52322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20280" y="5232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518080" y="1707840"/>
            <a:ext cx="98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treba OV@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006800" y="2082960"/>
            <a:ext cx="879480" cy="422280"/>
            <a:chOff x="4006800" y="2082960"/>
            <a:chExt cx="879480" cy="422280"/>
          </a:xfrm>
        </p:grpSpPr>
        <p:sp>
          <p:nvSpPr>
            <p:cNvPr id="116" name=""/>
            <p:cNvSpPr/>
            <p:nvPr/>
          </p:nvSpPr>
          <p:spPr>
            <a:xfrm>
              <a:off x="4120560" y="2082960"/>
              <a:ext cx="7657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icijal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spituvawe n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`iv. sred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06800" y="2184840"/>
              <a:ext cx="7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53600" y="2286360"/>
              <a:ext cx="1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43040" y="1636560"/>
            <a:ext cx="736920" cy="152640"/>
            <a:chOff x="2543040" y="1636560"/>
            <a:chExt cx="736920" cy="152640"/>
          </a:xfrm>
        </p:grpSpPr>
        <p:sp>
          <p:nvSpPr>
            <p:cNvPr id="120" name=""/>
            <p:cNvSpPr/>
            <p:nvPr/>
          </p:nvSpPr>
          <p:spPr>
            <a:xfrm>
              <a:off x="2543040" y="163656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reba 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18000" y="1636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584800" y="5029200"/>
            <a:ext cx="64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oglasn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4495680"/>
            <a:ext cx="84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e 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oektot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2840" y="401940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dizajni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08080" y="3533760"/>
            <a:ext cx="85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novo 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odn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07960" y="1012680"/>
            <a:ext cx="724680" cy="376200"/>
            <a:chOff x="4107960" y="1012680"/>
            <a:chExt cx="724680" cy="376200"/>
          </a:xfrm>
        </p:grpSpPr>
        <p:sp>
          <p:nvSpPr>
            <p:cNvPr id="127" name=""/>
            <p:cNvSpPr/>
            <p:nvPr/>
          </p:nvSpPr>
          <p:spPr>
            <a:xfrm>
              <a:off x="4120920" y="101268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07960" y="111420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dentifikaci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na predlogo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562720" y="3429000"/>
            <a:ext cx="1511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klu~uvawe na javnost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152388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lektiraw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64280" y="2114640"/>
            <a:ext cx="68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reduvaw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 obem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2000" y="2565360"/>
            <a:ext cx="64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naliza n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lijani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484360" y="3035160"/>
            <a:ext cx="847080" cy="477720"/>
            <a:chOff x="2484360" y="3035160"/>
            <a:chExt cx="847080" cy="477720"/>
          </a:xfrm>
        </p:grpSpPr>
        <p:sp>
          <p:nvSpPr>
            <p:cNvPr id="134" name=""/>
            <p:cNvSpPr/>
            <p:nvPr/>
          </p:nvSpPr>
          <p:spPr>
            <a:xfrm>
              <a:off x="2593080" y="3035160"/>
              <a:ext cx="7383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Ubla`uvawe i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pravuvawe s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lijani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50240" y="31366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4360" y="3238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5600" y="3552840"/>
            <a:ext cx="634680" cy="304920"/>
            <a:chOff x="2595600" y="3552840"/>
            <a:chExt cx="634680" cy="304920"/>
          </a:xfrm>
        </p:grpSpPr>
        <p:sp>
          <p:nvSpPr>
            <p:cNvPr id="138" name=""/>
            <p:cNvSpPr/>
            <p:nvPr/>
          </p:nvSpPr>
          <p:spPr>
            <a:xfrm>
              <a:off x="2595600" y="3552840"/>
              <a:ext cx="634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zve{taj z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38880" y="3552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667600" y="4089240"/>
            <a:ext cx="47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izij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2160" y="4505400"/>
            <a:ext cx="79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nesuvaw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luk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3080" y="698400"/>
            <a:ext cx="711036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Zo{to e potreben monitoring</a:t>
            </a: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2437920"/>
            <a:ext cx="8381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677880" indent="-29700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Monitoringot e esencijalna, no zanemaruvana komponenta vo realizacijata na OV@S i prodol`enieto (t.e. aktivnostite {to sleduvaat po zavr{uvaweto na ocenkata)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2" marL="677880" indent="-29700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rugite komponenti se nadzor, proverka na sostojbata i nadvore{na evaluacija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5320" y="668160"/>
            <a:ext cx="5283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Celi na</a:t>
            </a:r>
            <a:r>
              <a:rPr b="1" lang="en-GB" sz="2800" spc="-1" strike="noStrike">
                <a:solidFill>
                  <a:srgbClr val="800000"/>
                </a:solidFill>
                <a:latin typeface="MAC C Swiss"/>
              </a:rPr>
              <a:t> monitoring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o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obezbedi realizirawe na uslovite koi se sostaven del na odlukat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proveri dali vlijanijata se spored predvidenoto ili dozvolenoto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potvrdi dali olesnitelnite merki funkcioniraat soglasno o~ekuvawat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prezemat dejstvija za spravuvawe so eventualni nepredvideni promen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5320" y="674640"/>
            <a:ext cx="71881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MAC C Swiss"/>
              </a:rPr>
              <a:t>Koga e potreben monitoring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2463480"/>
            <a:ext cx="8229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Monitoringot i proverkata na sostojbata treba da se napravat toga{ koga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Potencijalnite vlijanija se zna~itelni ili nejasni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i/il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Olesnitelnite merki se neisprobani i rezultatite od niv nesigurni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9200" y="6681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MAC C Swiss"/>
              </a:rPr>
              <a:t>Klu~ni komponenti na monitoringo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Utvrduvawe na fakti~kata sostojb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Me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we na vlijanijata od proektot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overka na usoglasenosta so utvrdenite uslovi i prifatlivite granic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ospostavuvawe vrski so planovite za upravuvawe so `ivotnata sredin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proveduvawe periodi~ni proverki i kontroli od strana na treti lic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8840" y="674280"/>
            <a:ext cx="729612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Razmisluvawa za to kako da se organizira monitoringot na OV@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93840" y="2437920"/>
            <a:ext cx="420984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[to e potrebno?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identifikuvaat opsegot i komponentite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Koj }e gi sprovede aktivnostite?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preciziraat ulogite i dol`nostite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Kako tie }e se sprovedat?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raspredelat sredstva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se definiraat postapkite i aran`manite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2" name=""/>
          <p:cNvSpPr/>
          <p:nvPr/>
        </p:nvSpPr>
        <p:spPr>
          <a:xfrm>
            <a:off x="4863960" y="2451240"/>
            <a:ext cx="360684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Koj mo`e da ima pristap do rezultatite od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monitoring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ot</a:t>
            </a: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Samo liceto koe donesuva odluki i po{irokata javnost mo`e da imaat pristap do rezultatite od monitoringot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2362320"/>
            <a:ext cx="0" cy="19810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9200" y="6728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Monitoring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ot vo soglasnost so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Direktivata za OV@S na EK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7925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irektivata za OV@S na EK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propi{uva barawa za sproveduvawe monitoring ili post-OV@S aktivnost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44240" y="711360"/>
            <a:ext cx="72514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Monitoring</a:t>
            </a: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ot vo soglasnost so pravilata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na Svetskata bank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2432160"/>
            <a:ext cx="81536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Od zaemoprima~ot se bara da izvestuva za vreme na sproveduvaweto na proektot za slednovo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o~ituvaweto na uslovite dogovoreni so bankat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Kakva e sostojbata so olesnitelnite merk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Rezultatite od programite za monitoring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99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MAC C Swis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~len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20 o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avilata za rabot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4.01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57:55Z</dcterms:modified>
  <cp:revision>392</cp:revision>
  <dc:subject/>
  <dc:title>No Slide Title</dc:title>
</cp:coreProperties>
</file>