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73DE3-6993-4ED9-A5B4-DF0AB28FC762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87760" y="655488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ANALIZA E NDIKIM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50720" y="6362640"/>
            <a:ext cx="3429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MANUAL BURIMOR PER TRAJNIM MBI VNM-në</a:t>
            </a:r>
            <a:br>
              <a:rPr sz="1200"/>
            </a:b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924680" y="150840"/>
            <a:ext cx="909720" cy="9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76212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1680"/>
            <a:ext cx="3124440" cy="687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5568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975440" y="617688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280280" y="617220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84880" y="6205680"/>
            <a:ext cx="1676160" cy="57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33800" y="1470960"/>
            <a:ext cx="3802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TRAINIM MBI VNM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41640" y="4700520"/>
            <a:ext cx="356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Analiza e ndikime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92240" y="15112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666880" y="3581280"/>
            <a:ext cx="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49400" y="1054080"/>
            <a:ext cx="6326280" cy="4749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480640" y="3733920"/>
            <a:ext cx="28598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 du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çanërisht në këto faz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egjithatë publiku mund të përfshihet e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ë secilën prej fazave të tjera tëprocesit të VNM-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4565880" y="5118120"/>
            <a:ext cx="3265200" cy="266760"/>
            <a:chOff x="4565880" y="5118120"/>
            <a:chExt cx="3265200" cy="266760"/>
          </a:xfrm>
        </p:grpSpPr>
        <p:sp>
          <p:nvSpPr>
            <p:cNvPr id="103" name=""/>
            <p:cNvSpPr/>
            <p:nvPr/>
          </p:nvSpPr>
          <p:spPr>
            <a:xfrm>
              <a:off x="4566240" y="5118120"/>
              <a:ext cx="1512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rmacioni nga ky proc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65880" y="5232240"/>
              <a:ext cx="3265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dihmon në procese më efektive të VNMsë në të ardhm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634000" y="16765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duhet VNM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14720" y="207000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lerësimi paraprak mjedi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738520" y="506736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27240" y="455940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uk miratoh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41720" y="4051440"/>
            <a:ext cx="64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ërgat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41720" y="358128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paraqit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25160" y="1108080"/>
            <a:ext cx="1018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rojekt-propozim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60280" y="3429000"/>
            <a:ext cx="1157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*Përfshirja e publik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14880" y="1612800"/>
            <a:ext cx="666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zgjedh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533680" y="2095560"/>
            <a:ext cx="97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Përcaktimi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përmbajtj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3680" y="2603520"/>
            <a:ext cx="749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Analiza e</a:t>
            </a:r>
            <a:br>
              <a:rPr sz="1200"/>
            </a:br>
            <a:r>
              <a:rPr b="1" lang="en-US" sz="1200" spc="-1" strike="noStrike">
                <a:solidFill>
                  <a:srgbClr val="339933"/>
                </a:solidFill>
                <a:latin typeface="Arial"/>
                <a:ea typeface="Times New Roman"/>
              </a:rPr>
              <a:t>ndikime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85160" y="3054240"/>
            <a:ext cx="85572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ut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he menaxh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 ndikime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30080" y="3613320"/>
            <a:ext cx="919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aporti i VNMs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38880" y="405756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ishik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06760" y="4572000"/>
            <a:ext cx="785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Vendimmarrj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76960" y="5473800"/>
            <a:ext cx="659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Zbatimi d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im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997000" y="551196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62120" y="16891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ërkohet V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41000" y="6980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Metodat për përcaktimin e </a:t>
            </a:r>
            <a:br>
              <a:rPr sz="2800"/>
            </a:b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ndikimeve në mjedis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2457000"/>
            <a:ext cx="5562720" cy="24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ista kontrolli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atrica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rjetëzim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arta të ndryshme dhe sistemet e informacionit gjeografik GIS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rupet e ekspertëv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80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jykimi profesional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36600" y="653760"/>
            <a:ext cx="72388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800000"/>
                </a:solidFill>
                <a:latin typeface="Arial"/>
              </a:rPr>
              <a:t>Kriteret për zgjedhjen e metodës për VNMnë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451240"/>
            <a:ext cx="8229600" cy="27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loji dhe madhësia e aktivitetit të propozuar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lojet e alternativave të marra në konsideratë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atyra dhe shkalla e ndikimeve të pritshm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undësia e zbatimit të metodave për përcaktimin e ndikimeve në mjedis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ërvoja e grupit të punës për VNMnë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91960" indent="-291960">
              <a:lnSpc>
                <a:spcPct val="115000"/>
              </a:lnSpc>
              <a:spcBef>
                <a:spcPts val="1199"/>
              </a:spcBef>
              <a:spcAft>
                <a:spcPts val="300"/>
              </a:spcAft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rimet në dispozicion (kosto, informacioni, koha, personeli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27:07Z</dcterms:modified>
  <cp:revision>338</cp:revision>
  <dc:subject/>
  <dc:title>No Slide Title</dc:title>
</cp:coreProperties>
</file>