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6BFC-8838-4887-96D1-4CB9C4CB592A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IZVESTUVAWE VO PROCESOT NA OV@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6984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0520"/>
            <a:ext cx="3276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0440"/>
            <a:ext cx="901440" cy="86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2844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30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36000" y="617544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658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29200"/>
            <a:ext cx="3746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1360" y="4280040"/>
            <a:ext cx="406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Izvestuvawe 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procesot na OV@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1480" y="148104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85880" y="5486400"/>
            <a:ext cx="653040" cy="366480"/>
            <a:chOff x="25858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966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25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1760" y="1631880"/>
            <a:ext cx="570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428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84360" y="3067200"/>
            <a:ext cx="847080" cy="477720"/>
            <a:chOff x="2484360" y="306720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93080" y="3067200"/>
              <a:ext cx="738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3168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3270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27920" y="3527280"/>
            <a:ext cx="820800" cy="330120"/>
            <a:chOff x="2527920" y="3527280"/>
            <a:chExt cx="820800" cy="330120"/>
          </a:xfrm>
        </p:grpSpPr>
        <p:sp>
          <p:nvSpPr>
            <p:cNvPr id="138" name=""/>
            <p:cNvSpPr/>
            <p:nvPr/>
          </p:nvSpPr>
          <p:spPr>
            <a:xfrm>
              <a:off x="2527920" y="3527280"/>
              <a:ext cx="82080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12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OV@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64440" y="352728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0920" y="6714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Razli~ni imiwa za istiot doku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3840" y="2437920"/>
            <a:ext cx="73152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ve{taj za ocenkata na vlijanieto vrz `ivotna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ve{taj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skaz za vlijanieto vrz `ivotnata sredin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skaz za `ivotna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ve{taj za ocenka na `ivotnata sredin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ve{taj za O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skaz za efektite vrz `ivotna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@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685800"/>
            <a:ext cx="70484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dliki na uspe{en izve{taj za OV@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3407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Gi opi{uva zna~ajnite vlijanija na eden predlog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Gi identifikuva merkite za ubla`uvawe na zna~ajnite vlijanija vklu~uvaj}i i prakti~ni akcii {to treba da gi prezeme pobornik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u obezbeduva informacii relevantni za odlukata na nadle`niot orga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zve{tajot e napi{an taka {to javnosta i licata koi donesuvaat odluki da mo`e da go razber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914400" y="2324160"/>
            <a:ext cx="7848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pis na proektot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egled na glavnite alternativi analizirani od strana na izgotvuva~ot i objasnuvawe na pri~inite za ovoj izbor;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pis na aspektite od `ivotnata sredina za koi postoi verojatnost da bidat seriozno pogodeni od predlo`eniot proekt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pis na verojatnite zna~itelni efekti od predlo`eniot proekt vrz `ivotnata sredina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</a:rPr>
              <a:t>Merki za spre~uvawe, namaluvawe i eventualno kompenzirawe na negativnite efekti vrz `ivotnata sredina;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tehni~ko rezime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374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vodi za eventualni pote{kotii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(tehni</a:t>
            </a:r>
            <a:r>
              <a:rPr b="0" lang="en-US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ki nedostatoci ili nedostig na znaewe) na koi e naideno za vreme na sobiraweto na potrebnite informacii</a:t>
            </a:r>
            <a:r>
              <a:rPr b="0" lang="en-GB" sz="15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5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48840" y="671400"/>
            <a:ext cx="7467480" cy="7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Izvestuvawe za OV@S vo soglasnost so Direktivata za OV@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1676520"/>
            <a:ext cx="61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den izve{taj za OV@S mora da go sodr`i slednov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600" y="67932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Podgotovka na izvr{no rezim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so~ete se kon auditorium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Bidete kratk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.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Bidete jasni i konzistentn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begnuvajte `argo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umirajte gi klu~nite rezulta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9760" y="678960"/>
            <a:ext cx="751860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Izvr{noto rezime treba nakratko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da se osvrne na</a:t>
            </a:r>
            <a:r>
              <a:rPr b="1" lang="en-GB" sz="2800" spc="-1" strike="noStrike">
                <a:solidFill>
                  <a:srgbClr val="800000"/>
                </a:solidFill>
                <a:latin typeface="MAC C Swiss"/>
              </a:rPr>
              <a:t>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dlogot i negoviot konteks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Listata so zada~i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ezultatite od konsultaciite so javnos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azgledanite alternativ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Glavnite vlijanija i nivnata va`nos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lesnitelnite merki i merkite za spravuvawe so novonastanatata situac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ts val="1998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Bilo koi drugi va`ni merk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600" y="677880"/>
            <a:ext cx="713088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Odredeni nedostatoci na izve{taite za OV@S 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d aspekt na sodr`inata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2412720"/>
            <a:ext cx="403884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7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mnogu tesen opis na celta na predlog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7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pisot na ja pokriva celata aktivnos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7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praven previd za ~uvstvitelni elementi od `ivotnata sredin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7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Upotrebeni zastareni ili neefikasni modeli za predviduvaw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7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Vlijanijata ne se sporedeni so standardite ili celite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relevant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ite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standard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 i zakonodavstvo ne se opi{an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22440"/>
            <a:ext cx="4070160" cy="25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spomnati ili neto~no opi{ani ku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mulativ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, indir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tni i sinergisti~ki vlijan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Alternativite nedovolno opi{ani za da bi bila mo`na sporedb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 se razgledani soodvetni olesnitelni mer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zvle~eni se neto~ni zaklu~o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24280" y="2362320"/>
            <a:ext cx="180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679320"/>
            <a:ext cx="75056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Odredeni nedostatoci na izve{taite za OV@S 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d aspekt na formata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)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2444760"/>
            <a:ext cx="3016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</a:rPr>
              <a:t>Nejasna struktu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dolg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fokusiran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0" name=""/>
          <p:cNvSpPr/>
          <p:nvPr/>
        </p:nvSpPr>
        <p:spPr>
          <a:xfrm>
            <a:off x="4876920" y="2449440"/>
            <a:ext cx="3657600" cy="29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AC C Swiss"/>
              </a:rPr>
              <a:t>Lo{ stil i jazik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mnogu tehni~k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ako izve{taite, taka i „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etehni~kite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“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ezime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jasni preporaki i zaklu~o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edostasuvaat podatoci za koristena litera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2362320"/>
            <a:ext cx="1800" cy="2971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1:57Z</dcterms:modified>
  <cp:revision>371</cp:revision>
  <dc:subject/>
  <dc:title>No Slide Title</dc:title>
</cp:coreProperties>
</file>