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072D-D8A3-408E-83C2-6416D3D7E10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SCRE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99480" y="152280"/>
            <a:ext cx="939600" cy="9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83920"/>
            <a:ext cx="382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29400" y="4695840"/>
            <a:ext cx="189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cre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61764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6600" y="693720"/>
            <a:ext cx="72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reening in accordance with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World Bank</a:t>
            </a: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5880" y="2412720"/>
            <a:ext cx="77216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42280" indent="-2422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ll proposals submitted to the World Bank must undergo environmental screening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42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42280" indent="-2422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nvironmental screening results for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projects are classified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to one of three EIA categories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32520" indent="-231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ategory A proposals require full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32520" indent="-231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ategory B proposals require partial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632520" indent="-231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ategory C proposals do not require EIA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36600" y="693360"/>
            <a:ext cx="713088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reening in accordance with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BRD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13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ll proposals must undergo environmental screening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o identify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otential environmental risk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an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iabilities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s with the World Bank, all proposals are classified into one of three EIA categories (A,B, or C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creening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lso determines if an Environmental Audit i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required. If ‘yes’, the proposal is classified as Category 1, if ‘no’, it is classified as  Category 0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36600" y="693360"/>
            <a:ext cx="73152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reening in 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he Espoo Convention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2720" y="2406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ll proposed activities listed in Appendix I to the Convention hav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o be screened for possibly significant, adverse transboundary impacts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General guidance for determining the significance adverse transboundary impacts is provided in Appendix III to the Conven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 addition, concerned parties may discuss whether other activitie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not listed in Appendix I to the Convention are likely to cause significant adverse transboundary impacts and are thus subject to transboundary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36240" y="687240"/>
            <a:ext cx="7512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Recommended elements for effective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screening in SEE countri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1440" y="2413080"/>
            <a:ext cx="732780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andatory application of EIA should be based on the list established in Annex I of the EC EIA Directiv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Discretionary application of EIA should be based on the list established in Annex II of the EC Directive. For these projects, case-by-case screening should be applied, based on criteria defined in Annex III to the EC Directive. This will enable the fulfilment of EBRD and World Bank screening requirement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ll projects that require EIA should be immediately screened for potential transboundary impacts, based on the criteria established in Appendix III to the Espoo Conven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8824" t="25000" r="7842" b="25759"/>
          <a:stretch/>
        </p:blipFill>
        <p:spPr>
          <a:xfrm>
            <a:off x="838080" y="914400"/>
            <a:ext cx="6477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6600" y="691920"/>
            <a:ext cx="7207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What is screen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8840" y="2413080"/>
            <a:ext cx="612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screening process determines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whether or not EIA is required for a particular project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what level of EIA is require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0120" y="691920"/>
            <a:ext cx="7290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Screening outcom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4960" y="2409840"/>
            <a:ext cx="6629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Full or comprehensive EIA requir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Limited EIA requir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No EIA requir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25160" y="73656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Screening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o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o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l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360" y="2409840"/>
            <a:ext cx="662940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Project lists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nclusive — listed projects must undergo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xclusive — listed projects exempted from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ase-by-case examinations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etermine whether projects may have significant environmental effect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f so, project should undergo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mbination of abov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8840" y="6858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A framework for screen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74840" y="1447920"/>
            <a:ext cx="819288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rot="16200000">
            <a:off x="954720" y="3165120"/>
            <a:ext cx="18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ing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280" y="660240"/>
            <a:ext cx="7147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reening in accordance with </a:t>
            </a:r>
            <a:br>
              <a:rPr sz="2800"/>
            </a:b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the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EC EIA Directiv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0560" y="2413080"/>
            <a:ext cx="72090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Mandatory application: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Annex I to the EC EIA Directive lists projects for which an EIA is always requir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Discretionary application: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Projects listed in Annex II require screening by case-by-case examination or by reference to thresholds criteria that are established by the member state.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  <a:ea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oing so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,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e following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criteria listed in Annex III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need to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be taken into accoun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project characteristics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project location; an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characteristics of potential env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ronmental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Arial"/>
              </a:rPr>
              <a:t>impacts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creening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result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of Annex II project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ust be made available to the public. (Art. 2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7760" y="7318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‘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Traffic Light’ approach to screening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(an example of applying the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C EIA Directive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8030" t="9244" r="6477" b="14135"/>
          <a:stretch/>
        </p:blipFill>
        <p:spPr>
          <a:xfrm>
            <a:off x="304920" y="1981080"/>
            <a:ext cx="838188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7760" y="7300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reening 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in accordance with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C Guidance on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Screen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20680" y="1473120"/>
            <a:ext cx="87012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30:36Z</dcterms:modified>
  <cp:revision>415</cp:revision>
  <dc:subject/>
  <dc:title>No Slide Title</dc:title>
</cp:coreProperties>
</file>