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06960"/>
            <a:ext cx="9144000" cy="85104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886200" y="1143000"/>
            <a:ext cx="1143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1B95-EB28-437D-AEBD-F64599411071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58128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Bold"/>
              </a:rPr>
              <a:t>PERFSHIRJA E PUBLIK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01520"/>
            <a:ext cx="5410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286680"/>
            <a:ext cx="5029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MANUAL BURIMOR PER TRAJNIM MBI VNM-n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ER EVROPEN JUGLINDOR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845480" y="131760"/>
            <a:ext cx="993600" cy="93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5257800"/>
            <a:ext cx="1066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73080"/>
            <a:ext cx="5715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728028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84880" y="6167520"/>
            <a:ext cx="167616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838760" y="471708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P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ë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rfshirja e publik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4880" y="1419120"/>
            <a:ext cx="384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 TRAINIM MBI VN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3080" y="660240"/>
            <a:ext cx="7162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Arsyet më të shpeshta të përdorura për të shmangur përfshirjen e publiku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9800" y="2463840"/>
            <a:ext cx="3949920" cy="19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cesi është ende në një fazë shumë të hershm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të na kushtojë shumë kohë dhe shumë par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të nxisë kundërshtim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4" name=""/>
          <p:cNvSpPr/>
          <p:nvPr/>
        </p:nvSpPr>
        <p:spPr>
          <a:xfrm>
            <a:off x="4955760" y="2449440"/>
            <a:ext cx="3078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ebati do të jetë i njëanshë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 të rritë shumë pritshmërin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jerëzit nuk do të kuptojn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8320" y="2362320"/>
            <a:ext cx="0" cy="13716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9200" y="666720"/>
            <a:ext cx="8261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ërfshirja e publikut në VNM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ispozitat kryesore sipas Konventës së Aarhusi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84582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pozitat e Konventës së Aarhusit janë paraqitur, tashmë, plotësisht në Direktivën e BEsë për VNMn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ë bashku me amendamentet e miratuara m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i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ë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2003/35/EC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48840" y="660240"/>
            <a:ext cx="7969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onventa e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Aarhu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t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caktimi i publikut dhe publikut të interesuar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2451240"/>
            <a:ext cx="8381880" cy="318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“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ubliku” 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2.4)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ënkupton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:</a:t>
            </a:r>
            <a:br>
              <a:rPr sz="1600"/>
            </a:b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jë ose më shumë persona fizikë ose juridikë; dhe,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5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ë përputhje me legjislacionin ose praktikën kombëtare, shoqatat, organizatat ose grupimet e tyr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“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Publiku i interesuar” (Neni. 2.5</a:t>
            </a:r>
            <a:r>
              <a:rPr b="0" lang="cs-CZ" sz="1600" spc="-1" strike="noStrike">
                <a:solidFill>
                  <a:srgbClr val="800000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800000"/>
                </a:solidFill>
                <a:latin typeface="Arial"/>
              </a:rPr>
              <a:t>nënkupton</a:t>
            </a:r>
            <a:r>
              <a:rPr b="0" lang="en-GB" sz="1600" spc="-1" strike="noStrike">
                <a:solidFill>
                  <a:srgbClr val="800000"/>
                </a:solidFill>
                <a:latin typeface="Arial"/>
                <a:ea typeface="Times New Roman"/>
              </a:rPr>
              <a:t>: </a:t>
            </a:r>
            <a:br>
              <a:rPr sz="1600"/>
            </a:br>
            <a:r>
              <a:rPr b="0" lang="en-GB" sz="1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ersonat e ndikuar ose që mund të ndikohen nga vendimmarrja lidhur me një çështje mjedisore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at që kanë interes nga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 lidhur me një çështje mjedisore; dhe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7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zatat joqeveritare që nxisin mbrojtjen e mjedisit dhe plotësojnë kerkesat e ligjit kombët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të cilat mendojnë se kanë interes lidhur me çështjen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9200" y="659880"/>
            <a:ext cx="8274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onventa e 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Aarhus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it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: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ërkesat kryesore për pjesëmarrjen e publiku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2450880"/>
            <a:ext cx="8458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-282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joftim i hershëm dhe në mënyre efektiv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së bashku me elementet e dokumentit njoftue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2.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fate kohore të arsyeshme për të nxitur një pjesëmarrje efektive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3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jesëmarrje publike e hershme, që kur të gjitha mundësitë janë të hapura dhe pjesëmarrja e publikut mund të kryhet në mënyre efekti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4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këmbimi lirë i informacionit që në momentin që ky informacion është i mundur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6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2960" indent="-282960">
              <a:lnSpc>
                <a:spcPct val="8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jesëmarrja e publikut e lejon publikun të paraqesë komentet në formë të shkruar, në mbledhjet publike ose përmes paraqitjes së kërkesës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yrtar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n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6.8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990720" y="1066680"/>
            <a:ext cx="7290720" cy="4749840"/>
            <a:chOff x="990720" y="1066680"/>
            <a:chExt cx="7290720" cy="474984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990720" y="1066680"/>
              <a:ext cx="6325920" cy="474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421600" y="3746520"/>
              <a:ext cx="28598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*Përfshirja e publikut duh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eçanërisht në këto faza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egjithatë publiku mund të përfshihet ed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ë secilën prej fazave të tjera tëprocesit të VNM-së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4506840" y="5130720"/>
              <a:ext cx="3265200" cy="266760"/>
              <a:chOff x="4506840" y="5130720"/>
              <a:chExt cx="3265200" cy="266760"/>
            </a:xfrm>
          </p:grpSpPr>
          <p:sp>
            <p:nvSpPr>
              <p:cNvPr id="106" name=""/>
              <p:cNvSpPr/>
              <p:nvPr/>
            </p:nvSpPr>
            <p:spPr>
              <a:xfrm>
                <a:off x="4506840" y="5130720"/>
                <a:ext cx="151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formacioni nga ky proce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506840" y="5244840"/>
                <a:ext cx="3265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ndihmon në procese më efektive të VNMsë në të ardhm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5575320" y="1689120"/>
              <a:ext cx="91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k duhet VNM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6040" y="2082600"/>
              <a:ext cx="10663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lerësimi paraprak mjedi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79480" y="507996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iratoh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68200" y="4572000"/>
              <a:ext cx="786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uk miratoh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282680" y="4064040"/>
              <a:ext cx="645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përgatit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83040" y="3593880"/>
              <a:ext cx="61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paraqit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966120" y="1120680"/>
              <a:ext cx="1018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ërcaktimi 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ojekt-propozim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598720" y="3441600"/>
              <a:ext cx="1529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9933"/>
                  </a:solidFill>
                  <a:latin typeface="Arial"/>
                  <a:ea typeface="Times New Roman"/>
                </a:rPr>
                <a:t>*Përfshirja e publik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155840" y="1625400"/>
              <a:ext cx="6667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ërzgjedh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ër V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74640" y="2108160"/>
              <a:ext cx="971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ërcaktimi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përmbajtj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27480" y="2679480"/>
              <a:ext cx="1024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aliza e ndikime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26120" y="3066840"/>
              <a:ext cx="85572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but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he menaxhim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 ndikime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1040" y="3625920"/>
              <a:ext cx="919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porti i VNMsë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79840" y="407016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shikim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47720" y="4584600"/>
              <a:ext cx="78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endimmarrj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17920" y="5486400"/>
              <a:ext cx="6591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batimi dh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nitorimi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37600" y="5524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3440" y="1701720"/>
              <a:ext cx="91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ërkohet VN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31280" y="717120"/>
            <a:ext cx="741708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Objektivat kryesore të përfshirjes së publiku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441160"/>
            <a:ext cx="381024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rr në konsideratë pikëpamjet dhe shqetësimet e subjekteve kryesor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guron se ndikimet negative më të rëndësishme nuk mbivlerësohen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vogëlon konfliktet që në fazat e para të shfaqjes së çështjeve të debatueshme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"/>
          <p:cNvSpPr/>
          <p:nvPr/>
        </p:nvSpPr>
        <p:spPr>
          <a:xfrm>
            <a:off x="4870440" y="2451240"/>
            <a:ext cx="380988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mirëson transparencën dhe rrit besimin e publikut në procesin e VNMs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rr sugjerimet e komunitetit në gjetjen e alternativave dhe masave për zbutjen e ndikimeve negati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2514600"/>
            <a:ext cx="0" cy="18288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3000" y="6340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57200" y="816120"/>
            <a:ext cx="6858000" cy="54324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1640" y="736200"/>
            <a:ext cx="5664240" cy="4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Nivelet e përfshirjes së publikut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816440"/>
            <a:ext cx="350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munikim i njëanshëm me ata që ndikohen nga aktiviteti i parashiku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105520" y="37339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jë mënyrë e dyanshme e shkëmbimit të informacionit për t’u njohur me pikëpamjet e subjekteve të ndryshme rreth aktivitetit në fjalë dhe ndikimeve të tij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5680" y="2638440"/>
            <a:ext cx="4343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jë proces aktiv i përfshirjes së publikut për trajtimin e çështjeve, gjetjen e fushave të mirëkuptimit dhe njohjen e atyre ku ka mosmarrëveshje, duke synuar në arritjen e një qëndrimi të përbashkë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1327320"/>
            <a:ext cx="4953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jë mekanizën alternativ për zgjidhjen e konfliktit i bazuar në gjetjen e përbashkët të fakteve, ndërtimin e konsensusit dhe respektimin e interesave të ndryshme në zgjidhjen e problemi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53960" y="4689360"/>
            <a:ext cx="15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353040" y="3699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onsult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30240" y="28335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jesëmarr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9080" y="118440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gocim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7760" y="717480"/>
            <a:ext cx="48452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Arial"/>
              </a:rPr>
              <a:t>Kush janë pjesëmarrësit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448000"/>
            <a:ext cx="3809880" cy="16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undërshtarët dhe përfituesit nga projekti i parashiku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cionet qeveritare përgjegjëse ose politikëbërëse lidhur me atë proj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2448000"/>
            <a:ext cx="3962520" cy="19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a që ndikohen drejtpërsëdrejti ose tërthorazi nga projekti i propozu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a që janë të interesuar për aktivitetin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 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Ft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ktori privat, kërkuesit shkencorë, etj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2362320"/>
            <a:ext cx="0" cy="16761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1640" y="717120"/>
            <a:ext cx="7391520" cy="3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Parimet e përfshirjes së publiku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37339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Procesi duhet të jetë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"/>
          <p:cNvSpPr/>
          <p:nvPr/>
        </p:nvSpPr>
        <p:spPr>
          <a:xfrm>
            <a:off x="4870440" y="2444760"/>
            <a:ext cx="3809880" cy="23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ndershëm – (i zbatuar me paanshmëri dhe pa favorizime ndaj aktorëve të caktu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përgjegjshëm ndaj kërkesave dhe kontributit të aktorëve të interesu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0520" indent="-2905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besueshëm – (të  ngjallë besim dhe shpresë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2457360"/>
            <a:ext cx="3810240" cy="20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fshirës – (të mbulojë të gjithë aktorët e interesu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 hapur dhe transparent – (të kuptohen hapat dhe veprim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69880" indent="-27792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omethënës – (i përqëndruar në çështjet që kanë rëndës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2362320"/>
            <a:ext cx="0" cy="22860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19520" y="1828800"/>
            <a:ext cx="6019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Garantimi se jane përcaktuar çështjet më kryesore; është grumbulluar inf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Times New Roman"/>
              </a:rPr>
              <a:t>-macioni rreth projektit, janë marrë në konsideratë alternativat e ndryshm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17640" y="236232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hmangia e pasaktësive dhe dyshimeve gjatë analizës; përcaktimi i vlerave dhe parapëlqimeve të komunitetit; ndihmesë në përcaktimin e masave zbutëse; përzgjedhja e alternativës më të mir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13040" y="4273560"/>
            <a:ext cx="582948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  <a:ea typeface="Times New Roman"/>
              </a:rPr>
              <a:t>Marrja parasysh dhe bërja e komenteve për raportin e VNMs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06560" y="5389560"/>
            <a:ext cx="502920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 dhe zbatimi i rekomandimeve dhe kushteve të vendimit për raportin e VNMsë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819520" y="1352520"/>
            <a:ext cx="5410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Konsultimi i njerëzve që mund të ndikohen nga projekti i propozu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43080" y="65736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Times New Roman"/>
              </a:rPr>
              <a:t>Përfshirja e publikut në fazat kryesore të VNMs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327320" y="1278000"/>
            <a:ext cx="1011240" cy="363600"/>
            <a:chOff x="1327320" y="1278000"/>
            <a:chExt cx="1011240" cy="363600"/>
          </a:xfrm>
        </p:grpSpPr>
        <p:sp>
          <p:nvSpPr>
            <p:cNvPr id="157" name=""/>
            <p:cNvSpPr/>
            <p:nvPr/>
          </p:nvSpPr>
          <p:spPr>
            <a:xfrm>
              <a:off x="1327320" y="12780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32000" y="1282680"/>
              <a:ext cx="988920" cy="3319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444680" y="1325520"/>
            <a:ext cx="70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 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327320" y="1870200"/>
            <a:ext cx="1011240" cy="360360"/>
            <a:chOff x="1327320" y="1870200"/>
            <a:chExt cx="1011240" cy="360360"/>
          </a:xfrm>
        </p:grpSpPr>
        <p:sp>
          <p:nvSpPr>
            <p:cNvPr id="161" name=""/>
            <p:cNvSpPr/>
            <p:nvPr/>
          </p:nvSpPr>
          <p:spPr>
            <a:xfrm>
              <a:off x="1327320" y="1876320"/>
              <a:ext cx="1011240" cy="3542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32000" y="1870200"/>
              <a:ext cx="988920" cy="342720"/>
            </a:xfrm>
            <a:prstGeom prst="rect">
              <a:avLst/>
            </a:prstGeom>
            <a:solidFill>
              <a:srgbClr val="ff9c69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483560" y="1905120"/>
            <a:ext cx="653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i përmbajtj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327320" y="2465280"/>
            <a:ext cx="1011240" cy="352440"/>
            <a:chOff x="1327320" y="2465280"/>
            <a:chExt cx="1011240" cy="352440"/>
          </a:xfrm>
        </p:grpSpPr>
        <p:sp>
          <p:nvSpPr>
            <p:cNvPr id="165" name=""/>
            <p:cNvSpPr/>
            <p:nvPr/>
          </p:nvSpPr>
          <p:spPr>
            <a:xfrm>
              <a:off x="1327320" y="246528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32000" y="247032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460520" y="2517840"/>
            <a:ext cx="76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e 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dikim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327320" y="3052800"/>
            <a:ext cx="1011240" cy="363600"/>
            <a:chOff x="1327320" y="3052800"/>
            <a:chExt cx="1011240" cy="363600"/>
          </a:xfrm>
        </p:grpSpPr>
        <p:sp>
          <p:nvSpPr>
            <p:cNvPr id="169" name=""/>
            <p:cNvSpPr/>
            <p:nvPr/>
          </p:nvSpPr>
          <p:spPr>
            <a:xfrm>
              <a:off x="1327320" y="3052800"/>
              <a:ext cx="1011240" cy="3636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32000" y="3057480"/>
              <a:ext cx="988920" cy="3301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1147680" y="3048120"/>
            <a:ext cx="1138320" cy="463320"/>
            <a:chOff x="1147680" y="3048120"/>
            <a:chExt cx="1138320" cy="463320"/>
          </a:xfrm>
        </p:grpSpPr>
        <p:sp>
          <p:nvSpPr>
            <p:cNvPr id="172" name=""/>
            <p:cNvSpPr/>
            <p:nvPr/>
          </p:nvSpPr>
          <p:spPr>
            <a:xfrm>
              <a:off x="1384560" y="3048120"/>
              <a:ext cx="90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butja dhe mena-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xhimi i ndikimev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206360" y="31431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7680" y="3236760"/>
              <a:ext cx="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327320" y="3645000"/>
            <a:ext cx="1011240" cy="358560"/>
            <a:chOff x="1327320" y="3645000"/>
            <a:chExt cx="1011240" cy="358560"/>
          </a:xfrm>
        </p:grpSpPr>
        <p:sp>
          <p:nvSpPr>
            <p:cNvPr id="176" name=""/>
            <p:cNvSpPr/>
            <p:nvPr/>
          </p:nvSpPr>
          <p:spPr>
            <a:xfrm>
              <a:off x="1327320" y="365112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32000" y="3645000"/>
              <a:ext cx="988920" cy="3427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1216080" y="3763800"/>
            <a:ext cx="1053000" cy="274320"/>
            <a:chOff x="1216080" y="3763800"/>
            <a:chExt cx="1053000" cy="274320"/>
          </a:xfrm>
        </p:grpSpPr>
        <p:sp>
          <p:nvSpPr>
            <p:cNvPr id="179" name=""/>
            <p:cNvSpPr/>
            <p:nvPr/>
          </p:nvSpPr>
          <p:spPr>
            <a:xfrm>
              <a:off x="1216080" y="376380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01120" y="3763800"/>
              <a:ext cx="86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aporti i VNMsë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27320" y="4238640"/>
            <a:ext cx="1011240" cy="353880"/>
            <a:chOff x="1327320" y="4238640"/>
            <a:chExt cx="1011240" cy="353880"/>
          </a:xfrm>
        </p:grpSpPr>
        <p:grpSp>
          <p:nvGrpSpPr>
            <p:cNvPr id="182" name=""/>
            <p:cNvGrpSpPr/>
            <p:nvPr/>
          </p:nvGrpSpPr>
          <p:grpSpPr>
            <a:xfrm>
              <a:off x="1327320" y="4238640"/>
              <a:ext cx="1011240" cy="353880"/>
              <a:chOff x="1327320" y="4238640"/>
              <a:chExt cx="1011240" cy="353880"/>
            </a:xfrm>
          </p:grpSpPr>
          <p:sp>
            <p:nvSpPr>
              <p:cNvPr id="183" name=""/>
              <p:cNvSpPr/>
              <p:nvPr/>
            </p:nvSpPr>
            <p:spPr>
              <a:xfrm>
                <a:off x="1327320" y="4238640"/>
                <a:ext cx="1011240" cy="35388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332000" y="4243320"/>
                <a:ext cx="988920" cy="331920"/>
              </a:xfrm>
              <a:prstGeom prst="rect">
                <a:avLst/>
              </a:prstGeom>
              <a:solidFill>
                <a:srgbClr val="ff9c69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1607760" y="4286160"/>
              <a:ext cx="46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shikim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327320" y="4827600"/>
            <a:ext cx="1011240" cy="363600"/>
            <a:chOff x="1327320" y="4827600"/>
            <a:chExt cx="1011240" cy="363600"/>
          </a:xfrm>
        </p:grpSpPr>
        <p:grpSp>
          <p:nvGrpSpPr>
            <p:cNvPr id="187" name=""/>
            <p:cNvGrpSpPr/>
            <p:nvPr/>
          </p:nvGrpSpPr>
          <p:grpSpPr>
            <a:xfrm>
              <a:off x="1327320" y="4827600"/>
              <a:ext cx="1011240" cy="363600"/>
              <a:chOff x="1327320" y="4827600"/>
              <a:chExt cx="1011240" cy="363600"/>
            </a:xfrm>
          </p:grpSpPr>
          <p:sp>
            <p:nvSpPr>
              <p:cNvPr id="188" name=""/>
              <p:cNvSpPr/>
              <p:nvPr/>
            </p:nvSpPr>
            <p:spPr>
              <a:xfrm>
                <a:off x="1327320" y="4827600"/>
                <a:ext cx="1011240" cy="363600"/>
              </a:xfrm>
              <a:prstGeom prst="rect">
                <a:avLst/>
              </a:pr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332000" y="4832280"/>
                <a:ext cx="988920" cy="330120"/>
              </a:xfrm>
              <a:prstGeom prst="rect">
                <a:avLst/>
              </a:prstGeom>
              <a:solidFill>
                <a:srgbClr val="dee4e0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1373400" y="4886280"/>
              <a:ext cx="713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endimmarrj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327320" y="5419800"/>
            <a:ext cx="1011240" cy="358560"/>
            <a:chOff x="1327320" y="5419800"/>
            <a:chExt cx="1011240" cy="358560"/>
          </a:xfrm>
        </p:grpSpPr>
        <p:sp>
          <p:nvSpPr>
            <p:cNvPr id="192" name=""/>
            <p:cNvSpPr/>
            <p:nvPr/>
          </p:nvSpPr>
          <p:spPr>
            <a:xfrm>
              <a:off x="1327320" y="5425920"/>
              <a:ext cx="1011240" cy="3524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32000" y="5419800"/>
              <a:ext cx="988920" cy="342720"/>
            </a:xfrm>
            <a:prstGeom prst="rect">
              <a:avLst/>
            </a:prstGeom>
            <a:solidFill>
              <a:srgbClr val="dee4e0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1521720" y="5486400"/>
            <a:ext cx="633240" cy="368280"/>
            <a:chOff x="1521720" y="5486400"/>
            <a:chExt cx="633240" cy="368280"/>
          </a:xfrm>
        </p:grpSpPr>
        <p:sp>
          <p:nvSpPr>
            <p:cNvPr id="195" name=""/>
            <p:cNvSpPr/>
            <p:nvPr/>
          </p:nvSpPr>
          <p:spPr>
            <a:xfrm>
              <a:off x="1521720" y="548640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batimi dh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onitorim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535040" y="5580360"/>
              <a:ext cx="1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703520" y="1606680"/>
            <a:ext cx="247680" cy="25848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03520" y="2206800"/>
            <a:ext cx="247680" cy="24588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96"/>
                </a:moveTo>
                <a:lnTo>
                  <a:pt x="0" y="96"/>
                </a:lnTo>
                <a:lnTo>
                  <a:pt x="37" y="126"/>
                </a:lnTo>
                <a:lnTo>
                  <a:pt x="82" y="155"/>
                </a:lnTo>
                <a:lnTo>
                  <a:pt x="82" y="155"/>
                </a:lnTo>
                <a:lnTo>
                  <a:pt x="119" y="126"/>
                </a:lnTo>
                <a:lnTo>
                  <a:pt x="156" y="96"/>
                </a:lnTo>
                <a:lnTo>
                  <a:pt x="156" y="96"/>
                </a:lnTo>
                <a:lnTo>
                  <a:pt x="133" y="96"/>
                </a:lnTo>
                <a:lnTo>
                  <a:pt x="119" y="96"/>
                </a:lnTo>
                <a:lnTo>
                  <a:pt x="119" y="96"/>
                </a:lnTo>
                <a:lnTo>
                  <a:pt x="119" y="44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44"/>
                </a:lnTo>
                <a:lnTo>
                  <a:pt x="45" y="96"/>
                </a:lnTo>
                <a:lnTo>
                  <a:pt x="45" y="96"/>
                </a:lnTo>
                <a:lnTo>
                  <a:pt x="22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03520" y="2793960"/>
            <a:ext cx="247680" cy="25884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703520" y="3381480"/>
            <a:ext cx="247680" cy="258480"/>
          </a:xfrm>
          <a:custGeom>
            <a:avLst/>
            <a:gdLst/>
            <a:ahLst/>
            <a:rect l="l" t="t" r="r" b="b"/>
            <a:pathLst>
              <a:path w="156" h="163">
                <a:moveTo>
                  <a:pt x="0" y="104"/>
                </a:moveTo>
                <a:lnTo>
                  <a:pt x="0" y="104"/>
                </a:lnTo>
                <a:lnTo>
                  <a:pt x="37" y="133"/>
                </a:lnTo>
                <a:lnTo>
                  <a:pt x="82" y="163"/>
                </a:lnTo>
                <a:lnTo>
                  <a:pt x="82" y="163"/>
                </a:lnTo>
                <a:lnTo>
                  <a:pt x="119" y="133"/>
                </a:lnTo>
                <a:lnTo>
                  <a:pt x="156" y="104"/>
                </a:lnTo>
                <a:lnTo>
                  <a:pt x="156" y="104"/>
                </a:lnTo>
                <a:lnTo>
                  <a:pt x="133" y="104"/>
                </a:lnTo>
                <a:lnTo>
                  <a:pt x="119" y="104"/>
                </a:lnTo>
                <a:lnTo>
                  <a:pt x="119" y="104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4"/>
                </a:lnTo>
                <a:lnTo>
                  <a:pt x="45" y="104"/>
                </a:lnTo>
                <a:lnTo>
                  <a:pt x="22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lnTo>
                  <a:pt x="0" y="104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03520" y="3981600"/>
            <a:ext cx="247680" cy="257040"/>
          </a:xfrm>
          <a:custGeom>
            <a:avLst/>
            <a:gdLst/>
            <a:ahLst/>
            <a:rect l="l" t="t" r="r" b="b"/>
            <a:pathLst>
              <a:path w="156" h="162">
                <a:moveTo>
                  <a:pt x="0" y="103"/>
                </a:moveTo>
                <a:lnTo>
                  <a:pt x="0" y="103"/>
                </a:lnTo>
                <a:lnTo>
                  <a:pt x="37" y="133"/>
                </a:lnTo>
                <a:lnTo>
                  <a:pt x="82" y="162"/>
                </a:lnTo>
                <a:lnTo>
                  <a:pt x="82" y="162"/>
                </a:lnTo>
                <a:lnTo>
                  <a:pt x="119" y="133"/>
                </a:lnTo>
                <a:lnTo>
                  <a:pt x="156" y="103"/>
                </a:lnTo>
                <a:lnTo>
                  <a:pt x="156" y="103"/>
                </a:lnTo>
                <a:lnTo>
                  <a:pt x="133" y="103"/>
                </a:lnTo>
                <a:lnTo>
                  <a:pt x="119" y="103"/>
                </a:lnTo>
                <a:lnTo>
                  <a:pt x="119" y="103"/>
                </a:lnTo>
                <a:lnTo>
                  <a:pt x="119" y="51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1"/>
                </a:lnTo>
                <a:lnTo>
                  <a:pt x="45" y="103"/>
                </a:lnTo>
                <a:lnTo>
                  <a:pt x="45" y="103"/>
                </a:lnTo>
                <a:lnTo>
                  <a:pt x="22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03520" y="4568760"/>
            <a:ext cx="247680" cy="246240"/>
          </a:xfrm>
          <a:custGeom>
            <a:avLst/>
            <a:gdLst/>
            <a:ahLst/>
            <a:rect l="l" t="t" r="r" b="b"/>
            <a:pathLst>
              <a:path w="156" h="155">
                <a:moveTo>
                  <a:pt x="0" y="103"/>
                </a:moveTo>
                <a:lnTo>
                  <a:pt x="0" y="103"/>
                </a:lnTo>
                <a:lnTo>
                  <a:pt x="37" y="126"/>
                </a:lnTo>
                <a:lnTo>
                  <a:pt x="82" y="155"/>
                </a:lnTo>
                <a:lnTo>
                  <a:pt x="82" y="155"/>
                </a:lnTo>
                <a:lnTo>
                  <a:pt x="119" y="126"/>
                </a:lnTo>
                <a:lnTo>
                  <a:pt x="156" y="103"/>
                </a:lnTo>
                <a:lnTo>
                  <a:pt x="156" y="103"/>
                </a:lnTo>
                <a:lnTo>
                  <a:pt x="133" y="103"/>
                </a:lnTo>
                <a:lnTo>
                  <a:pt x="119" y="103"/>
                </a:lnTo>
                <a:lnTo>
                  <a:pt x="119" y="103"/>
                </a:lnTo>
                <a:lnTo>
                  <a:pt x="119" y="52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52"/>
                </a:lnTo>
                <a:lnTo>
                  <a:pt x="45" y="103"/>
                </a:lnTo>
                <a:lnTo>
                  <a:pt x="45" y="103"/>
                </a:lnTo>
                <a:lnTo>
                  <a:pt x="22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lnTo>
                  <a:pt x="0" y="103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03520" y="5167440"/>
            <a:ext cx="247680" cy="24768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0" y="96"/>
                </a:moveTo>
                <a:lnTo>
                  <a:pt x="0" y="96"/>
                </a:lnTo>
                <a:lnTo>
                  <a:pt x="37" y="126"/>
                </a:lnTo>
                <a:lnTo>
                  <a:pt x="82" y="156"/>
                </a:lnTo>
                <a:lnTo>
                  <a:pt x="82" y="156"/>
                </a:lnTo>
                <a:lnTo>
                  <a:pt x="119" y="126"/>
                </a:lnTo>
                <a:lnTo>
                  <a:pt x="156" y="96"/>
                </a:lnTo>
                <a:lnTo>
                  <a:pt x="156" y="96"/>
                </a:lnTo>
                <a:lnTo>
                  <a:pt x="133" y="96"/>
                </a:lnTo>
                <a:lnTo>
                  <a:pt x="119" y="96"/>
                </a:lnTo>
                <a:lnTo>
                  <a:pt x="119" y="96"/>
                </a:lnTo>
                <a:lnTo>
                  <a:pt x="119" y="45"/>
                </a:lnTo>
                <a:lnTo>
                  <a:pt x="119" y="0"/>
                </a:lnTo>
                <a:lnTo>
                  <a:pt x="119" y="0"/>
                </a:lnTo>
                <a:lnTo>
                  <a:pt x="82" y="0"/>
                </a:lnTo>
                <a:lnTo>
                  <a:pt x="45" y="0"/>
                </a:lnTo>
                <a:lnTo>
                  <a:pt x="45" y="0"/>
                </a:lnTo>
                <a:lnTo>
                  <a:pt x="45" y="45"/>
                </a:lnTo>
                <a:lnTo>
                  <a:pt x="45" y="96"/>
                </a:lnTo>
                <a:lnTo>
                  <a:pt x="45" y="96"/>
                </a:lnTo>
                <a:lnTo>
                  <a:pt x="22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lnTo>
                  <a:pt x="0" y="96"/>
                </a:lnTo>
                <a:close/>
              </a:path>
            </a:pathLst>
          </a:custGeom>
          <a:solidFill>
            <a:srgbClr val="7faf9f"/>
          </a:solidFill>
          <a:ln w="1116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1640" y="717120"/>
            <a:ext cx="718848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Zhvillimi i një programi për përfshirjen e publiku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61800" y="2452320"/>
            <a:ext cx="4057920" cy="23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imi i çështjeve kryesore për t’u diskutua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imi i publikut të ndikuar dhe interes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zgjedhja e teknikav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ë duhur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uke mbajtur në konsideratë buxhetet dhe afatet kohor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6" name=""/>
          <p:cNvSpPr/>
          <p:nvPr/>
        </p:nvSpPr>
        <p:spPr>
          <a:xfrm>
            <a:off x="4937040" y="2444760"/>
            <a:ext cx="390204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n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zimi i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urimeve të nevojshme.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xitja e shkëmbimit të mendimeve për të rritur bashkëpunimin dhe besimi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724280" y="2362320"/>
            <a:ext cx="0" cy="137160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666360"/>
            <a:ext cx="6514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Parimet e zbatimit të suksesshëm të </a:t>
            </a:r>
            <a:br>
              <a:rPr sz="2800"/>
            </a:b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teknikave të përfshirjes së publiku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383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epni informacionin e duhur në kohën e duhu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Jepni kohën e mjaftueshme për të rishikuar dokumentacionin dhe për t’u përgjigju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2448000"/>
            <a:ext cx="3962160" cy="24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rijoni mundësitë dhe jepni mjetet e duhura për përfshirjen e aktorëve të ndryshë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25000"/>
              </a:lnSpc>
              <a:spcBef>
                <a:spcPts val="1375"/>
              </a:spcBef>
              <a:spcAft>
                <a:spcPts val="337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zgjidhni vendet dhe kohën e duhur që veprimtaritë e planifikuara t’i përshtaten mundësive të aktorëve të ndryshë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2362320"/>
            <a:ext cx="0" cy="259056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19:42Z</dcterms:modified>
  <cp:revision>428</cp:revision>
  <dc:subject/>
  <dc:title>No Slide Title</dc:title>
</cp:coreProperties>
</file>